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C0B6-6D5D-4D93-A3BF-3102E7260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B2D1-14E0-4EA0-87E7-B463BB9F5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378C-DB2C-43DD-B2CA-107A72891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9826-D9FF-4F0C-B02B-E03CB8CCC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9BD8C-81BC-41A7-957C-7046D480D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EDC08-0ACE-4561-85F1-E666BAA5B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9BE6B-8FA9-416A-8E3F-824689DC9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31E16-5886-4E93-BE37-A5258304F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C45C9-9722-4A80-AEAD-708B4DE48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66716-9EC7-4CB5-B39A-F8E20AD3D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2D955-7605-481D-A5F9-A64294907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26BB-5EC1-4738-BF9E-DBEF505C1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78023-F59A-4DC9-AD4B-248A4F41B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D5E91-7993-4212-B2F7-A468204FC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8FA61-8813-4456-91C5-5E99D6A6E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BB343-B43A-4BF1-8A97-594F02A86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FE6EA-A849-4F7C-9493-848AD9ACB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58A4-06CF-4AC6-9642-29EAD5125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0527-7EE6-483B-9BFD-5BC33E7A0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4C60-7ABE-43BC-B076-5F2C98CB4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E704-8B0B-4921-9677-2F0030804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834F-6BAD-4D69-8624-EA824739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A6D6-E3DE-40DF-B1F4-78FB495FC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4789-DBB7-444A-A689-8A65F418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697E8-BBFD-4624-9AFD-B39159369BD9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78379-67BE-4A7A-BD0D-1A67495E501D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198108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4c2b"/>
                </a:solidFill>
                <a:latin typeface="Times New Roman"/>
              </a:rPr>
              <a:t>Проект по теме: «Односоставные предложения»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657240" y="47242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Ученицы 8Б Мухаметовой Асель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4c2b"/>
                </a:solidFill>
                <a:latin typeface="Times New Roman"/>
              </a:rPr>
              <a:t>Разные виды односоставных предложений в тексте Н.М. Карамзина «Бедная Лиза»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333333"/>
                </a:solidFill>
                <a:latin typeface="Times New Roman"/>
              </a:rPr>
              <a:t>«Всякий день, всякий час буду о том молиться. Ах, для чего не умею ни читать, ни писать!»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333333"/>
                </a:solidFill>
                <a:latin typeface="Times New Roman"/>
              </a:rPr>
              <a:t>«Думай о приятной минуте»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333333"/>
                </a:solidFill>
                <a:latin typeface="Times New Roman"/>
              </a:rPr>
              <a:t>«Расставшись с тобой, разве тогда перестану плакать, когда высохнет сердце мое»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333333"/>
                </a:solidFill>
                <a:latin typeface="Times New Roman"/>
              </a:rPr>
              <a:t>«С ним жить, с ним умереть хочу или смертию своею спасти его драгоценную жизнь»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333333"/>
                </a:solidFill>
                <a:latin typeface="Times New Roman"/>
              </a:rPr>
              <a:t>«Ах, для чего пишу не роман, а печальную быль»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333333"/>
                </a:solidFill>
                <a:latin typeface="Times New Roman"/>
              </a:rPr>
              <a:t>«Тут часто сижу в задумчивости»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5440" y="304920"/>
            <a:ext cx="807732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333333"/>
                </a:solidFill>
                <a:uFillTx/>
                <a:latin typeface="Times New Roman"/>
              </a:rPr>
              <a:t>Любовь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33"/>
                </a:solidFill>
                <a:latin typeface="Times New Roman"/>
              </a:rPr>
              <a:t>Иду…Солнечный день…Встретила его…Радостно…Приятно… Тепло…Влюбилась в него…Жду…Скучаю…Звонит… Слышу…Говорит…Люблю…Счастье…Любовь… Встретились…Подарил цветы…Гуляем…Звезды…Луна… Уверенность, что любит…</a:t>
            </a: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33"/>
                </a:solidFill>
                <a:latin typeface="Times New Roman"/>
              </a:rPr>
              <a:t>Встреча…Трепет…Страдание…Разлука…Надежда… Мучительные ожидания…Томление…Ничего не радует… Вдруг…Слышу голос…Радость…Долгожданная встреча… ЛЮБОВЬ!</a:t>
            </a: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333333"/>
                </a:solidFill>
                <a:uFillTx/>
                <a:latin typeface="Times New Roman"/>
              </a:rPr>
              <a:t>Предательство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33"/>
                </a:solidFill>
                <a:latin typeface="Times New Roman"/>
              </a:rPr>
              <a:t>Встретил другую…Уезжает…</a:t>
            </a: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33"/>
                </a:solidFill>
                <a:latin typeface="Times New Roman"/>
              </a:rPr>
              <a:t>Не увижу…Отчаяние…Горе…Слезы…Иду…Ночь…Тишина… Капли дождя…Ветер… Растерянность…Пустота… Вижу мост…Река…Смерть...</a:t>
            </a: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4c2b"/>
                </a:solidFill>
                <a:latin typeface="Times New Roman"/>
              </a:rPr>
              <a:t>Вывод: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Мы увидели, что односоставные предложения многообразны по своей структуре. В чем своеобразие односоставных предложений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Своеобразие, то есть оригинальность, отличие односоставных предложений, заключается в том, что односоставные предложения точны и лаконичны. Отсутствие второго главного члена в предложении указывает на то, что особенно важно для автора: действие или называние явлений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4c2b"/>
                </a:solidFill>
                <a:latin typeface="Times New Roman"/>
              </a:rPr>
              <a:t>Проблемный вопрос: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Какую роль играют односоставные предложения в художественном тексте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В чем своеобразие односоставных предложений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4c2b"/>
                </a:solidFill>
                <a:latin typeface="Times New Roman"/>
              </a:rPr>
              <a:t>Задачи: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обобщить материал по теме, увидеть своеобразие односоставных предложений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развить эстетический вкус, повысить культурный уровень через обращения к образцовым текстам художников слова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расширить представление о личности Н.М. Карамзина, его роли в развитии русского литературного языка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формировать умение строить устное высказывание в форме выступления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4c2b"/>
                </a:solidFill>
                <a:latin typeface="Times New Roman"/>
              </a:rPr>
              <a:t>Роль Н.М. Карамзина в развитии литературы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Друг Н.М. Карамзина Петр Вяземский писал в стихах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33"/>
                </a:solidFill>
                <a:latin typeface="Times New Roman"/>
              </a:rPr>
              <a:t>Язык наш был - кафтан тяжелый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33"/>
                </a:solidFill>
                <a:latin typeface="Times New Roman"/>
              </a:rPr>
              <a:t>И слишком пахнул стариной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33"/>
                </a:solidFill>
                <a:latin typeface="Times New Roman"/>
              </a:rPr>
              <a:t>Дал Карамзин покрой иной -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33"/>
                </a:solidFill>
                <a:latin typeface="Times New Roman"/>
              </a:rPr>
              <a:t>Пускай ворчат себе расколы,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33"/>
                </a:solidFill>
                <a:latin typeface="Times New Roman"/>
              </a:rPr>
              <a:t>Все приняли его покрой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6840" y="304920"/>
            <a:ext cx="838188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«Бедная Лиза» </a:t>
            </a: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- сентиментальная повесть. Как (с помощью каких предложений) Н.М. Карамзину удается выразительно, лаконично, точно указать на место действия, состояние души героев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С помощью назывных предложений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Примеры из повести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33"/>
                </a:solidFill>
                <a:latin typeface="Times New Roman"/>
              </a:rPr>
              <a:t>Вот ее мысли, ее чувства. Какая трогательная картина! Мечта!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Это назывные предложения, так как главный член - подлежащее, выраженное существительным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815328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3333"/>
                </a:solidFill>
                <a:latin typeface="Times New Roman"/>
              </a:rPr>
              <a:t>Определенно-личные предложения </a:t>
            </a:r>
            <a:r>
              <a:rPr b="0" lang="ru-RU" sz="3000" spc="-1" strike="noStrike">
                <a:solidFill>
                  <a:srgbClr val="333333"/>
                </a:solidFill>
                <a:latin typeface="Times New Roman"/>
              </a:rPr>
              <a:t>- односоставные предложения со сказуемым - глаголом в форме 1 или 2 лица. Подлежащее в таких предложениях не обязательно, так как окончания глаголов определенно указывают на лицо и число.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3333"/>
                </a:solidFill>
                <a:latin typeface="Times New Roman"/>
              </a:rPr>
              <a:t>Например: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333333"/>
                </a:solidFill>
                <a:latin typeface="Times New Roman"/>
              </a:rPr>
              <a:t>Всякое лето нахожу новые приятные места или в старых новые красоты. Иногда на вратах храма рассматриваю изображение чудес…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33"/>
                </a:solidFill>
                <a:latin typeface="Times New Roman"/>
              </a:rPr>
              <a:t>Это односоставные определенно-личные предложения, так как сказуемые выражены глаголами в форме первого лица.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Безличное предложение</a:t>
            </a: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 - это односоставное предложение со сказуемым, при котором нет и не может быть подлежащего. Сказуемое в безличном предложении может быть простым глагольным сказуемым, составным именным сказуемым или составным глагольным сказуемым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33"/>
                </a:solidFill>
                <a:latin typeface="Times New Roman"/>
              </a:rPr>
              <a:t>В тексте Н.М. Карамзина безличных предложений нет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304560"/>
            <a:ext cx="822960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33"/>
                </a:solidFill>
                <a:latin typeface="Times New Roman"/>
              </a:rPr>
              <a:t>Неопределенно-личные предложения</a:t>
            </a:r>
            <a:r>
              <a:rPr b="0" lang="ru-RU" sz="2600" spc="-1" strike="noStrike">
                <a:solidFill>
                  <a:srgbClr val="333333"/>
                </a:solidFill>
                <a:latin typeface="Times New Roman"/>
              </a:rPr>
              <a:t> - это односоставные предложения со сказуемым-глаголом в форме 3 лица множественного числа в настоящем и будущем времени и в форме множественного числа в прошедшем времени. В таких предложениях важно само действие, а не лица, которые его производят.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33"/>
                </a:solidFill>
                <a:latin typeface="Times New Roman"/>
              </a:rPr>
              <a:t>Пример: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333333"/>
                </a:solidFill>
                <a:latin typeface="Times New Roman"/>
              </a:rPr>
              <a:t>Таким образом скончала жизнь свою прекрасная душою и телом. Когда мы там, в новой жизни, увидимся, я узнаю тебя, нежная Лиза!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333333"/>
                </a:solidFill>
                <a:latin typeface="Times New Roman"/>
              </a:rPr>
              <a:t>Ее погребли близ пруда, под мрачным дубом. И поставили деревянный крест на ее могиле.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333333"/>
                </a:solidFill>
                <a:latin typeface="Times New Roman"/>
              </a:rPr>
              <a:t>Тут часто сижу в задумчивости. Надо мною шумят листья.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914400" y="2057400"/>
          <a:ext cx="7529400" cy="34322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2057400"/>
                    <a:ext cx="7529400" cy="34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4c2b"/>
                </a:solidFill>
                <a:latin typeface="Times New Roman"/>
              </a:rPr>
              <a:t>Таблица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07:36:45Z</dcterms:created>
  <dc:creator>Администратор</dc:creator>
  <dc:description/>
  <dc:language>en-US</dc:language>
  <cp:lastModifiedBy>Администратор</cp:lastModifiedBy>
  <dcterms:modified xsi:type="dcterms:W3CDTF">2009-03-24T04:09:23Z</dcterms:modified>
  <cp:revision>7</cp:revision>
  <dc:subject/>
  <dc:title>Проект по теме: «Односоставные предложения»</dc:title>
</cp:coreProperties>
</file>