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D809-214F-4AB1-8A1B-653719EAF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9A66-DB8C-4642-A36A-202B6F5BD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CEB5-7B98-4170-A0B7-D6A9A6EE3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D9CA-1DB2-4D9F-9A28-76423C810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6368A-15B6-4CE8-BF8B-4A0E21748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DFB74-2669-4C1D-AFDE-871FE112B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0AFEC-AFC6-4697-BF43-98B67179A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65884-6A89-4912-9D3C-2F9FD3D7B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DF1A8-2AF5-457C-AFD1-0067929BD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89D21-8AFB-42F2-AE91-A587A3D7F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BCB01-B6F5-413B-AB37-52044262D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25E8-0CDD-474B-91F9-22704C733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6EB09-84DF-4E80-81E1-391238BD8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2C7B7-6E2B-4003-8784-28BC42D6A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C7025-8B33-4940-907D-B0C2A876A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D5458-6554-4FC7-AF0B-79D97B47F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C4F5C-7A01-4BD7-B2BC-50AF25061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0A06-789C-4C16-B6AB-115F94212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D9C6-25A9-4CBA-8662-7BC1A9610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CDB9-F31F-4CFE-8029-270BD5929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36B9-0D36-4CE4-A86A-EB2210AAD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0FDE-9785-4E0D-BD57-CA6C578FF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E0ED-C11C-4C25-9B9C-36EDB380D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2701-F231-40DA-9210-3E51FBB0A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4A262-9037-46C7-8488-9448E732AF89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5AFAF-2FEA-499D-8A12-0D8C93372A15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198108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4c2b"/>
                </a:solidFill>
                <a:latin typeface="Times New Roman"/>
              </a:rPr>
              <a:t>Проект по теме: «Односоставные предложения»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657240" y="47242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Ученицы 8Б Мухаметовой Асель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4c2b"/>
                </a:solidFill>
                <a:latin typeface="Times New Roman"/>
              </a:rPr>
              <a:t>Разные виды односоставных предложений в тексте Н.М. Карамзина «Бедная Лиза»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333333"/>
                </a:solidFill>
                <a:latin typeface="Times New Roman"/>
              </a:rPr>
              <a:t>«Всякий день, всякий час буду о том молиться. Ах, для чего не умею ни читать, ни писать!»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333333"/>
                </a:solidFill>
                <a:latin typeface="Times New Roman"/>
              </a:rPr>
              <a:t>«Думай о приятной минуте»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333333"/>
                </a:solidFill>
                <a:latin typeface="Times New Roman"/>
              </a:rPr>
              <a:t>«Расставшись с тобой, разве тогда перестану плакать, когда высохнет сердце мое»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333333"/>
                </a:solidFill>
                <a:latin typeface="Times New Roman"/>
              </a:rPr>
              <a:t>«С ним жить, с ним умереть хочу или смертию своею спасти его драгоценную жизнь»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333333"/>
                </a:solidFill>
                <a:latin typeface="Times New Roman"/>
              </a:rPr>
              <a:t>«Ах, для чего пишу не роман, а печальную быль»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333333"/>
                </a:solidFill>
                <a:latin typeface="Times New Roman"/>
              </a:rPr>
              <a:t>«Тут часто сижу в задумчивости»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85440" y="304920"/>
            <a:ext cx="807732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333333"/>
                </a:solidFill>
                <a:uFillTx/>
                <a:latin typeface="Times New Roman"/>
              </a:rPr>
              <a:t>Любовь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33"/>
                </a:solidFill>
                <a:latin typeface="Times New Roman"/>
              </a:rPr>
              <a:t>Иду…Солнечный день…Встретила его…Радостно…Приятно… Тепло…Влюбилась в него…Жду…Скучаю…Звонит… Слышу…Говорит…Люблю…Счастье…Любовь… Встретились…Подарил цветы…Гуляем…Звезды…Луна… Уверенность, что любит…</a:t>
            </a:r>
            <a:endParaRPr b="0" lang="en-US" sz="2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33"/>
                </a:solidFill>
                <a:latin typeface="Times New Roman"/>
              </a:rPr>
              <a:t>Встреча…Трепет…Страдание…Разлука…Надежда… Мучительные ожидания…Томление…Ничего не радует… Вдруг…Слышу голос…Радость…Долгожданная встреча… ЛЮБОВЬ!</a:t>
            </a:r>
            <a:endParaRPr b="0" lang="en-US" sz="2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333333"/>
                </a:solidFill>
                <a:uFillTx/>
                <a:latin typeface="Times New Roman"/>
              </a:rPr>
              <a:t>Предательство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33"/>
                </a:solidFill>
                <a:latin typeface="Times New Roman"/>
              </a:rPr>
              <a:t>Встретил другую…Уезжает…</a:t>
            </a:r>
            <a:endParaRPr b="0" lang="en-US" sz="2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33"/>
                </a:solidFill>
                <a:latin typeface="Times New Roman"/>
              </a:rPr>
              <a:t>Не увижу…Отчаяние…Горе…Слезы…Иду…Ночь…Тишина… Капли дождя…Ветер… Растерянность…Пустота… Вижу мост…Река…Смерть...</a:t>
            </a:r>
            <a:endParaRPr b="0" lang="en-US" sz="2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4c2b"/>
                </a:solidFill>
                <a:latin typeface="Times New Roman"/>
              </a:rPr>
              <a:t>Вывод: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Мы увидели, что односоставные предложения многообразны по своей структуре. В чем своеобразие односоставных предложений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Своеобразие, то есть оригинальность, отличие односоставных предложений, заключается в том, что односоставные предложения точны и лаконичны. Отсутствие второго главного члена в предложении указывает на то, что особенно важно для автора: действие или называние явлений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4c2b"/>
                </a:solidFill>
                <a:latin typeface="Times New Roman"/>
              </a:rPr>
              <a:t>Проблемный вопрос: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Какую роль играют односоставные предложения в художественном тексте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В чем своеобразие односоставных предложений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4c2b"/>
                </a:solidFill>
                <a:latin typeface="Times New Roman"/>
              </a:rPr>
              <a:t>Задачи: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обобщить материал по теме, увидеть своеобразие односоставных предложений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развить эстетический вкус, повысить культурный уровень через обращения к образцовым текстам художников слова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расширить представление о личности Н.М. Карамзина, его роли в развитии русского литературного языка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формировать умение строить устное высказывание в форме выступления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4c2b"/>
                </a:solidFill>
                <a:latin typeface="Times New Roman"/>
              </a:rPr>
              <a:t>Роль Н.М. Карамзина в развитии литературы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Друг Н.М. Карамзина Петр Вяземский писал в стихах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33"/>
                </a:solidFill>
                <a:latin typeface="Times New Roman"/>
              </a:rPr>
              <a:t>Язык наш был - кафтан тяжелый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33"/>
                </a:solidFill>
                <a:latin typeface="Times New Roman"/>
              </a:rPr>
              <a:t>И слишком пахнул стариной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33"/>
                </a:solidFill>
                <a:latin typeface="Times New Roman"/>
              </a:rPr>
              <a:t>Дал Карамзин покрой иной -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33"/>
                </a:solidFill>
                <a:latin typeface="Times New Roman"/>
              </a:rPr>
              <a:t>Пускай ворчат себе расколы,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33"/>
                </a:solidFill>
                <a:latin typeface="Times New Roman"/>
              </a:rPr>
              <a:t>Все приняли его покрой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6840" y="304920"/>
            <a:ext cx="838188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</a:rPr>
              <a:t>«Бедная Лиза» </a:t>
            </a: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- сентиментальная повесть. Как (с помощью каких предложений) Н.М. Карамзину удается выразительно, лаконично, точно указать на место действия, состояние души героев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С помощью назывных предложений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</a:rPr>
              <a:t>Примеры из повести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33"/>
                </a:solidFill>
                <a:latin typeface="Times New Roman"/>
              </a:rPr>
              <a:t>Вот ее мысли, ее чувства. Какая трогательная картина! Мечта!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Это назывные предложения, так как главный член - подлежащее, выраженное существительным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3520" y="228600"/>
            <a:ext cx="815328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3333"/>
                </a:solidFill>
                <a:latin typeface="Times New Roman"/>
              </a:rPr>
              <a:t>Определенно-личные предложения </a:t>
            </a:r>
            <a:r>
              <a:rPr b="0" lang="ru-RU" sz="3000" spc="-1" strike="noStrike">
                <a:solidFill>
                  <a:srgbClr val="333333"/>
                </a:solidFill>
                <a:latin typeface="Times New Roman"/>
              </a:rPr>
              <a:t>- односоставные предложения со сказуемым - глаголом в форме 1 или 2 лица. Подлежащее в таких предложениях не обязательно, так как окончания глаголов определенно указывают на лицо и число.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3333"/>
                </a:solidFill>
                <a:latin typeface="Times New Roman"/>
              </a:rPr>
              <a:t>Например: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333333"/>
                </a:solidFill>
                <a:latin typeface="Times New Roman"/>
              </a:rPr>
              <a:t>Всякое лето нахожу новые приятные места или в старых новые красоты. Иногда на вратах храма рассматриваю изображение чудес…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3333"/>
                </a:solidFill>
                <a:latin typeface="Times New Roman"/>
              </a:rPr>
              <a:t>Это односоставные определенно-личные предложения, так как сказуемые выражены глаголами в форме первого лица.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</a:rPr>
              <a:t>Безличное предложение</a:t>
            </a: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 - это односоставное предложение со сказуемым, при котором нет и не может быть подлежащего. Сказуемое в безличном предложении может быть простым глагольным сказуемым, составным именным сказуемым или составным глагольным сказуемым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33"/>
                </a:solidFill>
                <a:latin typeface="Times New Roman"/>
              </a:rPr>
              <a:t>В тексте Н.М. Карамзина безличных предложений нет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5800" y="304560"/>
            <a:ext cx="822960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33"/>
                </a:solidFill>
                <a:latin typeface="Times New Roman"/>
              </a:rPr>
              <a:t>Неопределенно-личные предложения</a:t>
            </a:r>
            <a:r>
              <a:rPr b="0" lang="ru-RU" sz="2600" spc="-1" strike="noStrike">
                <a:solidFill>
                  <a:srgbClr val="333333"/>
                </a:solidFill>
                <a:latin typeface="Times New Roman"/>
              </a:rPr>
              <a:t> - это односоставные предложения со сказуемым-глаголом в форме 3 лица множественного числа в настоящем и будущем времени и в форме множественного числа в прошедшем времени. В таких предложениях важно само действие, а не лица, которые его производят.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33"/>
                </a:solidFill>
                <a:latin typeface="Times New Roman"/>
              </a:rPr>
              <a:t>Пример: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333333"/>
                </a:solidFill>
                <a:latin typeface="Times New Roman"/>
              </a:rPr>
              <a:t>Таким образом скончала жизнь свою прекрасная душою и телом. Когда мы там, в новой жизни, увидимся, я узнаю тебя, нежная Лиза!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333333"/>
                </a:solidFill>
                <a:latin typeface="Times New Roman"/>
              </a:rPr>
              <a:t>Ее погребли близ пруда, под мрачным дубом. И поставили деревянный крест на ее могиле.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333333"/>
                </a:solidFill>
                <a:latin typeface="Times New Roman"/>
              </a:rPr>
              <a:t>Тут часто сижу в задумчивости. Надо мною шумят листья.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914400" y="2057400"/>
          <a:ext cx="7529400" cy="34322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2057400"/>
                    <a:ext cx="7529400" cy="34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4c2b"/>
                </a:solidFill>
                <a:latin typeface="Times New Roman"/>
              </a:rPr>
              <a:t>Таблица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07:36:45Z</dcterms:created>
  <dc:creator>Администратор</dc:creator>
  <dc:description/>
  <dc:language>en-US</dc:language>
  <cp:lastModifiedBy>Администратор</cp:lastModifiedBy>
  <dcterms:modified xsi:type="dcterms:W3CDTF">2009-03-24T04:09:23Z</dcterms:modified>
  <cp:revision>7</cp:revision>
  <dc:subject/>
  <dc:title>Проект по теме: «Односоставные предложения»</dc:title>
</cp:coreProperties>
</file>