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873-54A2-45A5-83A8-A189CA7D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FB4-1A57-4257-A97B-6C5CD182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E76-97BA-4496-AE38-D762ED71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518-0F4D-4ADC-A2A7-1D76CE08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B9A3-2BB3-4F67-A78D-A5723CCD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862D-DE6A-4185-88C4-788F63B7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54A6-E522-4839-9A89-58EFF35D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6E54-3411-4133-9E85-78386E58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0F36-84FD-4368-820D-F90125BF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4BBE-9E71-4BE9-87EE-BEB3058D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7290-3843-4ADB-9614-88E38FA4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128-0A5D-4A3D-B894-AA3DDC88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B55E-51AA-48BB-8A7B-53CA264E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1D09-15B5-47D1-95AD-A3B0D4D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59B5-2ABE-4B5A-BE54-AE5A7AC8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051F-162F-4D5E-837C-084ED1E6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F93D-A7CB-4488-B6AA-F504502A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147BB-536C-4DAE-8A02-A4FEF3D6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C4E41-6DE7-460D-B1CB-4AC21865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9F77-5CB5-4D7E-800B-290542D7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5A34-D4AC-4BDD-9A23-A8FE3BA4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884E-B0A3-482E-BBC0-57568097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C47-F629-4F1D-8F13-26711E3D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386B4-7B06-45BD-AE7F-43212C37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796A1-0D42-452B-8B5A-91245F82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F58B9-1196-4D79-8664-550C8CAB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0388-BE55-4339-B850-36A6BB2C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C3A52-C776-4F4A-BFFE-95EFE9AE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DE3C-7092-409E-8C4A-4677475E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EFDF-DF0B-43B0-A853-1B22A58E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F7664-0267-4CA4-8DE7-0277E82C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333E8-ED1A-482C-B807-EE9DE495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BABB5-1AB2-476E-AADF-DED25D88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687-3770-43F0-9738-B4A72DA4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7C9AD-FB55-44F1-851E-BA5F87FC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413E5-C28B-4FCA-9879-B77757C4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E715B-DF83-44F8-97D6-0A43E3E8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6945D-DA56-49F5-83C7-F29DCBF0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E89DF-6135-47CD-BA2F-6AF1A25C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23007-D5B1-4988-B3EB-59F9FFDB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9DB05-C575-4595-8B45-065A2A22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6D244-4F55-49C0-A9BC-CAED377C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A89DA-DF36-4AA5-B3EC-D3B61634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85FE5-17A5-423A-9DA1-01AA87E2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56F8-4A4C-4D80-9E78-080E7140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6F7E7-0E82-42F0-A9BB-BBC62CEC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5C1A3-A345-4A7A-8431-E12036DE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53CD5-D90B-4DF2-84C2-E2FA474C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C8CAA-FF02-4400-94B3-0F74B6A7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AE6D8-1448-401C-97CF-7B628A99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F1DAC-D039-4F9E-920A-0FB55C79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281FE-DA15-4455-B09D-32442C2A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49C99-ECD5-4E5F-9D38-EA524756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69326-9177-4E0A-ABEA-3A255208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EE267-A830-4EDE-B34D-EBACB138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063-5B84-4769-B2C8-1045BC84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E0BCA-1053-4D9E-9F61-A0736448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C03-34F4-4382-A7E4-5340DEC3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203-C43B-484E-A3CC-BFB2E959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8B7-1895-464F-B7B1-43E5EC84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B8B7-2832-429E-ACA7-0B9F4F08AB2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EC7B-C05A-41BB-B7DC-FBAD169902C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6FE5-55A3-4364-9516-57DEBBA41C4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BD26-BE15-414F-A6D7-31E59EEE1F9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E339-DF39-4791-9F7B-50508177D4F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539640" y="549360"/>
            <a:ext cx="813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Я РАЗВИТИЯ КРИТИЧЕСКОГО МЫШЛЕН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4716360" y="538956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ырева Е.П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директора по УВ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Малобичинская СОШ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826920" y="476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педагогической техноло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403200" y="112536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ая технолог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вокупность психологических приёмов, методов обучения, воспитательных средств. Она есть организационно-методический инструмент педагогического процесса. (Б.Т. Лихачё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ая технолог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держательная техника реализации учебного процесса. (В.П. Беспальк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ая технолог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думанная во всех деталях модель совместной педагогической деятельности по проектированию, организации и проведения учебного процесса с безусловным обеспечением комфортных условий для учащихся и учителей. ( В.М. Монах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ая технолог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истемный метод создания, применения и определения всего процесса преподавания и усвоения знаний с учётом технических и человеческих ресурсов и их взаимодействие, ставящий своей задачей оптимизацию форм образования (ЮНЕСКО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249120" y="404640"/>
            <a:ext cx="856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дея развития критического мышл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достаточно новой для российской дидактики. Заговорили о целостной технологии развития критического мышления лишь в середине 90-х годов ХХ ве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ическое мышление обозначае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егативность суждений или критику, а разумное рассмотрение разнообразия подходов с тем, чтобы выносить обоснованные решения и суждения. Ориентация на критическое мышление предполагает, что ничего не принимается на веру. Каждый ученик, невзирая на авторитеты, вырабатывает своё мнение в контексте учебно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611280" y="620640"/>
            <a:ext cx="80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ическое мышл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пособность анализировать информацию с позиции логики и личностно-психологического подхода с тем, чтобы применять полученные результаты, как к стандартным, так и нестандартным ситуациям, вопросам и проблемам. Критическое мышление – это способность ставить новые вопросы, вырабатывать разнообразные аргументы, принимать независимые продуманные реш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539640" y="476280"/>
            <a:ext cx="82090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ть развитие критического мышления посредством интерактивного включения учащихся в образовательный процес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ходные научные иде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итическое мышление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ствует взаимоуважению партнёров, пониманию и продуктивному взаимодействию между людь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легчает понимание различных взглядов на мир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зволяет учащимся использовать свои знания для наполнения смыслом ситуаций с высоким уровнем неопределённости, создавать базу для новых типов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1042920" y="69228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ЧЕСКИЕ ЭТАПЫ УРО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468360" y="1243080"/>
            <a:ext cx="828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«Вызов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ктуализация субъектного опыт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«Осмысление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лассификация знаний, оформление структурно-логической схемы №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«Чтение с пометками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тение текста, проставление  пометок: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-знаю, «?» - хочу узнать, «+» - новое для меня, «-» - противоречит начальным представлениям; работа с маркировочной таблицей, обсуждение, оформление структурно-логической схемы №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«Рефлексия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зные способы инициирования рефлексии учащихс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«Домашнее задание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826920" y="33336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ки результата в  условиях технологии развития критического мышления учащих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468360" y="17398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критерием оценки результата является критичность мышления, которая может быть раскрыта через следующие показа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Схема 5" descr=""/>
          <p:cNvPicPr/>
          <p:nvPr/>
        </p:nvPicPr>
        <p:blipFill>
          <a:blip r:embed="rId1"/>
          <a:stretch/>
        </p:blipFill>
        <p:spPr>
          <a:xfrm>
            <a:off x="317520" y="2786040"/>
            <a:ext cx="8461440" cy="3743280"/>
          </a:xfrm>
          <a:prstGeom prst="rect">
            <a:avLst/>
          </a:prstGeom>
          <a:ln w="0">
            <a:noFill/>
          </a:ln>
        </p:spPr>
      </p:pic>
      <p:sp>
        <p:nvSpPr>
          <p:cNvPr id="248" name="Скругленный прямоугольник 7"/>
          <p:cNvSpPr/>
          <p:nvPr/>
        </p:nvSpPr>
        <p:spPr>
          <a:xfrm>
            <a:off x="3203640" y="3727440"/>
            <a:ext cx="2952720" cy="1285920"/>
          </a:xfrm>
          <a:prstGeom prst="roundRect">
            <a:avLst>
              <a:gd name="adj" fmla="val 16667"/>
            </a:avLst>
          </a:prstGeom>
          <a:solidFill>
            <a:srgbClr val="d96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3203640" y="37702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ноз (постройте прогноз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06:10:28Z</dcterms:created>
  <dc:creator>user</dc:creator>
  <dc:description/>
  <dc:language>en-US</dc:language>
  <cp:lastModifiedBy>user</cp:lastModifiedBy>
  <dcterms:modified xsi:type="dcterms:W3CDTF">2012-11-28T11:15:01Z</dcterms:modified>
  <cp:revision>9</cp:revision>
  <dc:subject/>
  <dc:title>Презентация PowerPoint</dc:title>
</cp:coreProperties>
</file>