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E77-D990-4CB9-8D4F-DB207DBC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4DA-53E6-434C-8FDD-70C7E6C2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9BC-A310-4465-B499-96A6B17F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C02-9928-460A-9F27-3DAF6C27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2B3D-5C9B-43CB-A733-C274954D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2B4-4ACA-49C2-9234-3E2CB845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D467-ADD4-4BDB-8F77-E52AE3EC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F424-4574-4965-BD4A-598C86D0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3C05-0207-4E58-A4BC-DA14EFC9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25F6-B673-45FA-846F-EBA3FB1E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E148-2683-41FF-B425-4D9BF54B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272-63AE-497C-95D2-B029B8B7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EF28-CCA5-400C-9E6F-DC41F20D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8FC3-62B7-4017-9713-AB4A05D0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3FCE-B06C-431A-84F7-D9BDFE2C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1B50-F345-43CC-B55D-E8E98385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7EC4-006E-4C02-9E80-403C7D4F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6E0E-816D-4221-A58B-83CCAD95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D564-0D1D-4F7F-BD55-4DFEC91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49F60-7E23-4147-AEF2-87368609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5377-EE47-4A11-8326-5A78E1D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A2BE-546E-4EE6-B942-EB3B2810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073-4C67-46F0-8224-3F35013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EDA4-FF66-4277-B056-37FE02E1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590A5-2E7F-4872-BDF1-F3D9D619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78D2-B9D5-43E5-9273-5756EE75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4127-7F63-4033-8094-83DD4718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DD38-43DE-4B32-8FE1-8654E1A8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8A3B-58B6-4D6B-85EC-52ECE36D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B503-0A7F-42D8-A202-BE0A9D9A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F36D-6DCA-4C05-8DCF-7A17F593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F54A9-8238-4570-869A-F8018B76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9FF0C-7583-4DD7-84F2-E605B11D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2FE-081D-4542-80DF-B0375612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4D6E-7133-4B2C-99E9-1B578F04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FE5E0-CCE8-4D0D-B221-92DFE1D1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D34AB-8189-4BD1-B2AA-A78D4F64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031D0-023A-4618-8E4C-A9C1DB93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B3A0-EF0D-4D29-BE3C-DEA63A9F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AE195-32B1-4B0D-80BF-889EFE8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6079E-4C11-457B-A9B9-B6D04FAF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4336F-1445-4F0C-8E12-54F6F4F3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49440-5931-4C32-B1C7-DA1F5EA2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4933B-580E-4DE9-BC17-C6681E13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EB1-6C22-4661-9880-E15FB13D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61841-AD04-43CC-9E9D-21335669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8B955-F7C8-4057-AAD7-22A730F9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AF3CD-B023-4C96-A046-7DE9276E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C0814-4496-4309-8732-B741B640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10A48-319E-4FAA-AF3C-D874F1FC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1A2F7-9985-4A46-B70C-B3ABEEB9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C5CA4-4950-4C20-B91B-84C77058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194DF-04E3-4846-BA0C-5A95A97A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26C40-993D-4B78-89B4-E91C3BD1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A3766-C02F-479E-BEA1-6FFA115B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366-6B0E-4864-B6AD-97B79794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E39A-BBDD-43F4-BD74-059C2F75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55B-CE12-4028-BA27-A286CE42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3C2-AF34-48A9-94DB-914FEC05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EAD-62F4-44B5-BE84-FF5FB4C7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9F9F-3CA4-4669-9807-F80A5D5E3C0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27E8-5408-460B-9A3B-61D767D854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33C4-9978-4F4A-BA8E-CB7D7F2188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C6EF-36EE-449D-8986-1A405579214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9451-91A2-4457-94AB-17187C8BD07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539640" y="549360"/>
            <a:ext cx="81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РАЗВИТИЯ КРИТИЧЕСКОГО МЫШЛЕ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4716360" y="538956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ырева Е.П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Малобичинская СОШ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826920" y="476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едагогической техноло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403200" y="112536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технолог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вокупность психологических приёмов, методов обучения, воспитательных средств. Она есть организационно-методический инструмент педагогического процесса. (Б.Т. Лихачё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технолог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держательная техника реализации учебного процесса. (В.П. Беспальк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технолог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думанная во всех деталях модель совместной педагогической деятельности по проектированию, организации и проведения учебного процесса с безусловным обеспечением комфортных условий для учащихся и учителей. ( В.М. Монах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технолог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истемный метод создания, применения и определения всего процесса преподавания и усвоения знаний с учётом технических и человеческих ресурсов и их взаимодействие, ставящий своей задачей оптимизацию форм образования (ЮНЕСКО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249120" y="404640"/>
            <a:ext cx="856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дея развития критического мышл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достаточно новой для российской дидактики. Заговорили о целостной технологии развития критического мышления лишь в середине 90-х годов ХХ 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ическое мышление обозначае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егативность суждений или критику, а разумное рассмотрение разнообразия подходов с тем, чтобы выносить обоснованные решения и суждения. Ориентация на критическое мышление предполагает, что ничего не принимается на веру. Каждый ученик, невзирая на авторитеты, вырабатывает своё мнение в контексте учебно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611280" y="620640"/>
            <a:ext cx="80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ическое мышл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пособность анализировать информацию с позиции логики и личностно-психологического подхода с тем, чтобы применять полученные результаты, как к стандартным, так и нестандартным ситуациям, вопросам и проблемам. Критическое мышление – это способность ставить новые вопросы, вырабатывать разнообразные аргументы, принимать независимые продуманные реш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539640" y="476280"/>
            <a:ext cx="8209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ть развитие критического мышления посредством интерактивного включения учащихся в образовательный процес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ходные научные иде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итическое мышление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ствует взаимоуважению партнёров, пониманию и продуктивному взаимодействию между людь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легчает понимание различных взглядов на ми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зволяет учащимся использовать свои знания для наполнения смыслом ситуаций с высоким уровнем неопределённости, создавать базу для новых типов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042920" y="69228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ЧЕСКИЕ ЭТАПЫ УРО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468360" y="1243080"/>
            <a:ext cx="828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«Вызов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ктуализация субъектного опыт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«Осмысление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лассификация знаний, оформление структурно-логической схемы №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«Чтение с пометками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тение текста, проставление  пометок: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-знаю, «?» - хочу узнать, «+» - новое для меня, «-» - противоречит начальным представлениям; работа с маркировочной таблицей, обсуждение, оформление структурно-логической схемы №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«Рефлексия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зные способы инициирования рефлексии учащихс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«Домашнее задание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826920" y="33336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ки результата в  условиях технологии развития критического мышления учащих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468360" y="17398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критерием оценки результата является критичность мышления, которая может быть раскрыта через следующие показа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Схема 5" descr=""/>
          <p:cNvPicPr/>
          <p:nvPr/>
        </p:nvPicPr>
        <p:blipFill>
          <a:blip r:embed="rId1"/>
          <a:stretch/>
        </p:blipFill>
        <p:spPr>
          <a:xfrm>
            <a:off x="317520" y="2786040"/>
            <a:ext cx="8461440" cy="3743280"/>
          </a:xfrm>
          <a:prstGeom prst="rect">
            <a:avLst/>
          </a:prstGeom>
          <a:ln w="0">
            <a:noFill/>
          </a:ln>
        </p:spPr>
      </p:pic>
      <p:sp>
        <p:nvSpPr>
          <p:cNvPr id="248" name="Скругленный прямоугольник 7"/>
          <p:cNvSpPr/>
          <p:nvPr/>
        </p:nvSpPr>
        <p:spPr>
          <a:xfrm>
            <a:off x="3203640" y="3727440"/>
            <a:ext cx="2952720" cy="1285920"/>
          </a:xfrm>
          <a:prstGeom prst="roundRect">
            <a:avLst>
              <a:gd name="adj" fmla="val 16667"/>
            </a:avLst>
          </a:prstGeom>
          <a:solidFill>
            <a:srgbClr val="d96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3203640" y="3770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ноз (постройте прогноз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6:10:28Z</dcterms:created>
  <dc:creator>user</dc:creator>
  <dc:description/>
  <dc:language>en-US</dc:language>
  <cp:lastModifiedBy>user</cp:lastModifiedBy>
  <dcterms:modified xsi:type="dcterms:W3CDTF">2012-11-28T11:15:01Z</dcterms:modified>
  <cp:revision>9</cp:revision>
  <dc:subject/>
  <dc:title>Презентация PowerPoint</dc:title>
</cp:coreProperties>
</file>