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50A-E6F1-4B4B-BAD8-9E4754EA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302-B9F5-4CAE-A34D-B0390F4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7C1-168D-4745-A137-911978B8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513-E699-4092-A606-5F4B1EC9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A0CBF-570C-4BDF-B402-4D9C7CDE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8C74C-0EB0-4B8E-BADE-0EBCEE8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1EA23-17E5-43DB-8928-6D38FC6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257C1-8979-45F6-AFDA-BE0554E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6A268-6CD9-4A1A-BBF6-459320A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94678-A1AC-4E7F-A614-077A13A1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11DF-F42D-4DA9-9DA5-A89BFD9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6FA-8155-4B90-84E9-53EDE8C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EB54-F89B-4D96-98BC-E01C976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88BD-6946-44C1-B512-CC77EA6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212D9-E1C5-4347-A3B7-94734C17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36183-3AA1-4B3E-9509-62D4A18B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87380-5745-46C3-B23F-D31B0923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927-7B7A-4834-82EB-F979D24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F10-80E6-48DA-91B0-82DF01E4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ED6-882C-4F27-AE2B-207CD24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1C2-5C17-4D0B-8658-E74A1AA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C09-AB28-4412-A6E1-D3286CA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EA7-E718-40EA-BFC0-E6F6C74E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66F-1D07-47F2-9A92-E9E53C6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9FB-BD18-4118-97CD-6B52AFF56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1775-C266-42E9-9ADB-CC6EE6691F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lobnya.biz/viewtopic-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Тесты по литературному чтению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программа «Начальная школа 21 века»)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тметь фамилию автора стихотворения «Зимний вечер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)  С.А. Есе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7432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)  И.С. Ники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352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)  А.С. 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038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)  И.З. Сур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724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)  М.Ю. Лермо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609920" cy="171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495680" y="457200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1522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4038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то автор рассказ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«Ваньк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А.П.Че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114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Н.А. Некр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И.С. Турген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Л.Н.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239920" cy="3353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122560" cy="27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43400" y="5410080"/>
            <a:ext cx="1409760" cy="1276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Что такое пейзаж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рассказ о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701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90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картины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2767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сказка о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9625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стихотворение о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2895840" cy="231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0574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743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53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53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53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86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forum.lobnya.biz/viewtopic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майл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images.yandex.ru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- кар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2286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12700" y="3837"/>
                </a:moveTo>
                <a:lnTo>
                  <a:pt x="15276" y="6448"/>
                </a:lnTo>
                <a:lnTo>
                  <a:pt x="15276" y="4707"/>
                </a:lnTo>
                <a:lnTo>
                  <a:pt x="17052" y="4707"/>
                </a:lnTo>
                <a:lnTo>
                  <a:pt x="17052" y="8224"/>
                </a:lnTo>
                <a:lnTo>
                  <a:pt x="19663" y="10800"/>
                </a:lnTo>
                <a:lnTo>
                  <a:pt x="18009" y="10800"/>
                </a:lnTo>
                <a:lnTo>
                  <a:pt x="18009" y="17989"/>
                </a:lnTo>
                <a:lnTo>
                  <a:pt x="7391" y="17989"/>
                </a:lnTo>
                <a:lnTo>
                  <a:pt x="7391" y="10800"/>
                </a:lnTo>
                <a:lnTo>
                  <a:pt x="5737" y="10800"/>
                </a:lnTo>
                <a:close/>
              </a:path>
              <a:path fill="darkenLess" w="25400" h="21600">
                <a:moveTo>
                  <a:pt x="15276" y="6448"/>
                </a:moveTo>
                <a:lnTo>
                  <a:pt x="15276" y="4707"/>
                </a:lnTo>
                <a:lnTo>
                  <a:pt x="17052" y="4707"/>
                </a:lnTo>
                <a:lnTo>
                  <a:pt x="17052" y="8224"/>
                </a:lnTo>
                <a:close/>
              </a:path>
              <a:path fill="darkenLess" w="25400" h="21600">
                <a:moveTo>
                  <a:pt x="11777" y="14299"/>
                </a:moveTo>
                <a:lnTo>
                  <a:pt x="13623" y="14299"/>
                </a:lnTo>
                <a:lnTo>
                  <a:pt x="13623" y="17989"/>
                </a:lnTo>
                <a:lnTo>
                  <a:pt x="18009" y="17989"/>
                </a:lnTo>
                <a:lnTo>
                  <a:pt x="18009" y="10800"/>
                </a:lnTo>
                <a:lnTo>
                  <a:pt x="7391" y="10800"/>
                </a:lnTo>
                <a:lnTo>
                  <a:pt x="7391" y="17989"/>
                </a:lnTo>
                <a:lnTo>
                  <a:pt x="117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2-08-21T09:46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