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F6D-B531-4416-B934-38F9E801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F257-D4E8-4B3E-94B8-A769ADA0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0A4-72FB-4DD2-8867-196BF7A4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5740-6A99-46C6-9895-F1363345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E2123-BE6E-4B2A-A18D-5588DC07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320E4-E0BA-468E-AFFD-A6F9C941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9D1EE-8E0B-420D-BEA3-AA830803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FD579-6C82-4A60-A036-82B8ADBF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59671-5CA9-4363-B7D4-BC06867C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0D170-7CF3-4BEF-884F-A702D509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F463D-ACD6-4601-9E8E-3B90008F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515-A480-4EC9-9168-EFDF0292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13598-AEFA-41F5-AA7A-1F517247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44932-F18D-49D6-B6A0-7C01EE44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A0F62-B9CC-4981-BC7E-DCDE9D22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157B5-3F19-4CDA-A0E9-66137122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607BF-CAAF-428C-9786-0746F66C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667-CFD2-40C7-B205-CBD979E5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07A-A505-4C6F-BA00-B72DD4C7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476-EA3D-417C-B5A5-9758254C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D14-40BE-47D5-9D0D-75F9BA32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565-F29C-4AE9-AF7B-D694396E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F98-5B29-4245-A966-9188AE31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949-83B9-4C37-AFE4-E1B64AC1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CFCC-01F2-484A-9D98-2C542C5CA0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03D4-B85C-4697-A662-3857FC01CF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orum.lobnya.biz/viewtopic-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Тесты по литературному чтению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программа «Начальная школа 21 века»)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3 кла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Отметь фамилию автора стихотворения «Зимний вечер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66320" y="21337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)  С.А. Есен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274320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)  И.С. Никит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335268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)  А.С. Пушк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038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)  И.З. Сур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47242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)  М.Ю. Лермо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1320" y="34290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010280" y="1600200"/>
            <a:ext cx="1609920" cy="1719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24280" y="16002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724280" y="16002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4724280" y="16002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4495680" y="4572000"/>
            <a:ext cx="164160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152280" y="6248520"/>
            <a:ext cx="509760" cy="433440"/>
          </a:xfrm>
          <a:custGeom>
            <a:avLst/>
            <a:gdLst>
              <a:gd name="textAreaLeft" fmla="*/ 28080 w 509760"/>
              <a:gd name="textAreaRight" fmla="*/ 481680 w 5097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400" h="21600">
                <a:moveTo>
                  <a:pt x="0" y="0"/>
                </a:moveTo>
                <a:lnTo>
                  <a:pt x="25400" y="0"/>
                </a:lnTo>
                <a:lnTo>
                  <a:pt x="25400" y="21600"/>
                </a:lnTo>
                <a:lnTo>
                  <a:pt x="0" y="21600"/>
                </a:lnTo>
                <a:close/>
              </a:path>
              <a:path fill="lightenLess" w="25400" h="21600">
                <a:moveTo>
                  <a:pt x="0" y="0"/>
                </a:moveTo>
                <a:lnTo>
                  <a:pt x="25400" y="0"/>
                </a:lnTo>
                <a:lnTo>
                  <a:pt x="24000" y="1400"/>
                </a:lnTo>
                <a:lnTo>
                  <a:pt x="1400" y="1400"/>
                </a:lnTo>
                <a:close/>
              </a:path>
              <a:path fill="darken" w="25400" h="21600">
                <a:moveTo>
                  <a:pt x="25400" y="0"/>
                </a:moveTo>
                <a:lnTo>
                  <a:pt x="25400" y="21600"/>
                </a:lnTo>
                <a:lnTo>
                  <a:pt x="24000" y="20200"/>
                </a:lnTo>
                <a:lnTo>
                  <a:pt x="24000" y="1400"/>
                </a:lnTo>
                <a:close/>
              </a:path>
              <a:path fill="darkenLess" w="25400" h="21600">
                <a:moveTo>
                  <a:pt x="25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0" y="20200"/>
                </a:lnTo>
                <a:close/>
              </a:path>
              <a:path fill="lighten" w="25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0" h="21600">
                <a:moveTo>
                  <a:pt x="5694" y="3794"/>
                </a:moveTo>
                <a:lnTo>
                  <a:pt x="19707" y="10800"/>
                </a:lnTo>
                <a:lnTo>
                  <a:pt x="56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remove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remove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remove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40384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Кто автор рассказа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«Ванька»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667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 А.П.Чех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458200" y="6248520"/>
            <a:ext cx="509760" cy="433440"/>
          </a:xfrm>
          <a:custGeom>
            <a:avLst/>
            <a:gdLst>
              <a:gd name="textAreaLeft" fmla="*/ 28080 w 509760"/>
              <a:gd name="textAreaRight" fmla="*/ 481680 w 5097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400" h="21600">
                <a:moveTo>
                  <a:pt x="0" y="0"/>
                </a:moveTo>
                <a:lnTo>
                  <a:pt x="25400" y="0"/>
                </a:lnTo>
                <a:lnTo>
                  <a:pt x="25400" y="21600"/>
                </a:lnTo>
                <a:lnTo>
                  <a:pt x="0" y="21600"/>
                </a:lnTo>
                <a:close/>
              </a:path>
              <a:path fill="lightenLess" w="25400" h="21600">
                <a:moveTo>
                  <a:pt x="0" y="0"/>
                </a:moveTo>
                <a:lnTo>
                  <a:pt x="25400" y="0"/>
                </a:lnTo>
                <a:lnTo>
                  <a:pt x="24000" y="1400"/>
                </a:lnTo>
                <a:lnTo>
                  <a:pt x="1400" y="1400"/>
                </a:lnTo>
                <a:close/>
              </a:path>
              <a:path fill="darken" w="25400" h="21600">
                <a:moveTo>
                  <a:pt x="25400" y="0"/>
                </a:moveTo>
                <a:lnTo>
                  <a:pt x="25400" y="21600"/>
                </a:lnTo>
                <a:lnTo>
                  <a:pt x="24000" y="20200"/>
                </a:lnTo>
                <a:lnTo>
                  <a:pt x="24000" y="1400"/>
                </a:lnTo>
                <a:close/>
              </a:path>
              <a:path fill="darkenLess" w="25400" h="21600">
                <a:moveTo>
                  <a:pt x="25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0" y="20200"/>
                </a:lnTo>
                <a:close/>
              </a:path>
              <a:path fill="lighten" w="25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0" h="21600">
                <a:moveTo>
                  <a:pt x="5694" y="3794"/>
                </a:moveTo>
                <a:lnTo>
                  <a:pt x="19707" y="10800"/>
                </a:lnTo>
                <a:lnTo>
                  <a:pt x="56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4114800"/>
            <a:ext cx="3505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Н.А. Некра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666880"/>
            <a:ext cx="3353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И.С. Турген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429000"/>
            <a:ext cx="3353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Л.Н. Толст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2239920" cy="3353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943600" y="3962520"/>
            <a:ext cx="2122560" cy="2733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343400" y="5410080"/>
            <a:ext cx="1409760" cy="1276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495680" y="1600200"/>
            <a:ext cx="1109880" cy="1163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495680" y="1600200"/>
            <a:ext cx="1109880" cy="1163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495680" y="1600200"/>
            <a:ext cx="1109880" cy="116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remove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remove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remove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Что такое пейзаж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 рассказ о прир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701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458200" y="6248520"/>
            <a:ext cx="509760" cy="433440"/>
          </a:xfrm>
          <a:custGeom>
            <a:avLst/>
            <a:gdLst>
              <a:gd name="textAreaLeft" fmla="*/ 28080 w 509760"/>
              <a:gd name="textAreaRight" fmla="*/ 481680 w 5097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400" h="21600">
                <a:moveTo>
                  <a:pt x="0" y="0"/>
                </a:moveTo>
                <a:lnTo>
                  <a:pt x="25400" y="0"/>
                </a:lnTo>
                <a:lnTo>
                  <a:pt x="25400" y="21600"/>
                </a:lnTo>
                <a:lnTo>
                  <a:pt x="0" y="21600"/>
                </a:lnTo>
                <a:close/>
              </a:path>
              <a:path fill="lightenLess" w="25400" h="21600">
                <a:moveTo>
                  <a:pt x="0" y="0"/>
                </a:moveTo>
                <a:lnTo>
                  <a:pt x="25400" y="0"/>
                </a:lnTo>
                <a:lnTo>
                  <a:pt x="24000" y="1400"/>
                </a:lnTo>
                <a:lnTo>
                  <a:pt x="1400" y="1400"/>
                </a:lnTo>
                <a:close/>
              </a:path>
              <a:path fill="darken" w="25400" h="21600">
                <a:moveTo>
                  <a:pt x="25400" y="0"/>
                </a:moveTo>
                <a:lnTo>
                  <a:pt x="25400" y="21600"/>
                </a:lnTo>
                <a:lnTo>
                  <a:pt x="24000" y="20200"/>
                </a:lnTo>
                <a:lnTo>
                  <a:pt x="24000" y="1400"/>
                </a:lnTo>
                <a:close/>
              </a:path>
              <a:path fill="darkenLess" w="25400" h="21600">
                <a:moveTo>
                  <a:pt x="25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0" y="20200"/>
                </a:lnTo>
                <a:close/>
              </a:path>
              <a:path fill="lighten" w="25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0" h="21600">
                <a:moveTo>
                  <a:pt x="5694" y="3794"/>
                </a:moveTo>
                <a:lnTo>
                  <a:pt x="19707" y="10800"/>
                </a:lnTo>
                <a:lnTo>
                  <a:pt x="56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5909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исание картины прир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327672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) сказка о прир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9625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) стихотворение о прир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867280" y="3733920"/>
            <a:ext cx="2895840" cy="2315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33520" y="701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05740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7432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453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453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453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866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ttp://forum.lobnya.biz/viewtopic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майл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images.yandex.ru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- картин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228600" y="6248520"/>
            <a:ext cx="509760" cy="433440"/>
          </a:xfrm>
          <a:custGeom>
            <a:avLst/>
            <a:gdLst>
              <a:gd name="textAreaLeft" fmla="*/ 28080 w 509760"/>
              <a:gd name="textAreaRight" fmla="*/ 481680 w 5097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400" h="21600">
                <a:moveTo>
                  <a:pt x="0" y="0"/>
                </a:moveTo>
                <a:lnTo>
                  <a:pt x="25400" y="0"/>
                </a:lnTo>
                <a:lnTo>
                  <a:pt x="25400" y="21600"/>
                </a:lnTo>
                <a:lnTo>
                  <a:pt x="0" y="21600"/>
                </a:lnTo>
                <a:close/>
              </a:path>
              <a:path fill="lightenLess" w="25400" h="21600">
                <a:moveTo>
                  <a:pt x="0" y="0"/>
                </a:moveTo>
                <a:lnTo>
                  <a:pt x="25400" y="0"/>
                </a:lnTo>
                <a:lnTo>
                  <a:pt x="24000" y="1400"/>
                </a:lnTo>
                <a:lnTo>
                  <a:pt x="1400" y="1400"/>
                </a:lnTo>
                <a:close/>
              </a:path>
              <a:path fill="darken" w="25400" h="21600">
                <a:moveTo>
                  <a:pt x="25400" y="0"/>
                </a:moveTo>
                <a:lnTo>
                  <a:pt x="25400" y="21600"/>
                </a:lnTo>
                <a:lnTo>
                  <a:pt x="24000" y="20200"/>
                </a:lnTo>
                <a:lnTo>
                  <a:pt x="24000" y="1400"/>
                </a:lnTo>
                <a:close/>
              </a:path>
              <a:path fill="darkenLess" w="25400" h="21600">
                <a:moveTo>
                  <a:pt x="25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0" y="20200"/>
                </a:lnTo>
                <a:close/>
              </a:path>
              <a:path fill="lighten" w="25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0" h="21600">
                <a:moveTo>
                  <a:pt x="12700" y="3837"/>
                </a:moveTo>
                <a:lnTo>
                  <a:pt x="15276" y="6448"/>
                </a:lnTo>
                <a:lnTo>
                  <a:pt x="15276" y="4707"/>
                </a:lnTo>
                <a:lnTo>
                  <a:pt x="17052" y="4707"/>
                </a:lnTo>
                <a:lnTo>
                  <a:pt x="17052" y="8224"/>
                </a:lnTo>
                <a:lnTo>
                  <a:pt x="19663" y="10800"/>
                </a:lnTo>
                <a:lnTo>
                  <a:pt x="18009" y="10800"/>
                </a:lnTo>
                <a:lnTo>
                  <a:pt x="18009" y="17989"/>
                </a:lnTo>
                <a:lnTo>
                  <a:pt x="7391" y="17989"/>
                </a:lnTo>
                <a:lnTo>
                  <a:pt x="7391" y="10800"/>
                </a:lnTo>
                <a:lnTo>
                  <a:pt x="5737" y="10800"/>
                </a:lnTo>
                <a:close/>
              </a:path>
              <a:path fill="darkenLess" w="25400" h="21600">
                <a:moveTo>
                  <a:pt x="15276" y="6448"/>
                </a:moveTo>
                <a:lnTo>
                  <a:pt x="15276" y="4707"/>
                </a:lnTo>
                <a:lnTo>
                  <a:pt x="17052" y="4707"/>
                </a:lnTo>
                <a:lnTo>
                  <a:pt x="17052" y="8224"/>
                </a:lnTo>
                <a:close/>
              </a:path>
              <a:path fill="darkenLess" w="25400" h="21600">
                <a:moveTo>
                  <a:pt x="11777" y="14299"/>
                </a:moveTo>
                <a:lnTo>
                  <a:pt x="13623" y="14299"/>
                </a:lnTo>
                <a:lnTo>
                  <a:pt x="13623" y="17989"/>
                </a:lnTo>
                <a:lnTo>
                  <a:pt x="18009" y="17989"/>
                </a:lnTo>
                <a:lnTo>
                  <a:pt x="18009" y="10800"/>
                </a:lnTo>
                <a:lnTo>
                  <a:pt x="7391" y="10800"/>
                </a:lnTo>
                <a:lnTo>
                  <a:pt x="7391" y="17989"/>
                </a:lnTo>
                <a:lnTo>
                  <a:pt x="117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на</cp:lastModifiedBy>
  <dcterms:modified xsi:type="dcterms:W3CDTF">2012-08-21T09:46:0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