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303-F266-4538-B592-19EEAFE7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952-27D5-45D4-8B51-DCB41B9A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764-BB76-430C-BC71-A8F858DD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E76-B3F5-4202-ADB5-F47EDF8D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682-D94F-4E31-830E-E4BF1C9D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797-C904-495E-9982-AAFED7FF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E48-678E-4C61-B0AE-25033753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97E-E18F-4732-9B38-76565FE6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D17-A994-452E-AD97-E2A2C3AD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C17-BCB4-4BF2-9489-21778525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DA5-3DA2-4958-93BA-AD6AFF30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DF2-6B06-4A6C-B581-C20CD060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-27000"/>
            <a:ext cx="9144000" cy="69228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" name="Line 17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" name="AutoShape 18"/>
          <p:cNvSpPr/>
          <p:nvPr/>
        </p:nvSpPr>
        <p:spPr>
          <a:xfrm>
            <a:off x="468360" y="233280"/>
            <a:ext cx="7488360" cy="720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9099-642F-4A5C-9FF5-32D7C8B42F01}" type="datetime">
              <a:rPr b="1" lang="ru-RU" sz="1000" spc="-1" strike="noStrike">
                <a:solidFill>
                  <a:srgbClr val="000000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E15F-8597-4683-A66C-8D2164037F0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" name="AutoShape 14"/>
          <p:cNvSpPr/>
          <p:nvPr/>
        </p:nvSpPr>
        <p:spPr>
          <a:xfrm rot="5400000">
            <a:off x="8397720" y="-136440"/>
            <a:ext cx="284040" cy="75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a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17"/>
          <p:cNvGraphicFramePr/>
          <p:nvPr/>
        </p:nvGraphicFramePr>
        <p:xfrm>
          <a:off x="4253040" y="0"/>
          <a:ext cx="4890960" cy="44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3040" y="0"/>
                    <a:ext cx="489096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18"/>
          <p:cNvSpPr/>
          <p:nvPr/>
        </p:nvSpPr>
        <p:spPr>
          <a:xfrm>
            <a:off x="0" y="9360"/>
            <a:ext cx="1476360" cy="6848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 flipV="1">
            <a:off x="0" y="4266720"/>
            <a:ext cx="9144000" cy="110664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1" name="AutoShape 21"/>
          <p:cNvSpPr/>
          <p:nvPr/>
        </p:nvSpPr>
        <p:spPr>
          <a:xfrm>
            <a:off x="1474920" y="5156280"/>
            <a:ext cx="7129440" cy="504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4254480" y="6087960"/>
            <a:ext cx="1079640" cy="605160"/>
            <a:chOff x="4254480" y="6087960"/>
            <a:chExt cx="1079640" cy="605160"/>
          </a:xfrm>
        </p:grpSpPr>
        <p:sp>
          <p:nvSpPr>
            <p:cNvPr id="53" name="Text Box 14"/>
            <p:cNvSpPr/>
            <p:nvPr/>
          </p:nvSpPr>
          <p:spPr>
            <a:xfrm>
              <a:off x="4254480" y="626400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1a3d97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" name="AutoShape 15"/>
            <p:cNvSpPr/>
            <p:nvPr/>
          </p:nvSpPr>
          <p:spPr>
            <a:xfrm rot="5400000">
              <a:off x="4648320" y="57942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a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school0503.jpg"/>
          <p:cNvPicPr/>
          <p:nvPr/>
        </p:nvPicPr>
        <p:blipFill>
          <a:blip r:embed="rId1"/>
          <a:stretch/>
        </p:blipFill>
        <p:spPr>
          <a:xfrm>
            <a:off x="8086680" y="785880"/>
            <a:ext cx="10573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еряем домашнее зад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071720"/>
            <a:ext cx="9144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1.  Территориальной структурой хозяйства называется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деление на экономические районы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Б) деление на экономические зоны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 сочетание и взаимосвязи районов, центров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Г) расположение предприятий на территории России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2.   К производственной сфере хозяйства относится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 наука. Б)промышленность,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образование. Г) медицина, д)сельское хозяйство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3.   Межотраслевым комплексом называется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совокупность отраслей, имеющие тесные связи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Б)отрасли, продукция которых взаимозаменяема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 группа взаимосвязанных отраслей, выполняющих определенную задачу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Г) группа отраслей, потребляющие однородную продукцию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7429680" y="285840"/>
            <a:ext cx="1714320" cy="459720"/>
          </a:xfrm>
          <a:prstGeom prst="rect">
            <a:avLst/>
          </a:prstGeom>
          <a:solidFill>
            <a:srgbClr val="233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§§ 45 ; 46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7840080" y="71424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87d"/>
                </a:solidFill>
                <a:latin typeface="Arial"/>
              </a:rPr>
              <a:t>Тест. 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98" name="Дата 6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7380-2174-482E-86F9-1681C9B1CBDF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99" name="Номер слайда 7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6DA3-6EB8-4D61-93E2-FB28F5685DD7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0" name="Нижний колонтитул 8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4" descr="PROM.H2.gif"/>
          <p:cNvPicPr/>
          <p:nvPr/>
        </p:nvPicPr>
        <p:blipFill>
          <a:blip r:embed="rId1"/>
          <a:stretch/>
        </p:blipFill>
        <p:spPr>
          <a:xfrm>
            <a:off x="285840" y="2793960"/>
            <a:ext cx="6929280" cy="4064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7560" y="318960"/>
            <a:ext cx="74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исло занятых в первичном секторе экономик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288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В России - </a:t>
            </a: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35%;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В США    -     5%;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В Японии –    3%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pic>
        <p:nvPicPr>
          <p:cNvPr id="157" name="Рисунок 5" descr="kuzbass.jpg"/>
          <p:cNvPicPr/>
          <p:nvPr/>
        </p:nvPicPr>
        <p:blipFill>
          <a:blip r:embed="rId2"/>
          <a:stretch/>
        </p:blipFill>
        <p:spPr>
          <a:xfrm>
            <a:off x="5500800" y="1000080"/>
            <a:ext cx="3143160" cy="28098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587880" y="278604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Добыча полезных ископаемых  в России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59" name="Дата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519A-2B6C-4165-B680-AB7F05613E02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60" name="Номер слайда 8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EA55-DEC1-42AD-9EC3-18714ED629A3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61" name="Нижний колонтитул 9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w500_karta_basseynov_rossii.jpg"/>
          <p:cNvPicPr/>
          <p:nvPr/>
        </p:nvPicPr>
        <p:blipFill>
          <a:blip r:embed="rId1"/>
          <a:stretch/>
        </p:blipFill>
        <p:spPr>
          <a:xfrm>
            <a:off x="5357880" y="4000680"/>
            <a:ext cx="2952720" cy="25984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Закрепле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Какие отрасли входят в первичный сектор экономики?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Какие из них ведущие?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Использование каких природных ресурсов можно было бы сократить без ущерба для экономики России?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Какова роль первичного сектора экономики?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65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CBA2-8079-4570-AD08-9F259ED3BD26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66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D8D7-FBE0-4E19-B1E6-91937F9B1BAB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67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400" y="1076400"/>
            <a:ext cx="87152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87d"/>
                </a:solidFill>
                <a:latin typeface="Verdana"/>
              </a:rPr>
              <a:t>§47. Ответить на вопросы параграфа.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pic>
        <p:nvPicPr>
          <p:cNvPr id="170" name="Рисунок 3" descr="file.gif"/>
          <p:cNvPicPr/>
          <p:nvPr/>
        </p:nvPicPr>
        <p:blipFill>
          <a:blip r:embed="rId1"/>
          <a:stretch/>
        </p:blipFill>
        <p:spPr>
          <a:xfrm>
            <a:off x="1562040" y="1881360"/>
            <a:ext cx="4772160" cy="4190760"/>
          </a:xfrm>
          <a:prstGeom prst="rect">
            <a:avLst/>
          </a:prstGeom>
          <a:ln w="0">
            <a:noFill/>
          </a:ln>
        </p:spPr>
      </p:pic>
      <p:sp>
        <p:nvSpPr>
          <p:cNvPr id="171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65D3-D022-4380-8500-633F1E38BD8C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72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1707-AEB7-4DB3-B9DA-068520C46624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928800"/>
            <a:ext cx="9144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4.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Отрасль народного хозяйства это-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 совокупность предприятий, в одном экономическом районе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Б) совокупность предприятий, производящие   однородную продукцию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 совокупность предприятий, использующих похожее сырье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5.  Непроизводственная сфера включает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А) строительство, б)сельское хозяйство, 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e1735"/>
                </a:solidFill>
                <a:latin typeface="Verdana"/>
              </a:rPr>
              <a:t>в) образование, г) науку. Д) коммунальное хозяйство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6.  Вторичный сектор экономики включает: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А) отрасли добывающие сырье и эксплуатирующие природу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Б) отрасли, предоставляющие услуги;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161616"/>
                </a:solidFill>
                <a:latin typeface="Verdana"/>
              </a:rPr>
              <a:t>В) отрасли, перерабатывающие (обрабатывающие) сырье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57120" y="6116760"/>
          <a:ext cx="8229600" cy="741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972b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Б; Д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В; Г; Д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3387d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2338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7"/>
                    </a:solidFill>
                  </a:tcPr>
                </a:tc>
              </a:tr>
            </a:tbl>
          </a:graphicData>
        </a:graphic>
      </p:graphicFrame>
      <p:sp>
        <p:nvSpPr>
          <p:cNvPr id="103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376F-E131-4581-80CC-CCFCA8389939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4F03-5EB5-482F-84CA-2D5F98C9FE55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8800" y="2000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3387d"/>
                </a:solidFill>
                <a:latin typeface="Verdana"/>
              </a:rPr>
              <a:t>Состав первичного сектора экономик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71760" y="421452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Цель: сформировать представления о составе добывающей промышленности, о типах и видах природных ресурсов и проблемах их использования.</a:t>
            </a: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286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став первичного сектора эконом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928800"/>
            <a:ext cx="9144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387d"/>
                </a:solidFill>
                <a:latin typeface="Verdana"/>
              </a:rPr>
              <a:t>Отрасли, использующие различные ресурсы природы: землю, растения, животных, полезные ископаемые.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387d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23387d"/>
                </a:solidFill>
                <a:latin typeface="Verdana"/>
              </a:rPr>
              <a:t>Учебник.с.226, таблица 23:  «Отрасли, эксплуатирующие природу»</a:t>
            </a:r>
            <a:endParaRPr b="0" lang="en-US" sz="2400" spc="-1" strike="noStrike">
              <a:solidFill>
                <a:srgbClr val="23387d"/>
              </a:solidFill>
              <a:latin typeface="Verdana"/>
            </a:endParaRPr>
          </a:p>
        </p:txBody>
      </p:sp>
      <p:pic>
        <p:nvPicPr>
          <p:cNvPr id="110" name="Рисунок 3" descr="453636896.gif"/>
          <p:cNvPicPr/>
          <p:nvPr/>
        </p:nvPicPr>
        <p:blipFill>
          <a:blip r:embed="rId1"/>
          <a:stretch/>
        </p:blipFill>
        <p:spPr>
          <a:xfrm>
            <a:off x="4286160" y="3214800"/>
            <a:ext cx="4643640" cy="29923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f_16728998.jpg"/>
          <p:cNvPicPr/>
          <p:nvPr/>
        </p:nvPicPr>
        <p:blipFill>
          <a:blip r:embed="rId2"/>
          <a:stretch/>
        </p:blipFill>
        <p:spPr>
          <a:xfrm>
            <a:off x="0" y="3143160"/>
            <a:ext cx="4143240" cy="3286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428760" y="645804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обывающие отрасли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214880" y="6458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трасли использующие природу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4" name="Дата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2401-00E6-48F0-BE7A-F49DD249E571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5" name="Номер слайда 8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1746-028F-4428-BFAC-8EF848FE6C68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8" descr="komi.jpg"/>
          <p:cNvPicPr/>
          <p:nvPr/>
        </p:nvPicPr>
        <p:blipFill>
          <a:blip r:embed="rId1"/>
          <a:stretch/>
        </p:blipFill>
        <p:spPr>
          <a:xfrm>
            <a:off x="5786280" y="4500720"/>
            <a:ext cx="1643400" cy="1752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ипы и виды природных ресурс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81400" y="1428840"/>
            <a:ext cx="2635920" cy="459720"/>
          </a:xfrm>
          <a:prstGeom prst="rect">
            <a:avLst/>
          </a:prstGeom>
          <a:solidFill>
            <a:srgbClr val="c8d2f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исчерпаем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9280" y="1428840"/>
            <a:ext cx="2279160" cy="459720"/>
          </a:xfrm>
          <a:prstGeom prst="rect">
            <a:avLst/>
          </a:prstGeom>
          <a:solidFill>
            <a:srgbClr val="c8d2f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счерпаем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3650760" y="1928880"/>
            <a:ext cx="259776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зобновимые 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6302880" y="1928880"/>
            <a:ext cx="2833920" cy="459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евозобновим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0" y="2000160"/>
            <a:ext cx="3500280" cy="2654280"/>
          </a:xfrm>
          <a:prstGeom prst="rect">
            <a:avLst/>
          </a:prstGeom>
          <a:solidFill>
            <a:srgbClr val="dfe8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Климатические;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Солнечная и                ядерная энергия;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Энергия ветра,            приливов и отливов, морских течений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643200" y="2500200"/>
            <a:ext cx="2643480" cy="192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емля, вода,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лес, воздух,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тительность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животные,   почвы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513840" y="2428920"/>
            <a:ext cx="2326680" cy="192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инеральн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сурсы: 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опливные,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удные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cxnSp>
        <p:nvCxnSpPr>
          <p:cNvPr id="126" name="Прямая со стрелкой 11"/>
          <p:cNvCxnSpPr/>
          <p:nvPr/>
        </p:nvCxnSpPr>
        <p:spPr>
          <a:xfrm flipH="1">
            <a:off x="2642400" y="927720"/>
            <a:ext cx="857880" cy="500760"/>
          </a:xfrm>
          <a:prstGeom prst="straightConnector1">
            <a:avLst/>
          </a:prstGeom>
          <a:ln w="38160">
            <a:solidFill>
              <a:srgbClr val="23387d"/>
            </a:solidFill>
            <a:miter/>
            <a:tailEnd len="med" type="arrow" w="med"/>
          </a:ln>
        </p:spPr>
      </p:cxnSp>
      <p:cxnSp>
        <p:nvCxnSpPr>
          <p:cNvPr id="127" name="Прямая со стрелкой 13"/>
          <p:cNvCxnSpPr/>
          <p:nvPr/>
        </p:nvCxnSpPr>
        <p:spPr>
          <a:xfrm>
            <a:off x="5143320" y="928800"/>
            <a:ext cx="857880" cy="429120"/>
          </a:xfrm>
          <a:prstGeom prst="straightConnector1">
            <a:avLst/>
          </a:prstGeom>
          <a:ln w="38160">
            <a:solidFill>
              <a:srgbClr val="23387d"/>
            </a:solidFill>
            <a:miter/>
            <a:tailEnd len="med" type="arrow" w="med"/>
          </a:ln>
        </p:spPr>
      </p:cxnSp>
      <p:pic>
        <p:nvPicPr>
          <p:cNvPr id="128" name="Рисунок 17" descr="map.jpg"/>
          <p:cNvPicPr/>
          <p:nvPr/>
        </p:nvPicPr>
        <p:blipFill>
          <a:blip r:embed="rId2"/>
          <a:stretch/>
        </p:blipFill>
        <p:spPr>
          <a:xfrm>
            <a:off x="0" y="4357800"/>
            <a:ext cx="3613320" cy="2057400"/>
          </a:xfrm>
          <a:prstGeom prst="rect">
            <a:avLst/>
          </a:prstGeom>
          <a:ln w="0">
            <a:noFill/>
          </a:ln>
        </p:spPr>
      </p:pic>
      <p:sp>
        <p:nvSpPr>
          <p:cNvPr id="129" name="Дата 19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A04C-F791-4EE7-8E01-2D1D36A17F9E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0" name="Номер слайда 20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1CDC-6E88-4428-9766-A24875628BAD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1" name="Нижний колонтитул 21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Содержимое 3" descr="0010-010-Dobycha-poleznykh-iskopaemyk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7CB0-2326-432A-8E31-E98ADE58587F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AF23-D2BF-43E7-AF85-D1A9C93E4C99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7" name="Прямая соединительная линия 8"/>
          <p:cNvSpPr/>
          <p:nvPr/>
        </p:nvSpPr>
        <p:spPr>
          <a:xfrm>
            <a:off x="6643800" y="2286000"/>
            <a:ext cx="250020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162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ервая солнечная в Росси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5143680" y="1000080"/>
            <a:ext cx="4000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87d"/>
                </a:solidFill>
                <a:latin typeface="Arial"/>
              </a:rPr>
              <a:t>29 сентября 201</a:t>
            </a:r>
            <a:r>
              <a:rPr b="1" lang="en-US" sz="1800" spc="-1" strike="noStrike">
                <a:solidFill>
                  <a:srgbClr val="23387d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3387d"/>
                </a:solidFill>
                <a:latin typeface="Arial"/>
              </a:rPr>
              <a:t> в Белгородской области, на территории ООО «Агро-Белогорье» открылась первая в России солнечная электростанция. Общая мощность энергостанции составляет около 100 киловатт, напряжение генерируемого тока – 380 вольт. Минимальный срок службы всей станции не менее двадцати лет. Станция обеспечивает энергией не весь агрокомплекс.Агрокомплекс в течение двенадцати-тринадцати лет будет «питаться» солнечной энергией бесплатно.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pic>
        <p:nvPicPr>
          <p:cNvPr id="140" name="Содержимое 6" descr="solar-farm.jpg"/>
          <p:cNvPicPr/>
          <p:nvPr/>
        </p:nvPicPr>
        <p:blipFill>
          <a:blip r:embed="rId1"/>
          <a:stretch/>
        </p:blipFill>
        <p:spPr>
          <a:xfrm>
            <a:off x="0" y="928800"/>
            <a:ext cx="5114880" cy="5000400"/>
          </a:xfrm>
          <a:prstGeom prst="rect">
            <a:avLst/>
          </a:prstGeom>
          <a:ln w="0">
            <a:noFill/>
          </a:ln>
        </p:spPr>
      </p:pic>
      <p:sp>
        <p:nvSpPr>
          <p:cNvPr id="141" name="Дата 7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6707-7C5D-46E3-832E-1D0F7A0B6A04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42" name="Номер слайда 8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44E6-2938-41DD-8693-22C1FD4A5982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43" name="Нижний колонтитул 9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ланируют строить солнечную электростанцию в Кисловодс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Содержимое 3" descr="s-332.jpg"/>
          <p:cNvPicPr/>
          <p:nvPr/>
        </p:nvPicPr>
        <p:blipFill>
          <a:blip r:embed="rId1"/>
          <a:stretch/>
        </p:blipFill>
        <p:spPr>
          <a:xfrm>
            <a:off x="785880" y="1000080"/>
            <a:ext cx="7715160" cy="5786640"/>
          </a:xfrm>
          <a:prstGeom prst="rect">
            <a:avLst/>
          </a:prstGeom>
          <a:ln w="0">
            <a:noFill/>
          </a:ln>
        </p:spPr>
      </p:pic>
      <p:sp>
        <p:nvSpPr>
          <p:cNvPr id="146" name="Дата 4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0538-9292-4100-AD99-40BD21B72DD3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A127-75D2-4D6E-A73B-0395AC24A5E2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48" name="Нижний колонтитул 6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6760" y="318960"/>
            <a:ext cx="757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облемы добывающих отрасл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87d"/>
                </a:solidFill>
                <a:latin typeface="Verdana"/>
              </a:rPr>
              <a:t>1. При добыче теряется огромное количество основного сырья6 20% железной руды, 25-30% фосфатов. В лесной промышленности ежегодно заготавливается 0,5 млрд.биологической массы. Из них только 25% идет в производство. Не используется хвоя, кора, сучья.</a:t>
            </a:r>
            <a:endParaRPr b="0" lang="en-US" sz="2400" spc="-1" strike="noStrike">
              <a:solidFill>
                <a:srgbClr val="23387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387d"/>
                </a:solidFill>
                <a:latin typeface="Verdana"/>
              </a:rPr>
              <a:t>2. Слабое использование вторичных ресурсов. Не увеличивается объем используемой зоны тепловых электростанций. Мало растет потребление макулатуры, а удельный вес используемого металлолома сократился и составляет 21%.</a:t>
            </a:r>
            <a:endParaRPr b="0" lang="en-US" sz="24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51" name="Дата 3"/>
          <p:cNvSpPr/>
          <p:nvPr/>
        </p:nvSpPr>
        <p:spPr>
          <a:xfrm>
            <a:off x="457200" y="6400800"/>
            <a:ext cx="26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88AB-713E-4430-9513-34143681B4C3}" type="datetime">
              <a:rPr b="1" lang="ru-RU" sz="1000" spc="-1" strike="noStrike">
                <a:solidFill>
                  <a:srgbClr val="23387d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3657600" y="6386400"/>
            <a:ext cx="2133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AEB8-413B-4C82-88E2-62F390FBCB49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53" name="Нижний колонтитул 5"/>
          <p:cNvSpPr/>
          <p:nvPr/>
        </p:nvSpPr>
        <p:spPr>
          <a:xfrm>
            <a:off x="59436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3387d"/>
                </a:solidFill>
                <a:latin typeface="Verdana"/>
              </a:rPr>
              <a:t>Богуцкая Галина Сергеевна</a:t>
            </a:r>
            <a:endParaRPr b="0" lang="en-US" sz="1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гуцкая Г.С.</dc:creator>
  <dc:description/>
  <dc:language>en-US</dc:language>
  <cp:lastModifiedBy>Admin</cp:lastModifiedBy>
  <dcterms:modified xsi:type="dcterms:W3CDTF">2010-05-04T08:39:19Z</dcterms:modified>
  <cp:revision>22</cp:revision>
  <dc:subject/>
  <dc:title>Слайд 1</dc:title>
</cp:coreProperties>
</file>