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D813-1CED-4DB3-BD5E-B5CD52D2C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CA64-54AE-46E4-9D8D-FB9536DA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63B2-7AAE-4D09-9FAF-5EED0E5B0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05DB-769A-4CA5-A0EB-5706D5ED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866A-F59C-4DF9-9FC3-A3ACB65E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6FDF-EBEC-48BD-8AEB-C05CED1A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61B5-753A-4A85-B3E9-DA7CD756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72AB-6DD4-4854-BA23-78D29D3A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3FF3-0EF7-4084-97EC-87FBD69C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9D3F-70C7-46BC-AE66-A2B05A4F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CBEA-8F41-4D13-98DD-46ED0DE9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6721-0DB0-4430-8E01-04389AF5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1183-73B2-4237-8EA6-2D199AC3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2D49-F1B4-4B97-9BB2-50D9A86F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5EE8-0F8F-47E6-BCD5-1195E8CF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9E92-EDF4-420B-B86B-4297709E8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6E75-C88F-4C27-9B2E-1EDAAD936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3A26-E541-457E-9E45-E7A5F904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3168-5720-41FA-96B8-A3B52575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119D-4A03-4166-9CAB-1DAB6AB6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BF37-636A-4278-B98A-339BBA24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69EA-35D6-476D-9A79-9DF979EB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7B5C-0915-477B-A211-0CCEBBAC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9E74-8A23-43B9-8FAF-166A92E3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B22D-FBA0-4781-A302-4BBE3B7B080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30CE-D09A-4EC2-B752-196E244F8A35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3"/>
          <p:cNvSpPr/>
          <p:nvPr/>
        </p:nvSpPr>
        <p:spPr>
          <a:xfrm>
            <a:off x="5076720" y="4941720"/>
            <a:ext cx="367200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Arial"/>
              </a:rPr>
              <a:t>ГБОУ СКОШИ </a:t>
            </a:r>
            <a:r>
              <a:rPr b="1" i="1" lang="en-US" sz="1800" spc="-1" strike="noStrike">
                <a:solidFill>
                  <a:srgbClr val="7030a0"/>
                </a:solidFill>
                <a:latin typeface="Arial"/>
              </a:rPr>
              <a:t>VIII</a:t>
            </a:r>
            <a:r>
              <a:rPr b="1" i="1" lang="ru-RU" sz="1800" spc="-1" strike="noStrike">
                <a:solidFill>
                  <a:srgbClr val="7030a0"/>
                </a:solidFill>
                <a:latin typeface="Arial"/>
              </a:rPr>
              <a:t> вида № 79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Arial"/>
              </a:rPr>
              <a:t>Тураносова Е.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Прямоугольник 4"/>
          <p:cNvSpPr/>
          <p:nvPr/>
        </p:nvSpPr>
        <p:spPr>
          <a:xfrm>
            <a:off x="500040" y="692280"/>
            <a:ext cx="81043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Arial"/>
              </a:rPr>
              <a:t>Новогодняя игрушка.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Прямоугольник 5" descr=""/>
          <p:cNvPicPr/>
          <p:nvPr/>
        </p:nvPicPr>
        <p:blipFill>
          <a:blip r:embed="rId2"/>
          <a:stretch/>
        </p:blipFill>
        <p:spPr>
          <a:xfrm>
            <a:off x="5016600" y="3846600"/>
            <a:ext cx="2103480" cy="8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Склей низ из 5 деталей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Picture 4" descr="онрг"/>
          <p:cNvPicPr/>
          <p:nvPr/>
        </p:nvPicPr>
        <p:blipFill>
          <a:blip r:embed="rId2"/>
          <a:stretch/>
        </p:blipFill>
        <p:spPr>
          <a:xfrm>
            <a:off x="1258920" y="1700280"/>
            <a:ext cx="6508800" cy="43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59920"/>
            <a:ext cx="8529480" cy="11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Склей боковину из 10 деталей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748720" y="1844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6" name="Picture 4" descr="рпн"/>
          <p:cNvPicPr/>
          <p:nvPr/>
        </p:nvPicPr>
        <p:blipFill>
          <a:blip r:embed="rId2"/>
          <a:stretch/>
        </p:blipFill>
        <p:spPr>
          <a:xfrm>
            <a:off x="1042920" y="1989000"/>
            <a:ext cx="6735960" cy="446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860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Все детали соедини вместе клеем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8920" y="69228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Picture 4" descr="novogodnij_sharik_iz_bumagi_5"/>
          <p:cNvPicPr/>
          <p:nvPr/>
        </p:nvPicPr>
        <p:blipFill>
          <a:blip r:embed="rId2"/>
          <a:stretch/>
        </p:blipFill>
        <p:spPr>
          <a:xfrm>
            <a:off x="1042920" y="1628640"/>
            <a:ext cx="676908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05176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Arial"/>
              </a:rPr>
              <a:t>Порядок выполнения работ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3" name="Picture 4" descr="attachment"/>
          <p:cNvPicPr/>
          <p:nvPr/>
        </p:nvPicPr>
        <p:blipFill>
          <a:blip r:embed="rId2"/>
          <a:stretch/>
        </p:blipFill>
        <p:spPr>
          <a:xfrm>
            <a:off x="250920" y="1123920"/>
            <a:ext cx="2952720" cy="2521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novogodnij_sharik_iz_bumagi_8"/>
          <p:cNvPicPr/>
          <p:nvPr/>
        </p:nvPicPr>
        <p:blipFill>
          <a:blip r:embed="rId3"/>
          <a:stretch/>
        </p:blipFill>
        <p:spPr>
          <a:xfrm>
            <a:off x="3635280" y="1125360"/>
            <a:ext cx="2881440" cy="26481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онрг"/>
          <p:cNvPicPr/>
          <p:nvPr/>
        </p:nvPicPr>
        <p:blipFill>
          <a:blip r:embed="rId4"/>
          <a:stretch/>
        </p:blipFill>
        <p:spPr>
          <a:xfrm>
            <a:off x="6875640" y="2421000"/>
            <a:ext cx="1512720" cy="1334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онрг"/>
          <p:cNvPicPr/>
          <p:nvPr/>
        </p:nvPicPr>
        <p:blipFill>
          <a:blip r:embed="rId5"/>
          <a:stretch/>
        </p:blipFill>
        <p:spPr>
          <a:xfrm>
            <a:off x="6875640" y="1060560"/>
            <a:ext cx="1512720" cy="1336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рпн"/>
          <p:cNvPicPr/>
          <p:nvPr/>
        </p:nvPicPr>
        <p:blipFill>
          <a:blip r:embed="rId6"/>
          <a:stretch/>
        </p:blipFill>
        <p:spPr>
          <a:xfrm>
            <a:off x="395280" y="3860640"/>
            <a:ext cx="3745080" cy="2791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novogodnij_sharik_iz_bumagi_5"/>
          <p:cNvPicPr/>
          <p:nvPr/>
        </p:nvPicPr>
        <p:blipFill>
          <a:blip r:embed="rId7"/>
          <a:stretch/>
        </p:blipFill>
        <p:spPr>
          <a:xfrm>
            <a:off x="4716360" y="3933720"/>
            <a:ext cx="3743280" cy="27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8529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Критерии выполненных работ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26920" y="1598760"/>
            <a:ext cx="70581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авильность выполненной работы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ккуратность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стетичность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кономное расходование бумаг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мение сотрудничать, работать в коллектив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</a:t>
            </a:r>
            <a:r>
              <a:rPr b="1" i="1" lang="ru-RU" sz="4000" spc="-1" strike="noStrike">
                <a:solidFill>
                  <a:srgbClr val="0070c0"/>
                </a:solidFill>
                <a:latin typeface="Arial"/>
              </a:rPr>
              <a:t>Спасибо за урок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712800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Тема: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Новогодняя игрушка. </a:t>
            </a:r>
            <a:br>
              <a:rPr sz="2800"/>
            </a:b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             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Цель:</a:t>
            </a:r>
            <a:r>
              <a:rPr b="1" i="1" lang="ru-RU" sz="36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Работа с бумагой и картоном. 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2"/>
          <a:stretch/>
        </p:blipFill>
        <p:spPr>
          <a:xfrm>
            <a:off x="2124000" y="2997360"/>
            <a:ext cx="4216320" cy="31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УГАДАЙ пословицы: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5201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елу время, а потехе … 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5201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ез труда не вынешь и рыбку… 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5201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емлю красит солнце, а человека…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765000"/>
            <a:ext cx="852948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</a:t>
            </a:r>
            <a:r>
              <a:rPr b="1" i="1" lang="ru-RU" sz="3600" spc="-1" strike="noStrike">
                <a:solidFill>
                  <a:srgbClr val="7030a0"/>
                </a:solidFill>
                <a:latin typeface="Arial"/>
              </a:rPr>
              <a:t>В России обычай отмечать</a:t>
            </a:r>
            <a:br>
              <a:rPr sz="3600"/>
            </a:br>
            <a:r>
              <a:rPr b="1" i="1" lang="ru-RU" sz="3600" spc="-1" strike="noStrike">
                <a:solidFill>
                  <a:srgbClr val="7030a0"/>
                </a:solidFill>
                <a:latin typeface="Arial"/>
              </a:rPr>
              <a:t> Новый год ввел царь Петр </a:t>
            </a:r>
            <a:r>
              <a:rPr b="1" i="1" lang="en-US" sz="3600" spc="-1" strike="noStrike">
                <a:solidFill>
                  <a:srgbClr val="7030a0"/>
                </a:solidFill>
                <a:latin typeface="Arial"/>
              </a:rPr>
              <a:t>I</a:t>
            </a:r>
            <a:r>
              <a:rPr b="1" i="1" lang="ru-RU" sz="3600" spc="-1" strike="noStrike">
                <a:solidFill>
                  <a:srgbClr val="7030a0"/>
                </a:solidFill>
                <a:latin typeface="Arial"/>
              </a:rPr>
              <a:t> </a:t>
            </a:r>
            <a:br>
              <a:rPr sz="3600"/>
            </a:br>
            <a:r>
              <a:rPr b="1" i="1" lang="ru-RU" sz="3600" spc="-1" strike="noStrike">
                <a:solidFill>
                  <a:srgbClr val="7030a0"/>
                </a:solidFill>
                <a:latin typeface="Arial"/>
              </a:rPr>
              <a:t>в 1700г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2"/>
          <a:stretch/>
        </p:blipFill>
        <p:spPr>
          <a:xfrm>
            <a:off x="1547640" y="2565360"/>
            <a:ext cx="592164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53272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</a:t>
            </a: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Первая елочная игрушка,      стеклянный шар, появилась </a:t>
            </a:r>
            <a:br>
              <a:rPr sz="4000"/>
            </a:b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в 16 век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2"/>
          <a:stretch/>
        </p:blipFill>
        <p:spPr>
          <a:xfrm>
            <a:off x="5508720" y="2133720"/>
            <a:ext cx="3456000" cy="2879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"/>
          <p:cNvPicPr/>
          <p:nvPr/>
        </p:nvPicPr>
        <p:blipFill>
          <a:blip r:embed="rId3"/>
          <a:stretch/>
        </p:blipFill>
        <p:spPr>
          <a:xfrm>
            <a:off x="2340000" y="3716280"/>
            <a:ext cx="3840120" cy="2881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"/>
          <p:cNvPicPr/>
          <p:nvPr/>
        </p:nvPicPr>
        <p:blipFill>
          <a:blip r:embed="rId4"/>
          <a:stretch/>
        </p:blipFill>
        <p:spPr>
          <a:xfrm>
            <a:off x="179280" y="2060640"/>
            <a:ext cx="3024360" cy="2268360"/>
          </a:xfrm>
          <a:prstGeom prst="rect">
            <a:avLst/>
          </a:prstGeom>
          <a:ln w="0">
            <a:noFill/>
          </a:ln>
        </p:spPr>
      </p:pic>
    </p:spTree>
  </p:cSld>
  <p:transition spd="med" advTm="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24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Материалы и инструмент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старые открытк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цветная бумаг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шаблон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простой карандаш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клей, кисточ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ножниц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434880" y="44280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179280" y="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 flipH="1">
            <a:off x="2516040" y="189000"/>
            <a:ext cx="69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650880" y="65880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3534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7030a0"/>
                </a:solidFill>
                <a:latin typeface="Arial"/>
              </a:rPr>
              <a:t>Порядок выполнения работы: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3864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Обведи  20 деталей по шаблону, вырежи их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Picture 5" descr="attachment"/>
          <p:cNvPicPr/>
          <p:nvPr/>
        </p:nvPicPr>
        <p:blipFill>
          <a:blip r:embed="rId2"/>
          <a:stretch/>
        </p:blipFill>
        <p:spPr>
          <a:xfrm>
            <a:off x="1258920" y="2781360"/>
            <a:ext cx="532116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53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Наложи треугольник на круг и загни края, чтобы в середине получился треугольник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57520" y="1483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Picture 4" descr="novogodnij_sharik_iz_bumagi_8"/>
          <p:cNvPicPr/>
          <p:nvPr/>
        </p:nvPicPr>
        <p:blipFill>
          <a:blip r:embed="rId2"/>
          <a:stretch/>
        </p:blipFill>
        <p:spPr>
          <a:xfrm>
            <a:off x="1116000" y="1916280"/>
            <a:ext cx="6767640" cy="46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31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Arial"/>
              </a:rPr>
              <a:t>Склей верх из 5 деталей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160" y="1484280"/>
            <a:ext cx="71168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Picture 4" descr="онрг"/>
          <p:cNvPicPr/>
          <p:nvPr/>
        </p:nvPicPr>
        <p:blipFill>
          <a:blip r:embed="rId2"/>
          <a:stretch/>
        </p:blipFill>
        <p:spPr>
          <a:xfrm>
            <a:off x="1258920" y="1628640"/>
            <a:ext cx="6472080" cy="4340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1:59:23Z</dcterms:created>
  <dc:creator>саня</dc:creator>
  <dc:description/>
  <dc:language>en-US</dc:language>
  <cp:lastModifiedBy>Екатерина</cp:lastModifiedBy>
  <dcterms:modified xsi:type="dcterms:W3CDTF">2013-04-03T07:36:44Z</dcterms:modified>
  <cp:revision>17</cp:revision>
  <dc:subject/>
  <dc:title>Тема: Работа с бумагой и                       картоном. Новогодняя игрушка.</dc:title>
</cp:coreProperties>
</file>