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FFA4-E8A5-4D13-9BFF-533E516A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3D2-8793-430A-B20A-5696EDDA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FC36-7591-440B-A705-584D6FF6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999-3C44-4CFC-9B86-EB427F80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34F8-CAC8-4236-89F5-03AA2F40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5163-D083-46FD-AF7B-4962D021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C344-C5B5-438A-9587-885E606E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8FA3-48F7-4749-B529-C87C6567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A0D3-6E8A-40A2-BCCC-CA4546E2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8A4D-6E6A-4052-A77A-51D0E531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BC8C-AA49-4B77-B873-300D38B4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48DF-3777-48F5-9BBD-F19D0A84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2819-B4FC-4784-B814-09022B37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CC30-F215-42D9-B304-FB932156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DD52-9B1D-454E-AAC8-C679D68E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93D1-4A40-4352-9F19-0D9384C9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5084-513E-4172-A8CE-DB5251F2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C75-040E-4436-ACD7-65D92A1E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201C-F631-4181-8029-9F261BE1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5AD-4D72-4275-A92C-800F2647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AFBB-29D1-4854-A1CD-69168FE1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13E-30C7-418B-A209-EA181F2B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66AD-9870-4C44-88E6-DB94EE6F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0A7-B3EA-49EB-AB7C-F5FAA4A6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D31A-4025-45F3-A728-FF46FE4460A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D51C-7226-4FB2-9B2E-784D2A3ABF81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3"/>
          <p:cNvSpPr/>
          <p:nvPr/>
        </p:nvSpPr>
        <p:spPr>
          <a:xfrm>
            <a:off x="5076720" y="4941720"/>
            <a:ext cx="367200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ГБОУ СКОШИ </a:t>
            </a:r>
            <a:r>
              <a:rPr b="1" i="1" lang="en-US" sz="1800" spc="-1" strike="noStrike">
                <a:solidFill>
                  <a:srgbClr val="7030a0"/>
                </a:solidFill>
                <a:latin typeface="Arial"/>
              </a:rPr>
              <a:t>VIII</a:t>
            </a: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 вида № 79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Тураносова Е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Прямоугольник 4"/>
          <p:cNvSpPr/>
          <p:nvPr/>
        </p:nvSpPr>
        <p:spPr>
          <a:xfrm>
            <a:off x="500040" y="692280"/>
            <a:ext cx="81043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Arial"/>
              </a:rPr>
              <a:t>Новогодняя игрушка.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Прямоугольник 5" descr=""/>
          <p:cNvPicPr/>
          <p:nvPr/>
        </p:nvPicPr>
        <p:blipFill>
          <a:blip r:embed="rId2"/>
          <a:stretch/>
        </p:blipFill>
        <p:spPr>
          <a:xfrm>
            <a:off x="5016600" y="3846600"/>
            <a:ext cx="210348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Склей низ из 5 деталей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Picture 4" descr="онрг"/>
          <p:cNvPicPr/>
          <p:nvPr/>
        </p:nvPicPr>
        <p:blipFill>
          <a:blip r:embed="rId2"/>
          <a:stretch/>
        </p:blipFill>
        <p:spPr>
          <a:xfrm>
            <a:off x="1258920" y="1700280"/>
            <a:ext cx="6508800" cy="43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59920"/>
            <a:ext cx="8529480" cy="11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Склей боковину из 10 детале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748720" y="1844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Picture 4" descr="рпн"/>
          <p:cNvPicPr/>
          <p:nvPr/>
        </p:nvPicPr>
        <p:blipFill>
          <a:blip r:embed="rId2"/>
          <a:stretch/>
        </p:blipFill>
        <p:spPr>
          <a:xfrm>
            <a:off x="1042920" y="1989000"/>
            <a:ext cx="6735960" cy="44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6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Все детали соедини вместе клеем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Picture 4" descr="novogodnij_sharik_iz_bumagi_5"/>
          <p:cNvPicPr/>
          <p:nvPr/>
        </p:nvPicPr>
        <p:blipFill>
          <a:blip r:embed="rId2"/>
          <a:stretch/>
        </p:blipFill>
        <p:spPr>
          <a:xfrm>
            <a:off x="1042920" y="1628640"/>
            <a:ext cx="676908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05176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Порядок выполнения работ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3" name="Picture 4" descr="attachment"/>
          <p:cNvPicPr/>
          <p:nvPr/>
        </p:nvPicPr>
        <p:blipFill>
          <a:blip r:embed="rId2"/>
          <a:stretch/>
        </p:blipFill>
        <p:spPr>
          <a:xfrm>
            <a:off x="250920" y="1123920"/>
            <a:ext cx="2952720" cy="2521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novogodnij_sharik_iz_bumagi_8"/>
          <p:cNvPicPr/>
          <p:nvPr/>
        </p:nvPicPr>
        <p:blipFill>
          <a:blip r:embed="rId3"/>
          <a:stretch/>
        </p:blipFill>
        <p:spPr>
          <a:xfrm>
            <a:off x="3635280" y="1125360"/>
            <a:ext cx="2881440" cy="2648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онрг"/>
          <p:cNvPicPr/>
          <p:nvPr/>
        </p:nvPicPr>
        <p:blipFill>
          <a:blip r:embed="rId4"/>
          <a:stretch/>
        </p:blipFill>
        <p:spPr>
          <a:xfrm>
            <a:off x="6875640" y="2421000"/>
            <a:ext cx="1512720" cy="1334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онрг"/>
          <p:cNvPicPr/>
          <p:nvPr/>
        </p:nvPicPr>
        <p:blipFill>
          <a:blip r:embed="rId5"/>
          <a:stretch/>
        </p:blipFill>
        <p:spPr>
          <a:xfrm>
            <a:off x="6875640" y="1060560"/>
            <a:ext cx="1512720" cy="1336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рпн"/>
          <p:cNvPicPr/>
          <p:nvPr/>
        </p:nvPicPr>
        <p:blipFill>
          <a:blip r:embed="rId6"/>
          <a:stretch/>
        </p:blipFill>
        <p:spPr>
          <a:xfrm>
            <a:off x="395280" y="3860640"/>
            <a:ext cx="3745080" cy="2791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novogodnij_sharik_iz_bumagi_5"/>
          <p:cNvPicPr/>
          <p:nvPr/>
        </p:nvPicPr>
        <p:blipFill>
          <a:blip r:embed="rId7"/>
          <a:stretch/>
        </p:blipFill>
        <p:spPr>
          <a:xfrm>
            <a:off x="4716360" y="3933720"/>
            <a:ext cx="3743280" cy="27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52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Критерии выполненных работ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920" y="1598760"/>
            <a:ext cx="70581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авильность выполненной работы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ккуратность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стетичность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кономное расходование бумаг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мение сотрудничать, работать в коллектив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Спасибо за уро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7128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Тема: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Новогодняя игрушка. 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            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Цель:</a:t>
            </a: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Работа с бумагой и картоном. 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2"/>
          <a:stretch/>
        </p:blipFill>
        <p:spPr>
          <a:xfrm>
            <a:off x="2124000" y="2997360"/>
            <a:ext cx="421632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УГАДАЙ пословицы: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5201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елу время, а потехе …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5201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ез труда не вынешь и рыбку…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5201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емлю красит солнце, а человека…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765000"/>
            <a:ext cx="852948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В России обычай отмечать</a:t>
            </a:r>
            <a:br>
              <a:rPr sz="3600"/>
            </a:b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 Новый год ввел царь Петр </a:t>
            </a:r>
            <a:r>
              <a:rPr b="1" i="1" lang="en-US" sz="3600" spc="-1" strike="noStrike">
                <a:solidFill>
                  <a:srgbClr val="7030a0"/>
                </a:solidFill>
                <a:latin typeface="Arial"/>
              </a:rPr>
              <a:t>I</a:t>
            </a: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в 1700г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1547640" y="2565360"/>
            <a:ext cx="59216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5327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Первая елочная игрушка,      стеклянный шар, появилась </a:t>
            </a: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в 16 век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3456000" cy="2879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"/>
          <p:cNvPicPr/>
          <p:nvPr/>
        </p:nvPicPr>
        <p:blipFill>
          <a:blip r:embed="rId3"/>
          <a:stretch/>
        </p:blipFill>
        <p:spPr>
          <a:xfrm>
            <a:off x="2340000" y="3716280"/>
            <a:ext cx="3840120" cy="2881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4"/>
          <a:stretch/>
        </p:blipFill>
        <p:spPr>
          <a:xfrm>
            <a:off x="179280" y="2060640"/>
            <a:ext cx="3024360" cy="2268360"/>
          </a:xfrm>
          <a:prstGeom prst="rect">
            <a:avLst/>
          </a:prstGeom>
          <a:ln w="0">
            <a:noFill/>
          </a:ln>
        </p:spPr>
      </p:pic>
    </p:spTree>
  </p:cSld>
  <p:transition spd="med" advTm="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24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Материалы и инструмент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старые открыт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цветная бумаг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шаблон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простой карандаш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клей, кисточ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ножниц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434880" y="4428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79280" y="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 flipH="1">
            <a:off x="2516040" y="189000"/>
            <a:ext cx="69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650880" y="6588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353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Порядок выполнения работы: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3864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Обведи  20 деталей по шаблону, вырежи и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5" descr="attachment"/>
          <p:cNvPicPr/>
          <p:nvPr/>
        </p:nvPicPr>
        <p:blipFill>
          <a:blip r:embed="rId2"/>
          <a:stretch/>
        </p:blipFill>
        <p:spPr>
          <a:xfrm>
            <a:off x="1258920" y="2781360"/>
            <a:ext cx="532116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Наложи треугольник на круг и загни края, чтобы в середине получился треугольник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5752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4" descr="novogodnij_sharik_iz_bumagi_8"/>
          <p:cNvPicPr/>
          <p:nvPr/>
        </p:nvPicPr>
        <p:blipFill>
          <a:blip r:embed="rId2"/>
          <a:stretch/>
        </p:blipFill>
        <p:spPr>
          <a:xfrm>
            <a:off x="1116000" y="1916280"/>
            <a:ext cx="6767640" cy="46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31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Склей верх из 5 деталей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160" y="1484280"/>
            <a:ext cx="71168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4" descr="онрг"/>
          <p:cNvPicPr/>
          <p:nvPr/>
        </p:nvPicPr>
        <p:blipFill>
          <a:blip r:embed="rId2"/>
          <a:stretch/>
        </p:blipFill>
        <p:spPr>
          <a:xfrm>
            <a:off x="1258920" y="1628640"/>
            <a:ext cx="6472080" cy="4340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1:59:23Z</dcterms:created>
  <dc:creator>саня</dc:creator>
  <dc:description/>
  <dc:language>en-US</dc:language>
  <cp:lastModifiedBy>Екатерина</cp:lastModifiedBy>
  <dcterms:modified xsi:type="dcterms:W3CDTF">2013-04-03T07:36:44Z</dcterms:modified>
  <cp:revision>17</cp:revision>
  <dc:subject/>
  <dc:title>Тема: Работа с бумагой и                       картоном. Новогодняя игрушка.</dc:title>
</cp:coreProperties>
</file>