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.jpeg" ContentType="image/jpeg"/>
  <Override PartName="/ppt/media/image7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E2D5-9611-4CB8-94CA-5EC8D9C54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2FFC-49FB-4935-988D-4DE70CB9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AFB1-2292-4594-A454-89CDAEC22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0F5E-7AA2-40AA-A314-B8E3B7A12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4837-40D6-4778-A7F2-CAF50AE1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05B0-29EC-419E-9EE9-8EF46006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B4FB-9329-4B55-8991-271ACE2C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6A27-1043-4F4A-8BAC-62EC4712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5724-2DDC-479B-BD0B-DAB825A3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9DE0-69E7-41E4-ABE3-B09BAD0B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DB82-D2C2-4455-9FE2-04024B33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778D-D865-4E04-B9D7-1A2143D1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ff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2154-B16A-4232-9DDD-CD4116D42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Увеличение чис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4425d"/>
                </a:solidFill>
                <a:latin typeface="Calibri"/>
              </a:rPr>
              <a:t>Математ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4425d"/>
                </a:solidFill>
                <a:latin typeface="Calibri"/>
              </a:rPr>
              <a:t>1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2"/>
          <p:cNvSpPr/>
          <p:nvPr/>
        </p:nvSpPr>
        <p:spPr>
          <a:xfrm>
            <a:off x="1143000" y="205740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2 + 1 + 2 + 2 + 2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3"/>
          <p:cNvSpPr/>
          <p:nvPr/>
        </p:nvSpPr>
        <p:spPr>
          <a:xfrm>
            <a:off x="1143000" y="2133720"/>
            <a:ext cx="167652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1676520" y="21337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5"/>
          <p:cNvSpPr/>
          <p:nvPr/>
        </p:nvSpPr>
        <p:spPr>
          <a:xfrm>
            <a:off x="3352680" y="1981080"/>
            <a:ext cx="2743200" cy="121932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7010280" y="21337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7" descr="дядя фёдор.png"/>
          <p:cNvPicPr/>
          <p:nvPr/>
        </p:nvPicPr>
        <p:blipFill>
          <a:blip r:embed="rId1"/>
          <a:stretch/>
        </p:blipFill>
        <p:spPr>
          <a:xfrm>
            <a:off x="2590920" y="3733920"/>
            <a:ext cx="4800600" cy="26668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8"/>
          <p:cNvSpPr/>
          <p:nvPr/>
        </p:nvSpPr>
        <p:spPr>
          <a:xfrm>
            <a:off x="2998440" y="685800"/>
            <a:ext cx="487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М о л о д ц ы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4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Увеличиваем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числа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7" descr="дядя фёдор2.jpg"/>
          <p:cNvPicPr/>
          <p:nvPr/>
        </p:nvPicPr>
        <p:blipFill>
          <a:blip r:embed="rId1"/>
          <a:stretch/>
        </p:blipFill>
        <p:spPr>
          <a:xfrm>
            <a:off x="4952880" y="3581280"/>
            <a:ext cx="1905120" cy="2819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ttp://s54.radikal.ru/i146/0912/98/11eb34eb1ce5.jpg"/>
          <p:cNvPicPr/>
          <p:nvPr/>
        </p:nvPicPr>
        <p:blipFill>
          <a:blip r:embed="rId2"/>
          <a:stretch/>
        </p:blipFill>
        <p:spPr>
          <a:xfrm>
            <a:off x="380880" y="1600200"/>
            <a:ext cx="6324840" cy="1143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76"/>
          <p:cNvSpPr/>
          <p:nvPr/>
        </p:nvSpPr>
        <p:spPr>
          <a:xfrm>
            <a:off x="2819520" y="10666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7"/>
          <p:cNvSpPr/>
          <p:nvPr/>
        </p:nvSpPr>
        <p:spPr>
          <a:xfrm>
            <a:off x="3809880" y="10666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Дуга 83"/>
          <p:cNvSpPr/>
          <p:nvPr/>
        </p:nvSpPr>
        <p:spPr>
          <a:xfrm>
            <a:off x="2209680" y="1676520"/>
            <a:ext cx="1524240" cy="1295280"/>
          </a:xfrm>
          <a:custGeom>
            <a:avLst/>
            <a:gdLst>
              <a:gd name="textAreaLeft" fmla="*/ 107280 w 1524240"/>
              <a:gd name="textAreaRight" fmla="*/ 1350720 w 1524240"/>
              <a:gd name="textAreaTop" fmla="*/ 0 h 1295280"/>
              <a:gd name="textAreaBottom" fmla="*/ 316080 h 1295280"/>
            </a:gdLst>
            <a:ahLst/>
            <a:rect l="textAreaLeft" t="textAreaTop" r="textAreaRight" b="textAreaBottom"/>
            <a:pathLst>
              <a:path stroke="0" w="1524000" h="1295400">
                <a:moveTo>
                  <a:pt x="107284" y="316318"/>
                </a:moveTo>
                <a:lnTo>
                  <a:pt x="107284" y="316318"/>
                </a:lnTo>
                <a:arcTo wR="762000" hR="647700" stAng="-9189235" swAng="7091863"/>
                <a:lnTo>
                  <a:pt x="762000" y="647700"/>
                </a:lnTo>
                <a:close/>
              </a:path>
              <a:path fill="none" w="1524000" h="1295400">
                <a:moveTo>
                  <a:pt x="107284" y="316318"/>
                </a:moveTo>
                <a:lnTo>
                  <a:pt x="107284" y="316318"/>
                </a:lnTo>
                <a:arcTo wR="762000" hR="647700" stAng="-9189235" swAng="7091863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Дуга 84"/>
          <p:cNvSpPr/>
          <p:nvPr/>
        </p:nvSpPr>
        <p:spPr>
          <a:xfrm>
            <a:off x="3429000" y="1752480"/>
            <a:ext cx="1523880" cy="1219320"/>
          </a:xfrm>
          <a:custGeom>
            <a:avLst/>
            <a:gdLst>
              <a:gd name="textAreaLeft" fmla="*/ 117720 w 1523880"/>
              <a:gd name="textAreaRight" fmla="*/ 1364040 w 1523880"/>
              <a:gd name="textAreaTop" fmla="*/ 0 h 1219320"/>
              <a:gd name="textAreaBottom" fmla="*/ 283680 h 1219320"/>
            </a:gdLst>
            <a:ahLst/>
            <a:rect l="textAreaLeft" t="textAreaTop" r="textAreaRight" b="textAreaBottom"/>
            <a:pathLst>
              <a:path stroke="0" w="1524000" h="1219200">
                <a:moveTo>
                  <a:pt x="118058" y="283672"/>
                </a:moveTo>
                <a:lnTo>
                  <a:pt x="118058" y="283672"/>
                </a:lnTo>
                <a:arcTo wR="762000" hR="609600" stAng="-9189239" swAng="7278765"/>
                <a:lnTo>
                  <a:pt x="762000" y="609600"/>
                </a:lnTo>
                <a:close/>
              </a:path>
              <a:path fill="none" w="1524000" h="1219200">
                <a:moveTo>
                  <a:pt x="118058" y="283672"/>
                </a:moveTo>
                <a:lnTo>
                  <a:pt x="118058" y="283672"/>
                </a:lnTo>
                <a:arcTo wR="762000" hR="609600" stAng="-9189239" swAng="7278765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86"/>
          <p:cNvSpPr/>
          <p:nvPr/>
        </p:nvSpPr>
        <p:spPr>
          <a:xfrm>
            <a:off x="1219320" y="44197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3 + 2 + 2     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87"/>
          <p:cNvSpPr/>
          <p:nvPr/>
        </p:nvSpPr>
        <p:spPr>
          <a:xfrm>
            <a:off x="2209680" y="4419720"/>
            <a:ext cx="205740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8"/>
          <p:cNvSpPr/>
          <p:nvPr/>
        </p:nvSpPr>
        <p:spPr>
          <a:xfrm>
            <a:off x="4952880" y="44197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1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матроскин.jpg"/>
          <p:cNvPicPr/>
          <p:nvPr/>
        </p:nvPicPr>
        <p:blipFill>
          <a:blip r:embed="rId1"/>
          <a:stretch/>
        </p:blipFill>
        <p:spPr>
          <a:xfrm>
            <a:off x="4038480" y="3200400"/>
            <a:ext cx="2590920" cy="2971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s54.radikal.ru/i146/0912/98/11eb34eb1ce5.jpg"/>
          <p:cNvPicPr/>
          <p:nvPr/>
        </p:nvPicPr>
        <p:blipFill>
          <a:blip r:embed="rId2"/>
          <a:stretch/>
        </p:blipFill>
        <p:spPr>
          <a:xfrm>
            <a:off x="380880" y="609480"/>
            <a:ext cx="6324840" cy="1143000"/>
          </a:xfrm>
          <a:prstGeom prst="rect">
            <a:avLst/>
          </a:prstGeom>
          <a:ln w="0">
            <a:noFill/>
          </a:ln>
        </p:spPr>
      </p:pic>
      <p:sp>
        <p:nvSpPr>
          <p:cNvPr id="55" name="Дуга 3"/>
          <p:cNvSpPr/>
          <p:nvPr/>
        </p:nvSpPr>
        <p:spPr>
          <a:xfrm>
            <a:off x="2971800" y="762120"/>
            <a:ext cx="609480" cy="761760"/>
          </a:xfrm>
          <a:custGeom>
            <a:avLst/>
            <a:gdLst>
              <a:gd name="textAreaLeft" fmla="*/ 2520 w 609480"/>
              <a:gd name="textAreaRight" fmla="*/ 608040 w 609480"/>
              <a:gd name="textAreaTop" fmla="*/ 0 h 761760"/>
              <a:gd name="textAreaBottom" fmla="*/ 340200 h 761760"/>
            </a:gdLst>
            <a:ahLst/>
            <a:rect l="textAreaLeft" t="textAreaTop" r="textAreaRight" b="textAreaBottom"/>
            <a:pathLst>
              <a:path stroke="0" w="609600" h="762000">
                <a:moveTo>
                  <a:pt x="2563" y="331698"/>
                </a:moveTo>
                <a:lnTo>
                  <a:pt x="2563" y="331698"/>
                </a:lnTo>
                <a:arcTo wR="304800" hR="381000" stAng="-10244118" swAng="9783985"/>
                <a:lnTo>
                  <a:pt x="304800" y="381000"/>
                </a:lnTo>
                <a:close/>
              </a:path>
              <a:path fill="none" w="609600" h="762000">
                <a:moveTo>
                  <a:pt x="2563" y="331698"/>
                </a:moveTo>
                <a:lnTo>
                  <a:pt x="2563" y="331698"/>
                </a:lnTo>
                <a:arcTo wR="304800" hR="381000" stAng="-10244118" swAng="9783985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Дуга 4"/>
          <p:cNvSpPr/>
          <p:nvPr/>
        </p:nvSpPr>
        <p:spPr>
          <a:xfrm>
            <a:off x="3505320" y="685800"/>
            <a:ext cx="1295280" cy="1219320"/>
          </a:xfrm>
          <a:custGeom>
            <a:avLst/>
            <a:gdLst>
              <a:gd name="textAreaLeft" fmla="*/ 76320 w 1295280"/>
              <a:gd name="textAreaRight" fmla="*/ 1226880 w 1295280"/>
              <a:gd name="textAreaTop" fmla="*/ 0 h 1219320"/>
              <a:gd name="textAreaBottom" fmla="*/ 336240 h 1219320"/>
            </a:gdLst>
            <a:ahLst/>
            <a:rect l="textAreaLeft" t="textAreaTop" r="textAreaRight" b="textAreaBottom"/>
            <a:pathLst>
              <a:path stroke="0" w="1295400" h="1219200">
                <a:moveTo>
                  <a:pt x="76378" y="322416"/>
                </a:moveTo>
                <a:lnTo>
                  <a:pt x="76378" y="322416"/>
                </a:lnTo>
                <a:arcTo wR="647700" hR="609600" stAng="-9198773" swAng="7682990"/>
                <a:lnTo>
                  <a:pt x="647700" y="609600"/>
                </a:lnTo>
                <a:close/>
              </a:path>
              <a:path fill="none" w="1295400" h="1219200">
                <a:moveTo>
                  <a:pt x="76378" y="322416"/>
                </a:moveTo>
                <a:lnTo>
                  <a:pt x="76378" y="322416"/>
                </a:lnTo>
                <a:arcTo wR="647700" hR="609600" stAng="-9198773" swAng="7682990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2895480" y="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3886200" y="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838080" y="40384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4 + 1 + 2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4114800" y="403848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10"/>
          <p:cNvSpPr/>
          <p:nvPr/>
        </p:nvSpPr>
        <p:spPr>
          <a:xfrm>
            <a:off x="1752480" y="3962520"/>
            <a:ext cx="1524240" cy="106668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4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шарик.jpg"/>
          <p:cNvPicPr/>
          <p:nvPr/>
        </p:nvPicPr>
        <p:blipFill>
          <a:blip r:embed="rId1"/>
          <a:stretch/>
        </p:blipFill>
        <p:spPr>
          <a:xfrm>
            <a:off x="3657600" y="3124080"/>
            <a:ext cx="2971800" cy="3048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ttp://s54.radikal.ru/i146/0912/98/11eb34eb1ce5.jpg"/>
          <p:cNvPicPr/>
          <p:nvPr/>
        </p:nvPicPr>
        <p:blipFill>
          <a:blip r:embed="rId2"/>
          <a:stretch/>
        </p:blipFill>
        <p:spPr>
          <a:xfrm>
            <a:off x="457200" y="609480"/>
            <a:ext cx="6324480" cy="1143000"/>
          </a:xfrm>
          <a:prstGeom prst="rect">
            <a:avLst/>
          </a:prstGeom>
          <a:ln w="0">
            <a:noFill/>
          </a:ln>
        </p:spPr>
      </p:pic>
      <p:sp>
        <p:nvSpPr>
          <p:cNvPr id="64" name="Дуга 3"/>
          <p:cNvSpPr/>
          <p:nvPr/>
        </p:nvSpPr>
        <p:spPr>
          <a:xfrm>
            <a:off x="3581280" y="762120"/>
            <a:ext cx="1219320" cy="914400"/>
          </a:xfrm>
          <a:custGeom>
            <a:avLst/>
            <a:gdLst>
              <a:gd name="textAreaLeft" fmla="*/ 21960 w 1219320"/>
              <a:gd name="textAreaRight" fmla="*/ 1219680 w 1219320"/>
              <a:gd name="textAreaTop" fmla="*/ 0 h 914400"/>
              <a:gd name="textAreaBottom" fmla="*/ 477000 h 914400"/>
            </a:gdLst>
            <a:ahLst/>
            <a:rect l="textAreaLeft" t="textAreaTop" r="textAreaRight" b="textAreaBottom"/>
            <a:pathLst>
              <a:path stroke="0" w="1219200" h="914400">
                <a:moveTo>
                  <a:pt x="22288" y="334703"/>
                </a:moveTo>
                <a:lnTo>
                  <a:pt x="22288" y="334703"/>
                </a:lnTo>
                <a:arcTo wR="609600" hR="457200" stAng="-10093115" swAng="10204151"/>
                <a:lnTo>
                  <a:pt x="609600" y="457200"/>
                </a:lnTo>
                <a:close/>
              </a:path>
              <a:path fill="none" w="1219200" h="914400">
                <a:moveTo>
                  <a:pt x="22288" y="334703"/>
                </a:moveTo>
                <a:lnTo>
                  <a:pt x="22288" y="334703"/>
                </a:lnTo>
                <a:arcTo wR="609600" hR="457200" stAng="-10093115" swAng="10204151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Дуга 4"/>
          <p:cNvSpPr/>
          <p:nvPr/>
        </p:nvSpPr>
        <p:spPr>
          <a:xfrm>
            <a:off x="4800600" y="762120"/>
            <a:ext cx="609480" cy="1066680"/>
          </a:xfrm>
          <a:custGeom>
            <a:avLst/>
            <a:gdLst>
              <a:gd name="textAreaLeft" fmla="*/ 25200 w 609480"/>
              <a:gd name="textAreaRight" fmla="*/ 590040 w 609480"/>
              <a:gd name="textAreaTop" fmla="*/ 0 h 1066680"/>
              <a:gd name="textAreaBottom" fmla="*/ 345600 h 1066680"/>
            </a:gdLst>
            <a:ahLst/>
            <a:rect l="textAreaLeft" t="textAreaTop" r="textAreaRight" b="textAreaBottom"/>
            <a:pathLst>
              <a:path stroke="0" w="609600" h="1066800">
                <a:moveTo>
                  <a:pt x="25257" y="320800"/>
                </a:moveTo>
                <a:lnTo>
                  <a:pt x="25257" y="320800"/>
                </a:lnTo>
                <a:arcTo wR="304800" hR="533400" stAng="-8564762" swAng="6562783"/>
                <a:lnTo>
                  <a:pt x="304800" y="533400"/>
                </a:lnTo>
                <a:close/>
              </a:path>
              <a:path fill="none" w="609600" h="1066800">
                <a:moveTo>
                  <a:pt x="25257" y="320800"/>
                </a:moveTo>
                <a:lnTo>
                  <a:pt x="25257" y="320800"/>
                </a:lnTo>
                <a:arcTo wR="304800" hR="533400" stAng="-8564762" swAng="6562783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3657600" y="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+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4876920" y="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533520" y="43434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5 + 2 + 1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8"/>
          <p:cNvSpPr/>
          <p:nvPr/>
        </p:nvSpPr>
        <p:spPr>
          <a:xfrm>
            <a:off x="1523880" y="4267080"/>
            <a:ext cx="1524240" cy="106704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3809880" y="434340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почт печкин.jpg"/>
          <p:cNvPicPr/>
          <p:nvPr/>
        </p:nvPicPr>
        <p:blipFill>
          <a:blip r:embed="rId1"/>
          <a:stretch/>
        </p:blipFill>
        <p:spPr>
          <a:xfrm>
            <a:off x="3962520" y="2590920"/>
            <a:ext cx="2361960" cy="3429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s54.radikal.ru/i146/0912/98/11eb34eb1ce5.jpg"/>
          <p:cNvPicPr/>
          <p:nvPr/>
        </p:nvPicPr>
        <p:blipFill>
          <a:blip r:embed="rId2"/>
          <a:stretch/>
        </p:blipFill>
        <p:spPr>
          <a:xfrm>
            <a:off x="457200" y="609480"/>
            <a:ext cx="6324480" cy="1143000"/>
          </a:xfrm>
          <a:prstGeom prst="rect">
            <a:avLst/>
          </a:prstGeom>
          <a:ln w="0">
            <a:noFill/>
          </a:ln>
        </p:spPr>
      </p:pic>
      <p:sp>
        <p:nvSpPr>
          <p:cNvPr id="73" name="Дуга 4"/>
          <p:cNvSpPr/>
          <p:nvPr/>
        </p:nvSpPr>
        <p:spPr>
          <a:xfrm>
            <a:off x="2438280" y="762120"/>
            <a:ext cx="685800" cy="1143000"/>
          </a:xfrm>
          <a:custGeom>
            <a:avLst/>
            <a:gdLst>
              <a:gd name="textAreaLeft" fmla="*/ 51120 w 685800"/>
              <a:gd name="textAreaRight" fmla="*/ 635760 w 685800"/>
              <a:gd name="textAreaTop" fmla="*/ 0 h 1143000"/>
              <a:gd name="textAreaBottom" fmla="*/ 273600 h 1143000"/>
            </a:gdLst>
            <a:ahLst/>
            <a:rect l="textAreaLeft" t="textAreaTop" r="textAreaRight" b="textAreaBottom"/>
            <a:pathLst>
              <a:path stroke="0" w="685800" h="1143000">
                <a:moveTo>
                  <a:pt x="51149" y="271213"/>
                </a:moveTo>
                <a:lnTo>
                  <a:pt x="51149" y="271213"/>
                </a:lnTo>
                <a:arcTo wR="342900" hR="571500" stAng="-8050438" swAng="5321302"/>
                <a:lnTo>
                  <a:pt x="342900" y="571500"/>
                </a:lnTo>
                <a:close/>
              </a:path>
              <a:path fill="none" w="685800" h="1143000">
                <a:moveTo>
                  <a:pt x="51149" y="271213"/>
                </a:moveTo>
                <a:lnTo>
                  <a:pt x="51149" y="271213"/>
                </a:lnTo>
                <a:arcTo wR="342900" hR="571500" stAng="-8050438" swAng="5321302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Дуга 5"/>
          <p:cNvSpPr/>
          <p:nvPr/>
        </p:nvSpPr>
        <p:spPr>
          <a:xfrm>
            <a:off x="3048120" y="762120"/>
            <a:ext cx="1828800" cy="761760"/>
          </a:xfrm>
          <a:custGeom>
            <a:avLst/>
            <a:gdLst>
              <a:gd name="textAreaLeft" fmla="*/ 0 w 1828800"/>
              <a:gd name="textAreaRight" fmla="*/ 1815480 w 1828800"/>
              <a:gd name="textAreaTop" fmla="*/ 0 h 761760"/>
              <a:gd name="textAreaBottom" fmla="*/ 407160 h 761760"/>
            </a:gdLst>
            <a:ahLst/>
            <a:rect l="textAreaLeft" t="textAreaTop" r="textAreaRight" b="textAreaBottom"/>
            <a:pathLst>
              <a:path stroke="0" w="1828800" h="762000">
                <a:moveTo>
                  <a:pt x="2155" y="407143"/>
                </a:moveTo>
                <a:lnTo>
                  <a:pt x="2155" y="407143"/>
                </a:lnTo>
                <a:arcTo wR="914400" hR="381000" stAng="10701508" swAng="10650565"/>
                <a:lnTo>
                  <a:pt x="914400" y="381000"/>
                </a:lnTo>
                <a:close/>
              </a:path>
              <a:path fill="none" w="1828800" h="762000">
                <a:moveTo>
                  <a:pt x="2155" y="407143"/>
                </a:moveTo>
                <a:lnTo>
                  <a:pt x="2155" y="407143"/>
                </a:lnTo>
                <a:arcTo wR="914400" hR="381000" stAng="10701508" swAng="10650565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2362320" y="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3581280" y="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+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1082160" y="4419720"/>
            <a:ext cx="286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3 + 1 +3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3962520" y="4419720"/>
            <a:ext cx="99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10"/>
          <p:cNvSpPr/>
          <p:nvPr/>
        </p:nvSpPr>
        <p:spPr>
          <a:xfrm>
            <a:off x="2057400" y="4343400"/>
            <a:ext cx="1371600" cy="106668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1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1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img-9865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2" descr="snegiri_3.jpg"/>
          <p:cNvPicPr/>
          <p:nvPr/>
        </p:nvPicPr>
        <p:blipFill>
          <a:blip r:embed="rId2"/>
          <a:stretch/>
        </p:blipFill>
        <p:spPr>
          <a:xfrm>
            <a:off x="6851520" y="2432160"/>
            <a:ext cx="2298960" cy="18716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3" descr="snegiri_3.jpg"/>
          <p:cNvPicPr/>
          <p:nvPr/>
        </p:nvPicPr>
        <p:blipFill>
          <a:blip r:embed="rId3"/>
          <a:stretch/>
        </p:blipFill>
        <p:spPr>
          <a:xfrm>
            <a:off x="3882960" y="987480"/>
            <a:ext cx="2298600" cy="18716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snegiri_3.jpg"/>
          <p:cNvPicPr/>
          <p:nvPr/>
        </p:nvPicPr>
        <p:blipFill>
          <a:blip r:embed="rId4"/>
          <a:stretch/>
        </p:blipFill>
        <p:spPr>
          <a:xfrm>
            <a:off x="4340160" y="4645080"/>
            <a:ext cx="2298600" cy="18716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5" descr="snegiri_3.jpg"/>
          <p:cNvPicPr/>
          <p:nvPr/>
        </p:nvPicPr>
        <p:blipFill>
          <a:blip r:embed="rId5"/>
          <a:stretch/>
        </p:blipFill>
        <p:spPr>
          <a:xfrm>
            <a:off x="603360" y="4992840"/>
            <a:ext cx="2298600" cy="18716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6" descr="снегирь.jpg"/>
          <p:cNvPicPr/>
          <p:nvPr/>
        </p:nvPicPr>
        <p:blipFill>
          <a:blip r:embed="rId6"/>
          <a:stretch/>
        </p:blipFill>
        <p:spPr>
          <a:xfrm>
            <a:off x="-6480" y="1974960"/>
            <a:ext cx="2024280" cy="172548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7" descr="снегирь.jpg"/>
          <p:cNvPicPr/>
          <p:nvPr/>
        </p:nvPicPr>
        <p:blipFill>
          <a:blip r:embed="rId7"/>
          <a:stretch/>
        </p:blipFill>
        <p:spPr>
          <a:xfrm>
            <a:off x="6851520" y="298440"/>
            <a:ext cx="2024280" cy="17254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8" descr="снегирь.jpg"/>
          <p:cNvPicPr/>
          <p:nvPr/>
        </p:nvPicPr>
        <p:blipFill>
          <a:blip r:embed="rId8"/>
          <a:stretch/>
        </p:blipFill>
        <p:spPr>
          <a:xfrm>
            <a:off x="1517760" y="-6480"/>
            <a:ext cx="2023920" cy="17258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9" descr="снегирь.jpg"/>
          <p:cNvPicPr/>
          <p:nvPr/>
        </p:nvPicPr>
        <p:blipFill>
          <a:blip r:embed="rId9"/>
          <a:stretch/>
        </p:blipFill>
        <p:spPr>
          <a:xfrm>
            <a:off x="2359080" y="2968560"/>
            <a:ext cx="201780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1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6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038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8 – 3 = 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вал 2"/>
          <p:cNvSpPr/>
          <p:nvPr/>
        </p:nvSpPr>
        <p:spPr>
          <a:xfrm>
            <a:off x="304920" y="106668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3"/>
          <p:cNvSpPr/>
          <p:nvPr/>
        </p:nvSpPr>
        <p:spPr>
          <a:xfrm>
            <a:off x="1295280" y="106668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4"/>
          <p:cNvSpPr/>
          <p:nvPr/>
        </p:nvSpPr>
        <p:spPr>
          <a:xfrm>
            <a:off x="2286000" y="106668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5"/>
          <p:cNvSpPr/>
          <p:nvPr/>
        </p:nvSpPr>
        <p:spPr>
          <a:xfrm>
            <a:off x="4267080" y="106668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6"/>
          <p:cNvSpPr/>
          <p:nvPr/>
        </p:nvSpPr>
        <p:spPr>
          <a:xfrm>
            <a:off x="3276720" y="106668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7"/>
          <p:cNvSpPr/>
          <p:nvPr/>
        </p:nvSpPr>
        <p:spPr>
          <a:xfrm>
            <a:off x="5257800" y="99072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8"/>
          <p:cNvSpPr/>
          <p:nvPr/>
        </p:nvSpPr>
        <p:spPr>
          <a:xfrm>
            <a:off x="6248520" y="99072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9"/>
          <p:cNvSpPr/>
          <p:nvPr/>
        </p:nvSpPr>
        <p:spPr>
          <a:xfrm>
            <a:off x="7238880" y="106668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12"/>
          <p:cNvSpPr/>
          <p:nvPr/>
        </p:nvSpPr>
        <p:spPr>
          <a:xfrm flipH="1">
            <a:off x="7238880" y="838080"/>
            <a:ext cx="990720" cy="1524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16"/>
          <p:cNvSpPr/>
          <p:nvPr/>
        </p:nvSpPr>
        <p:spPr>
          <a:xfrm flipH="1">
            <a:off x="6324480" y="762120"/>
            <a:ext cx="914400" cy="1447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24"/>
          <p:cNvSpPr/>
          <p:nvPr/>
        </p:nvSpPr>
        <p:spPr>
          <a:xfrm flipH="1">
            <a:off x="5257800" y="685800"/>
            <a:ext cx="914400" cy="1523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71800" y="5486400"/>
            <a:ext cx="2819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 +2 +1 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3" descr="почт.jpg"/>
          <p:cNvPicPr/>
          <p:nvPr/>
        </p:nvPicPr>
        <p:blipFill>
          <a:blip r:embed="rId1"/>
          <a:srcRect l="16219" t="0" r="13516" b="0"/>
          <a:stretch/>
        </p:blipFill>
        <p:spPr>
          <a:xfrm>
            <a:off x="609480" y="304920"/>
            <a:ext cx="1981440" cy="21333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4" descr="почт.jpg"/>
          <p:cNvPicPr/>
          <p:nvPr/>
        </p:nvPicPr>
        <p:blipFill>
          <a:blip r:embed="rId2"/>
          <a:srcRect l="16219" t="0" r="13516" b="0"/>
          <a:stretch/>
        </p:blipFill>
        <p:spPr>
          <a:xfrm>
            <a:off x="3352680" y="228600"/>
            <a:ext cx="1981440" cy="21337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5" descr="почт.jpg"/>
          <p:cNvPicPr/>
          <p:nvPr/>
        </p:nvPicPr>
        <p:blipFill>
          <a:blip r:embed="rId3"/>
          <a:srcRect l="16219" t="0" r="13516" b="0"/>
          <a:stretch/>
        </p:blipFill>
        <p:spPr>
          <a:xfrm>
            <a:off x="6324480" y="228600"/>
            <a:ext cx="1981440" cy="2133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6" descr="5f42eb3ba5a5.jpg"/>
          <p:cNvPicPr/>
          <p:nvPr/>
        </p:nvPicPr>
        <p:blipFill>
          <a:blip r:embed="rId4"/>
          <a:stretch/>
        </p:blipFill>
        <p:spPr>
          <a:xfrm>
            <a:off x="5638680" y="3962520"/>
            <a:ext cx="2743200" cy="26668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7" descr="i (2).jpg"/>
          <p:cNvPicPr/>
          <p:nvPr/>
        </p:nvPicPr>
        <p:blipFill>
          <a:blip r:embed="rId5"/>
          <a:stretch/>
        </p:blipFill>
        <p:spPr>
          <a:xfrm>
            <a:off x="3581280" y="2666880"/>
            <a:ext cx="1752840" cy="129060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9" descr="i (2).jpg"/>
          <p:cNvPicPr/>
          <p:nvPr/>
        </p:nvPicPr>
        <p:blipFill>
          <a:blip r:embed="rId6"/>
          <a:stretch/>
        </p:blipFill>
        <p:spPr>
          <a:xfrm>
            <a:off x="1066680" y="3581280"/>
            <a:ext cx="1905120" cy="12956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0" descr="i (2).jpg"/>
          <p:cNvPicPr/>
          <p:nvPr/>
        </p:nvPicPr>
        <p:blipFill>
          <a:blip r:embed="rId7"/>
          <a:stretch/>
        </p:blipFill>
        <p:spPr>
          <a:xfrm>
            <a:off x="457200" y="2666880"/>
            <a:ext cx="1933560" cy="12193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1" descr="i (2).jpg"/>
          <p:cNvPicPr/>
          <p:nvPr/>
        </p:nvPicPr>
        <p:blipFill>
          <a:blip r:embed="rId8"/>
          <a:stretch/>
        </p:blipFill>
        <p:spPr>
          <a:xfrm>
            <a:off x="6781680" y="2362320"/>
            <a:ext cx="1905120" cy="12952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2" descr="i (2).jpg"/>
          <p:cNvPicPr/>
          <p:nvPr/>
        </p:nvPicPr>
        <p:blipFill>
          <a:blip r:embed="rId9"/>
          <a:stretch/>
        </p:blipFill>
        <p:spPr>
          <a:xfrm>
            <a:off x="3505320" y="4114800"/>
            <a:ext cx="1904760" cy="129528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3" descr="i (2).jpg"/>
          <p:cNvPicPr/>
          <p:nvPr/>
        </p:nvPicPr>
        <p:blipFill>
          <a:blip r:embed="rId10"/>
          <a:stretch/>
        </p:blipFill>
        <p:spPr>
          <a:xfrm>
            <a:off x="533520" y="4800600"/>
            <a:ext cx="1904760" cy="12952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4"/>
          <p:cNvSpPr/>
          <p:nvPr/>
        </p:nvSpPr>
        <p:spPr>
          <a:xfrm>
            <a:off x="5715000" y="571500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334 -0.21636 L -0.69167 -0.70458 E">
                                      <p:cBhvr>
                                        <p:cTn id="30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почт.jpg"/>
          <p:cNvPicPr/>
          <p:nvPr/>
        </p:nvPicPr>
        <p:blipFill>
          <a:blip r:embed="rId1"/>
          <a:srcRect l="16219" t="0" r="13516" b="0"/>
          <a:stretch/>
        </p:blipFill>
        <p:spPr>
          <a:xfrm>
            <a:off x="533520" y="533520"/>
            <a:ext cx="1981080" cy="213336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2" descr="почт.jpg"/>
          <p:cNvPicPr/>
          <p:nvPr/>
        </p:nvPicPr>
        <p:blipFill>
          <a:blip r:embed="rId2"/>
          <a:srcRect l="16219" t="0" r="13516" b="0"/>
          <a:stretch/>
        </p:blipFill>
        <p:spPr>
          <a:xfrm>
            <a:off x="3429000" y="609480"/>
            <a:ext cx="1981080" cy="21337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3" descr="почт.jpg"/>
          <p:cNvPicPr/>
          <p:nvPr/>
        </p:nvPicPr>
        <p:blipFill>
          <a:blip r:embed="rId3"/>
          <a:srcRect l="16219" t="0" r="13516" b="0"/>
          <a:stretch/>
        </p:blipFill>
        <p:spPr>
          <a:xfrm>
            <a:off x="6248520" y="533520"/>
            <a:ext cx="1981080" cy="21333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i (2).jpg"/>
          <p:cNvPicPr/>
          <p:nvPr/>
        </p:nvPicPr>
        <p:blipFill>
          <a:blip r:embed="rId4"/>
          <a:stretch/>
        </p:blipFill>
        <p:spPr>
          <a:xfrm>
            <a:off x="838080" y="3124080"/>
            <a:ext cx="1933560" cy="12193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5" descr="i (2).jpg"/>
          <p:cNvPicPr/>
          <p:nvPr/>
        </p:nvPicPr>
        <p:blipFill>
          <a:blip r:embed="rId5"/>
          <a:stretch/>
        </p:blipFill>
        <p:spPr>
          <a:xfrm>
            <a:off x="304920" y="4724280"/>
            <a:ext cx="1933560" cy="121932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6" descr="i (2).jpg"/>
          <p:cNvPicPr/>
          <p:nvPr/>
        </p:nvPicPr>
        <p:blipFill>
          <a:blip r:embed="rId6"/>
          <a:stretch/>
        </p:blipFill>
        <p:spPr>
          <a:xfrm>
            <a:off x="3429000" y="2895480"/>
            <a:ext cx="1933560" cy="12193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7" descr="i (2).jpg"/>
          <p:cNvPicPr/>
          <p:nvPr/>
        </p:nvPicPr>
        <p:blipFill>
          <a:blip r:embed="rId7"/>
          <a:stretch/>
        </p:blipFill>
        <p:spPr>
          <a:xfrm>
            <a:off x="6934320" y="5257800"/>
            <a:ext cx="1933560" cy="121932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8" descr="i (2).jpg"/>
          <p:cNvPicPr/>
          <p:nvPr/>
        </p:nvPicPr>
        <p:blipFill>
          <a:blip r:embed="rId8"/>
          <a:stretch/>
        </p:blipFill>
        <p:spPr>
          <a:xfrm>
            <a:off x="6400800" y="4191120"/>
            <a:ext cx="1933560" cy="121896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0" descr="i (2).jpg"/>
          <p:cNvPicPr/>
          <p:nvPr/>
        </p:nvPicPr>
        <p:blipFill>
          <a:blip r:embed="rId9"/>
          <a:stretch/>
        </p:blipFill>
        <p:spPr>
          <a:xfrm>
            <a:off x="3962520" y="5257800"/>
            <a:ext cx="1933560" cy="121932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1" descr="i (2).jpg"/>
          <p:cNvPicPr/>
          <p:nvPr/>
        </p:nvPicPr>
        <p:blipFill>
          <a:blip r:embed="rId10"/>
          <a:stretch/>
        </p:blipFill>
        <p:spPr>
          <a:xfrm>
            <a:off x="3505320" y="4419720"/>
            <a:ext cx="1933560" cy="12189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2" descr="i (2).jpg"/>
          <p:cNvPicPr/>
          <p:nvPr/>
        </p:nvPicPr>
        <p:blipFill>
          <a:blip r:embed="rId11"/>
          <a:stretch/>
        </p:blipFill>
        <p:spPr>
          <a:xfrm>
            <a:off x="228600" y="2743200"/>
            <a:ext cx="1933560" cy="121932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3" descr="i (2).jpg"/>
          <p:cNvPicPr/>
          <p:nvPr/>
        </p:nvPicPr>
        <p:blipFill>
          <a:blip r:embed="rId12"/>
          <a:stretch/>
        </p:blipFill>
        <p:spPr>
          <a:xfrm>
            <a:off x="914400" y="5334120"/>
            <a:ext cx="19335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ЯКУЩИНА</dc:creator>
  <dc:description/>
  <dc:language>en-US</dc:language>
  <cp:lastModifiedBy>Admin</cp:lastModifiedBy>
  <dcterms:modified xsi:type="dcterms:W3CDTF">2013-04-04T10:34:01Z</dcterms:modified>
  <cp:revision>26</cp:revision>
  <dc:subject/>
  <dc:title>Увеличиваем числа…</dc:title>
</cp:coreProperties>
</file>