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1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D4F-4D62-4936-8CB5-115F98A9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4F9-7BD3-45EB-A4AD-FAE62F4D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B50-7990-4B68-8753-A5446EF0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2A4-A505-4878-8CAF-76CBE116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FBE2-FE96-4878-84CF-8F6C47B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3FE6-CCED-4C35-A975-7BD1ED32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B943-BEDB-445A-ABF3-9A19EE03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8907-3EBA-4B46-A666-3D7060F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EE00-FD11-469E-9E84-8828D76C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F198-9A52-4139-95BC-B4298EC8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26A4-37C4-4F14-A53C-81BD011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DD5-4CE2-45F1-9F37-99E354C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A24-5ED6-4155-93A6-FA79965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6394-47C5-483B-BD1F-D00B85A2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632B-1A75-4EF6-91D9-3D60989B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DECE-2614-43E0-8B29-FC928365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9F33-1848-4A2B-9320-61293A5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860-1D58-4FC9-9457-2624FC9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27A-43E3-45EA-BC1D-3EA5B4E1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88D-0995-4E14-B89B-4FCA7F4C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729-8372-4424-96F9-61DC53C9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CA5-9E57-48F9-AD45-BA12846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F82-AB87-4827-9F64-F728A38C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FFA-F91B-44F8-86C8-0446871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85F4-2278-4375-A9BE-7C67B7A042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726A-F089-43F6-9EF1-D01F5978D5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В поисках будущей професс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4317840"/>
            <a:ext cx="3529080" cy="2135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48360" y="3716280"/>
            <a:ext cx="202104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042920" y="260280"/>
            <a:ext cx="3745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Медицинские характерист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й уровень здоровья требуется для данной професс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медицинские противопоказания существуют для данной профе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неблагоприятные условия труда присущи данной профессии?(диагностика 9 класса «а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Психолог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акие требования предъявляет профессия к различным психологическим особенностям человек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его органам чувств, зрительному, слуховому, осязательному восприятию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двигательным качествам: силе и выносливости, скорости и точности движений, подвижност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умственным способностям: сосредоточению внимания, запоминанию, пониманию, пространственному воображению, логическим рассуждения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 чертам характера: общительности, самостоятельности, сдержанности, решительности, настойчивости, ответственности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Классификация профессий по предмету труда  /Е.А.Климов/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человек /ч – ч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техника /ч – т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природа /ч – п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знаковая система /ч – з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ловек – художественный образ /ч – х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Результаты дифференциально-диагностического опросник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68520" y="1600200"/>
            <a:ext cx="1816200" cy="2165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40240" y="1600200"/>
            <a:ext cx="2654280" cy="216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154160" y="3930480"/>
            <a:ext cx="2643120" cy="2165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513400" y="3930480"/>
            <a:ext cx="230832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- человек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57680" y="1962000"/>
            <a:ext cx="4019760" cy="37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- техник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– художественный образ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2370240"/>
            <a:ext cx="40384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Человек - природ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Ловягина Александ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11640" y="1916280"/>
            <a:ext cx="4475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Человек – знаковая систем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вкин Александ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1770120"/>
            <a:ext cx="31687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Формула выбора профессии</a:t>
            </a:r>
            <a:br>
              <a:rPr sz="2800"/>
            </a:b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Сделать правильный выбор – значит найти профессию, которая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ресна и привлекательна «ХОЧУ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оступна и посильна «МОГУ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еет спрос на рынке труда «НАДО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Цель занятия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омочь учащимся в правильном выборе профессионального пути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Задач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знакомить с технологией профессионального успех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овести до сведения учащихся результаты диагностик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ать практические рекомендации по построению дальнейшего образовательного маршру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Как выбрать профессию, чтобы потом не сожалеть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нать и очень хорошо представлять себе, чего ты хочешь от жизн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мнить, что невозможно сделать выбор раз и навсегда, что нужно быть готовым к постоянным изменения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азные пути ведут к одной и той же цели, и даже препятствия можно превратить в инструмент для тренирово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мериканский психолог Дж. Голланд считает, что каждому типу личности соответствует определённый тип профессий. Если человек выбирает профессию, соответствующую его типу личности, то он сможет достичь в ней наибольших успех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План занят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Что такое професс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Условия профессиональной трудовой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Чем профессионал отличается от любителя и дилетан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.Технологические характерис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.Классификация профессий по предмету тру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.Ответы на вопросы учащих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.Формула выбора професс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Что такое професс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ессия – это социальная характеристика человека, указывающая на его принадлежность к определённой категории людей, которые занимаются одинаковым видом трудовой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Условия профессиональной трудовой деятель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фессия характеризуется наличием определённого уровня квалификации, мастерства, умения, профессиональной подготовки, специально полученных знаний и навыков, что подтверждается аттестатами, свидетельствами, дипломами, сертификата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фессия является своего рода товаром, который человек может продавать на рынке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Чем профессионал отличается от любителя и дилетант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Профессиона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квалифицированный человек, продающий результаты своего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Дилетант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человек, характеризующийся отсутствием требуемого стандартного уровня профессиональной квалифик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Любител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человек, занимающийся  каким-либо  видом трудовой деятельности не ради заработка, а для собственного удовольств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Технолог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едмет труда (другие люди, техника, информация, искусство или природ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Цели труда (материальное производство, создание духовных ценностей, обслуживание или уход за людьми, техникой, природой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редства трудовой деятельности (ручные, механизированные, автоматизированные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рудовые опер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ействия (умственные, физические, социальные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лиматические услов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виж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абочее время (переработки и темп работы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шибки в трудовой деятельности – причины – последств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Эконом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каких отраслях используется данная професс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ов спрос на данную профессию на рынке труд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каких пределах изменяется оплата труда среди специалистов данной професс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Педагогические характеристик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требования предъявляет профессия к уровню и содержанию образован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учебные заведения осуществляют подготовку по данной професс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акие знания и навыки необходимы для успешной профессиональной деятельност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6:49:57Z</dcterms:created>
  <dc:creator>Ученик</dc:creator>
  <dc:description/>
  <dc:language>en-US</dc:language>
  <cp:lastModifiedBy>349</cp:lastModifiedBy>
  <dcterms:modified xsi:type="dcterms:W3CDTF">2013-03-28T05:24:29Z</dcterms:modified>
  <cp:revision>15</cp:revision>
  <dc:subject/>
  <dc:title>В поисках будущей профессии</dc:title>
</cp:coreProperties>
</file>