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11.png" ContentType="image/png"/>
  <Override PartName="/ppt/media/image3.wmf" ContentType="image/x-wmf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F80-BA11-4D12-9C4D-441651BC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C8F-1E45-4E5D-B922-7B0EAA5B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247-FB8C-4FA2-9AE2-35C9B530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23C-DD8B-4F02-A5C2-64F46F7C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B8B5-3372-459B-8C01-B5B5FF9C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1D06-2DFD-4C14-92BE-DF748923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5F94-CF0E-4362-BE64-EB214804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2AC9-D4B4-4976-AF7D-3BA5E391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5DD3-35EF-44B4-A708-FB9AF31F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5DA1-CC61-4075-B895-4543697A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EA2D-A917-404D-9542-6BE603F6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54C-880A-445C-96BF-E06F0296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D2C8-1410-48F4-B587-D2A0EF6D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D1FC-7DE0-4AC8-B3EA-93B4FF12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855F-C258-4E5F-AB4E-1573B4EA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DE76-7CFB-4DDB-A43F-D6516E26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0A9A-3795-4F21-80DC-9ABCDE43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C50-935F-428A-82D6-735CE378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8CD-DFD7-4454-97CD-4C215E75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CA3-D7CF-4CFD-81AA-303D5AFC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86C-6F7F-4B31-82FF-75959D70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4C1-70AC-44D4-A722-E61B7349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462-4E5E-48D6-8D45-22CA567C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E7A-4906-4F18-A101-D262A151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04B0-D01B-4DE7-B4B5-691E4DAB93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1E3B-7551-4027-ABD3-0672F65754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В поисках будущей професси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4317840"/>
            <a:ext cx="3529080" cy="2135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948360" y="3716280"/>
            <a:ext cx="2021040" cy="2637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042920" y="260280"/>
            <a:ext cx="3745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Медицинские характеристи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ой уровень здоровья требуется для данной професс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ие медицинские противопоказания существуют для данной профес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ие неблагоприятные условия труда присущи данной профессии?(диагностика 9 класса «а»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Психологические характеристик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акие требования предъявляет профессия к различным психологическим особенностям человек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 его органам чувств, зрительному, слуховому, осязательному восприятию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 двигательным качествам: силе и выносливости, скорости и точности движений, подвижност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 умственным способностям: сосредоточению внимания, запоминанию, пониманию, пространственному воображению, логическим рассуждениям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 чертам характера: общительности, самостоятельности, сдержанности, решительности, настойчивости, ответственности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Классификация профессий по предмету труда  /Е.А.Климов/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ловек – человек /ч – ч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ловек – техника /ч – т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ловек – природа /ч – п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ловек – знаковая система /ч – з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ловек – художественный образ /ч – х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Результаты дифференциально-диагностического опросник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68520" y="1600200"/>
            <a:ext cx="1816200" cy="2165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40240" y="1600200"/>
            <a:ext cx="2654280" cy="2165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154160" y="3930480"/>
            <a:ext cx="2643120" cy="2165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513400" y="3930480"/>
            <a:ext cx="230832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Человек - человек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57680" y="1962000"/>
            <a:ext cx="4019760" cy="37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Человек - техник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608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Человек – художественный образ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191628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2370240"/>
            <a:ext cx="40384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Человек - природ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Ловягина Александ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211640" y="1916280"/>
            <a:ext cx="4475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Человек – знаковая систем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вкин Александ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3280" y="1770120"/>
            <a:ext cx="31687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Формула выбора профессии</a:t>
            </a:r>
            <a:br>
              <a:rPr sz="2800"/>
            </a:b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Сделать правильный выбор – значит найти профессию, которая: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ресна и привлекательна «ХОЧУ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оступна и посильна «МОГУ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меет спрос на рынке труда «НАДО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Цель занятия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: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омочь учащимся в правильном выборе профессионального пути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Задач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знакомить с технологией профессионального успех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овести до сведения учащихся результаты диагностик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ать практические рекомендации по построению дальнейшего образовательного маршру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Как выбрать профессию, чтобы потом не сожалеть?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Знать и очень хорошо представлять себе, чего ты хочешь от жизн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нить, что невозможно сделать выбор раз и навсегда, что нужно быть готовым к постоянным изменениям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азные пути ведут к одной и той же цели, и даже препятствия можно превратить в инструмент для тренирово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мериканский психолог Дж. Голланд считает, что каждому типу личности соответствует определённый тип профессий. Если человек выбирает профессию, соответствующую его типу личности, то он сможет достичь в ней наибольших успех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План занят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Что такое профессия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Условия профессиональной трудовой деятель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Чем профессионал отличается от любителя и дилетант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.Технологические характерист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.Классификация профессий по предмету тру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.Ответы на вопросы учащих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.Формула выбора професс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Что такое професси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фессия – это социальная характеристика человека, указывающая на его принадлежность к определённой категории людей, которые занимаются одинаковым видом трудовой деяте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Условия профессиональной трудовой деятельно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фессия характеризуется наличием определённого уровня квалификации, мастерства, умения, профессиональной подготовки, специально полученных знаний и навыков, что подтверждается аттестатами, свидетельствами, дипломами, сертификат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фессия является своего рода товаром, который человек может продавать на рынке тру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Чем профессионал отличается от любителя и дилетант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Профессиона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квалифицированный человек, продающий результаты своего тру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Дилетант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человек, характеризующийся отсутствием требуемого стандартного уровня профессиональной квалифик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Любител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человек, занимающийся  каким-либо  видом трудовой деятельности не ради заработка, а для собственного удовольств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Технологические характеристик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едмет труда (другие люди, техника, информация, искусство или природа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Цели труда (материальное производство, создание духовных ценностей, обслуживание или уход за людьми, техникой, природой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редства трудовой деятельности (ручные, механизированные, автоматизированные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Трудовые опер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ействия (умственные, физические, социальные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лиматические услов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движнос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абочее время (переработки и темп работы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шибки в трудовой деятельности – причины – последств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Экономические характеристик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каких отраслях используется данная професси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ов спрос на данную профессию на рынке труд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каких пределах изменяется оплата труда среди специалистов данной професс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Педагогические характеристик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ие требования предъявляет профессия к уровню и содержанию образовани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ие учебные заведения осуществляют подготовку по данной професс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ие знания и навыки необходимы для успешной профессиональной деятельност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6:49:57Z</dcterms:created>
  <dc:creator>Ученик</dc:creator>
  <dc:description/>
  <dc:language>en-US</dc:language>
  <cp:lastModifiedBy>349</cp:lastModifiedBy>
  <dcterms:modified xsi:type="dcterms:W3CDTF">2013-03-28T05:24:29Z</dcterms:modified>
  <cp:revision>15</cp:revision>
  <dc:subject/>
  <dc:title>В поисках будущей профессии</dc:title>
</cp:coreProperties>
</file>