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263-2494-4AA4-8853-9375DDB1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DCA-99BA-4828-80FE-1514780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A13-A122-43F6-BA1F-65FC2F86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9BC-C3A5-45CE-8782-43C999FA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0DD6-C505-4D0E-8628-566DDEA3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9168-8619-4A38-9D66-F507FB38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EF31-9B5C-47E7-B97E-00F30DD5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AC55-37CF-4505-ADFB-A48E2C3F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30F3-25FA-430D-8FCA-EB1C2409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73EB-EE0A-4876-85CA-B668B1B9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2720-5854-4748-83F3-8E3E6F5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9AD-3F66-4F57-BD05-67018D72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9D13-FBC2-4D82-92F5-AC648ED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8DB3-B798-480A-93AA-09AD3B0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20A-390B-45EC-8674-782EFD13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9D84-4499-4484-8F57-BBC6A5E6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249E-E43D-406F-B856-BB0DB442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C9D-645A-4130-9058-7C934705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C57-D658-44A7-985C-E24CBFB6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935-D0D6-447B-879D-6046271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FC6-4716-4D99-8B1E-D952732B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D07-78C3-49DB-AC5E-C9D11A1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8C9-F99B-428B-AA49-D3DF81D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50F-E95D-47E5-A1EB-A5DCB06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703D-F972-4A12-9BBA-8E0D93A43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895-68F3-49F0-8E4C-9A30B7558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900igr.net/datas/nasekomye-i-ptitsy/Ptitsy-eimoj.files/0038-038-Dejstvitelno-zima-ochen-trudnoe-vremja-dlja-ptits-osobenno-esli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Pereletnye-i-zimujuschie/0012-012-Zimujuschie-ptits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ki.rdf.ru/media/upload/preview/simnie_ptis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Pereletnye-i-zimujuschie/0014-014-Djatel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66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Картинка 18 из 18"/>
          <p:cNvPicPr/>
          <p:nvPr/>
        </p:nvPicPr>
        <p:blipFill>
          <a:blip r:embed="rId1"/>
          <a:stretch/>
        </p:blipFill>
        <p:spPr>
          <a:xfrm>
            <a:off x="611280" y="333360"/>
            <a:ext cx="1428480" cy="48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997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66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4760" y="4716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Носкова г.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651640" y="3836880"/>
            <a:ext cx="2736720" cy="218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Картинка 479 из 47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то лишний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1238040" cy="1067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659640" y="177336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1428480" cy="1276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635280" y="5516640"/>
            <a:ext cx="1428840" cy="981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948360" y="4508640"/>
            <a:ext cx="1352520" cy="1428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35280" y="3500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35772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Картинка 18 из 18"/>
          <p:cNvPicPr/>
          <p:nvPr/>
        </p:nvPicPr>
        <p:blipFill>
          <a:blip r:embed="rId1"/>
          <a:stretch/>
        </p:blipFill>
        <p:spPr>
          <a:xfrm>
            <a:off x="1835280" y="3645000"/>
            <a:ext cx="532908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они остаются зимовать? Какие птицы прилетают к нам зимова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252720" y="-360"/>
            <a:ext cx="939636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имующие птицы-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, которые зимой не улетают на ю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их с осени образуется толстый слой подкожного жира, который помогает им переносить голод и хол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едлые птиц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, которые круглый год живут в одной и  местности и не улетают на зимовку так как могут найти кор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холодное время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Картинка 53 из 4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1269 из 4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то на дереве сиди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Картинка 81 из 477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Картинка 1074 из 4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Картинка 331 из 4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8:40:13Z</dcterms:created>
  <dc:creator>Nastya</dc:creator>
  <dc:description/>
  <dc:language>en-US</dc:language>
  <cp:lastModifiedBy>Nastya</cp:lastModifiedBy>
  <dcterms:modified xsi:type="dcterms:W3CDTF">2011-12-03T08:59:17Z</dcterms:modified>
  <cp:revision>5</cp:revision>
  <dc:subject/>
  <dc:title>Зимующие птицы</dc:title>
</cp:coreProperties>
</file>