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gif" ContentType="image/gif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3E0-81A3-4EF6-B8D0-DB5FCACF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1C8-1733-46AF-B2E5-1BBDB25C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6AEC-DE83-4F0D-A67B-E4B0146F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F114-962C-48C2-91D6-144C611C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CCB5-7062-4A53-B068-D4FEA266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0528-968D-4710-BEE0-A9590F6B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5E6F-C3A4-4963-8508-07A12202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71A2-EC6B-4377-9B44-C347A315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B086-7BC8-4B8C-A46A-8CB5B1ED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8C2C-A832-46A9-A087-21431D76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C76A-DA2D-4734-BE39-048F3A95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41E-3829-4B6C-887D-0D77CF82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86CF-7F57-4B6A-A9BC-039B6FB8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CA28-9E5A-4583-A2E7-04F227E1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6CF2-7AA0-4230-96EE-3FAE4E5A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D17E-31F2-416E-B394-835ECE50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981B-4FA0-4543-81BC-C59AA1A1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A63C-0197-4118-AB54-3F498F29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D71-63DE-41EF-A878-8885F102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129-1B21-4A42-9B87-63874644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EBE-B256-474F-9735-36BAEAD5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480-BE33-41FB-9F75-D55AB429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956-39A2-4293-AB00-B6D99639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2F61-8F26-4E4E-AEBE-4FFE11F0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E65E-6473-4140-A90B-E0232305E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F6EF-B788-49E0-86F4-3D02AB6F5B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900igr.net/datas/nasekomye-i-ptitsy/Ptitsy-eimoj.files/0038-038-Dejstvitelno-zima-ochen-trudnoe-vremja-dlja-ptits-osobenno-esli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900igr.net/datas/okruzhajuschij-mir/Pereletnye-i-zimujuschie/0012-012-Zimujuschie-ptitsy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iki.rdf.ru/media/upload/preview/simnie_ptisi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900igr.net/datas/okruzhajuschij-mir/Pereletnye-i-zimujuschie/0014-014-Djatel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699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66"/>
                </a:solidFill>
                <a:latin typeface="Arial"/>
              </a:rPr>
              <a:t>Зимующие птиц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Картинка 18 из 18"/>
          <p:cNvPicPr/>
          <p:nvPr/>
        </p:nvPicPr>
        <p:blipFill>
          <a:blip r:embed="rId1"/>
          <a:stretch/>
        </p:blipFill>
        <p:spPr>
          <a:xfrm>
            <a:off x="611280" y="333360"/>
            <a:ext cx="1428480" cy="485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4360" y="299736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9966"/>
                </a:solidFill>
                <a:latin typeface="Arial"/>
              </a:rPr>
              <a:t>презентац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0" y="537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4760" y="47163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Носкова г.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651640" y="3836880"/>
            <a:ext cx="2736720" cy="2184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Картинка 479 из 47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то лишний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564000" y="1341360"/>
            <a:ext cx="1238040" cy="10670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1428840" cy="990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659640" y="1773360"/>
            <a:ext cx="838080" cy="1428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611280" y="4149720"/>
            <a:ext cx="1428480" cy="1276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3635280" y="5516640"/>
            <a:ext cx="1428840" cy="9810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>
            <a:off x="6948360" y="4508640"/>
            <a:ext cx="1352520" cy="1428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635280" y="35002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3357720"/>
            <a:ext cx="115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66"/>
                </a:solidFill>
                <a:latin typeface="Arial"/>
              </a:rPr>
              <a:t>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пасиб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" descr="Картинка 18 из 18"/>
          <p:cNvPicPr/>
          <p:nvPr/>
        </p:nvPicPr>
        <p:blipFill>
          <a:blip r:embed="rId1"/>
          <a:stretch/>
        </p:blipFill>
        <p:spPr>
          <a:xfrm>
            <a:off x="1835280" y="3645000"/>
            <a:ext cx="5329080" cy="287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чему они остаются зимовать? Какие птицы прилетают к нам зимовать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252720" y="-360"/>
            <a:ext cx="9396360" cy="29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имующие птицы-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, которые зимой не улетают на ю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них с осени образуется толстый слой подкожного жира, который помогает им переносить голод и холо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едлые птицы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, которые круглый год живут в одной и  местности и не улетают на зимовку так как могут найти кор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холодное время г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Картинка 53 из 47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Картинка 1269 из 47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84240"/>
            <a:ext cx="9144000" cy="6942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то на дереве сидит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Картинка 81 из 4773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Картинка 1074 из 47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Картинка 331 из 47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8:40:13Z</dcterms:created>
  <dc:creator>Nastya</dc:creator>
  <dc:description/>
  <dc:language>en-US</dc:language>
  <cp:lastModifiedBy>Nastya</cp:lastModifiedBy>
  <dcterms:modified xsi:type="dcterms:W3CDTF">2011-12-03T08:59:17Z</dcterms:modified>
  <cp:revision>5</cp:revision>
  <dc:subject/>
  <dc:title>Зимующие птицы</dc:title>
</cp:coreProperties>
</file>