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6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dt" idx="10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ftr" idx="11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 type="sldNum" idx="12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C88727-54E8-4A54-956B-6BED244842B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728E9B-56E2-402A-A4D3-FBD8FE497FB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50A948-7AF0-4B0C-83F8-C28303E0268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1169640" y="5086080"/>
            <a:ext cx="522612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76BD9D-F94B-40A4-BEA4-7A36A0CAEC9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169640" y="5086080"/>
            <a:ext cx="522612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6918C2-83E3-4A80-BE38-6757D69BCF8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793B40-DFBF-4248-A814-8B216140BC8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1169640" y="5086080"/>
            <a:ext cx="522612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A54435-9762-4BEF-850C-9CB8496CD64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594706-6E69-4F4F-A491-42EF3C4CC07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169640" y="5086080"/>
            <a:ext cx="522612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416A59-2A7E-4E24-82F9-FBFA6F25447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1169640" y="5086080"/>
            <a:ext cx="522612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E8D8A5-7BF4-4A3D-BE8E-A95C178A3D8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1169640" y="5086080"/>
            <a:ext cx="522612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C98083-F907-44DE-BEB5-0862BBD753E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169640" y="5086080"/>
            <a:ext cx="522612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D73320-478E-43B4-9952-EE61A4B4EFE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88FF3A-061B-4F7E-93E6-2419C5A37D3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C374EE-8CB0-4592-8496-2CF77B961FD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D78A14-250F-4701-9EBF-5B4D9D1512A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4F7F31-24F1-4DD7-9367-625AFFF5988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A7CEBA-14EF-473E-92EA-EF7816322CB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A6088A-12EB-4A7C-952C-C63C3AE240D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99CA87-C17A-46BC-9D5B-CA376F7F345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80FF-DF13-4E9F-B2C4-C1C966929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5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89000" y="4710600"/>
            <a:ext cx="8475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11E2-F774-45D1-84D3-4ECBC68F5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740880" y="117360"/>
            <a:ext cx="86058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10890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4324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1089000" y="4710600"/>
            <a:ext cx="8475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5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1089000" y="4710600"/>
            <a:ext cx="8475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10890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54324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954600" y="222372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20200" y="222372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1089000" y="471060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954600" y="471060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820200" y="471060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890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324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2002-DC4F-4961-8563-EA28B6839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54600" y="222372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20200" y="222372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89000" y="471060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54600" y="471060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20200" y="471060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8C9F-5CB3-4C2E-BE51-CCD87AD25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89000" y="2223720"/>
            <a:ext cx="84758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58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40880" y="117360"/>
            <a:ext cx="86058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0890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89000" y="2223720"/>
            <a:ext cx="84758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838B-7A3B-489B-807B-6BB179C2E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4324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89000" y="4710600"/>
            <a:ext cx="8475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5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089000" y="4710600"/>
            <a:ext cx="8475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890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4324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954600" y="222372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20200" y="222372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089000" y="471060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954600" y="471060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820200" y="471060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089000" y="2223720"/>
            <a:ext cx="84758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58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58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C406-77BD-4399-9F71-AA927AB8E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740880" y="117360"/>
            <a:ext cx="86058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0890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4324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89000" y="4710600"/>
            <a:ext cx="8475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5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089000" y="4710600"/>
            <a:ext cx="8475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0890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4324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954600" y="222372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20200" y="222372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089000" y="471060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954600" y="471060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820200" y="471060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089000" y="2223720"/>
            <a:ext cx="84758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58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50A3-9C07-4CEC-9C6A-4AA315560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740880" y="117360"/>
            <a:ext cx="86058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890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4324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089000" y="4710600"/>
            <a:ext cx="8475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5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089000" y="4710600"/>
            <a:ext cx="8475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0890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4324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954600" y="222372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820200" y="222372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089000" y="471060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954600" y="471060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820200" y="471060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8762B-6475-4C69-9A6E-6C11CD177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DDBA-E13B-44E8-92AA-A3B95AEE4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089000" y="2223720"/>
            <a:ext cx="84758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3745E-20AA-4138-8DB9-7DE48BF64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58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5ECB8-359F-4CC9-8214-1588E339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37F48-F20E-468A-A204-0D2406D81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25773-D3F1-40C4-9C89-22B51E14D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740880" y="117360"/>
            <a:ext cx="86058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EB9E9-7786-497C-8BDA-771252429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0890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778B7-F9F9-436A-A950-8171CD1F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4324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DBE28-5E71-46DD-BC76-8FA968A1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089000" y="4710600"/>
            <a:ext cx="8475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26CD0-2E4C-4DE2-BF32-CC92DE06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5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1089000" y="4710600"/>
            <a:ext cx="8475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18459-49BF-4879-9CF0-0FDC282F4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0890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4324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897AD-05F1-47DC-A2C8-DADD55440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117360"/>
            <a:ext cx="86058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6598-38BE-4043-8C02-9BF212611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954600" y="222372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820200" y="222372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1089000" y="471060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954600" y="471060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820200" y="471060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76919-BFA2-46EF-9529-C82529DD8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089000" y="2223720"/>
            <a:ext cx="84758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58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740880" y="117360"/>
            <a:ext cx="86058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0890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4324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089000" y="4710600"/>
            <a:ext cx="8475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890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FF13-3314-4C4F-ACFE-4F0D7A9F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5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1089000" y="4710600"/>
            <a:ext cx="8475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0890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54324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954600" y="222372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20200" y="222372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1089000" y="471060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954600" y="471060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820200" y="471060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6C163-FC7A-4D22-828A-52199ADDC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1089000" y="2223720"/>
            <a:ext cx="84758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0B57B-586B-48C6-8421-FC6066B2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58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E3642-82CF-4965-8D3B-2D8174A13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8EAF5-7C4D-4F95-9706-5B375C7AE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6A553-F5E7-46D7-8F9E-1630303D6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740880" y="117360"/>
            <a:ext cx="86058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BBBD5-CE67-4D2F-A916-ABC8D5C90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0890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CD2BF-9B42-4FD4-B510-B397FCCF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324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1822-9E5C-4025-A736-28A22F49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4324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35A8D-2B84-488A-ACD6-E79D75DC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089000" y="4710600"/>
            <a:ext cx="8475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8A787-C7A7-4FC2-AE38-E97B0619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5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1089000" y="4710600"/>
            <a:ext cx="8475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C6CA8-3D27-49E3-8A42-EB6192F2D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0890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54324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F7B18-2086-46EB-B5BF-D8EFFF027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954600" y="222372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820200" y="222372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1089000" y="471060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954600" y="471060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820200" y="471060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E6D77-BC89-4383-859F-0912A4FF7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1089000" y="2223720"/>
            <a:ext cx="84758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58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89000" y="4710600"/>
            <a:ext cx="8475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AB53-8E39-4DBA-ABCC-24BDDFF6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740880" y="117360"/>
            <a:ext cx="86058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0890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4324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089000" y="4710600"/>
            <a:ext cx="8475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5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1089000" y="4710600"/>
            <a:ext cx="8475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0890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54324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954600" y="222372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820200" y="222372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1089000" y="471060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954600" y="471060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820200" y="471060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1089000" y="2223720"/>
            <a:ext cx="84758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58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3861F3-65B5-4AFD-93CD-294879AA57A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AutoShape 1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5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6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089000" y="2223720"/>
            <a:ext cx="84758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2"/>
          <a:stretch/>
        </p:blipFill>
        <p:spPr>
          <a:xfrm>
            <a:off x="7937640" y="6251400"/>
            <a:ext cx="1968480" cy="105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073369-07BF-4996-81BB-C5C284D9E1A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4" name="AutoShape 3"/>
          <p:cNvSpPr/>
          <p:nvPr/>
        </p:nvSpPr>
        <p:spPr>
          <a:xfrm>
            <a:off x="725400" y="7077240"/>
            <a:ext cx="93553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4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7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8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9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4F420A-6B62-4AC1-A328-E07882E6C5D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AutoShape 1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4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5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6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089000" y="2223720"/>
            <a:ext cx="84758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327" name="Picture 3" descr=""/>
          <p:cNvPicPr/>
          <p:nvPr/>
        </p:nvPicPr>
        <p:blipFill>
          <a:blip r:embed="rId2"/>
          <a:stretch/>
        </p:blipFill>
        <p:spPr>
          <a:xfrm>
            <a:off x="7937640" y="6251400"/>
            <a:ext cx="1968480" cy="105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280" y="755280"/>
            <a:ext cx="9070920" cy="459108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Дифференцированное обучение на уроках математики как средство активизации познавательной деятельност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1"/>
          <p:cNvSpPr/>
          <p:nvPr/>
        </p:nvSpPr>
        <p:spPr>
          <a:xfrm>
            <a:off x="741240" y="744480"/>
            <a:ext cx="8607600" cy="61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284c"/>
                </a:solidFill>
                <a:latin typeface="Arial"/>
                <a:ea typeface="Lucida Sans Unicode"/>
              </a:rPr>
              <a:t>3. Группа учащихся с низкими учебными способност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9284c"/>
                </a:solidFill>
                <a:latin typeface="Arial"/>
                <a:ea typeface="Lucida Sans Unicode"/>
              </a:rPr>
              <a:t> </a:t>
            </a:r>
            <a:r>
              <a:rPr b="0" lang="ru-RU" sz="3200" spc="-1" strike="noStrike">
                <a:solidFill>
                  <a:srgbClr val="99284c"/>
                </a:solidFill>
                <a:latin typeface="Arial"/>
                <a:ea typeface="Lucida Sans Unicode"/>
              </a:rPr>
              <a:t>усваивает материал после многократных упражнений и не всегда в полном объёме, выполняет задания репродуктивного характера, овладевает знаниями более длительное врем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1"/>
          <p:cNvSpPr/>
          <p:nvPr/>
        </p:nvSpPr>
        <p:spPr>
          <a:xfrm>
            <a:off x="741240" y="744480"/>
            <a:ext cx="8607600" cy="61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284c"/>
                </a:solidFill>
                <a:latin typeface="Times New Roman"/>
                <a:ea typeface="Times New Roman"/>
              </a:rPr>
              <a:t>Виды зад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99284c"/>
                </a:solidFill>
                <a:latin typeface="Times New Roman"/>
                <a:ea typeface="Times New Roman"/>
              </a:rPr>
              <a:t>1. Предварительные задания по уровню трудност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99284c"/>
                </a:solidFill>
                <a:latin typeface="Times New Roman"/>
                <a:ea typeface="Times New Roman"/>
              </a:rPr>
              <a:t>   </a:t>
            </a:r>
            <a:r>
              <a:rPr b="0" lang="ru-RU" sz="2600" spc="-1" strike="noStrike">
                <a:solidFill>
                  <a:srgbClr val="99284c"/>
                </a:solidFill>
                <a:latin typeface="Times New Roman"/>
                <a:ea typeface="Times New Roman"/>
              </a:rPr>
              <a:t>-облегчённому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99284c"/>
                </a:solidFill>
                <a:latin typeface="Times New Roman"/>
                <a:ea typeface="Times New Roman"/>
              </a:rPr>
              <a:t>   </a:t>
            </a:r>
            <a:r>
              <a:rPr b="0" lang="ru-RU" sz="2600" spc="-1" strike="noStrike">
                <a:solidFill>
                  <a:srgbClr val="99284c"/>
                </a:solidFill>
                <a:latin typeface="Times New Roman"/>
                <a:ea typeface="Times New Roman"/>
              </a:rPr>
              <a:t>-среднему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99284c"/>
                </a:solidFill>
                <a:latin typeface="Times New Roman"/>
                <a:ea typeface="Times New Roman"/>
              </a:rPr>
              <a:t>  </a:t>
            </a:r>
            <a:r>
              <a:rPr b="0" lang="ru-RU" sz="2600" spc="-1" strike="noStrike">
                <a:solidFill>
                  <a:srgbClr val="99284c"/>
                </a:solidFill>
                <a:latin typeface="Times New Roman"/>
                <a:ea typeface="Times New Roman"/>
              </a:rPr>
              <a:t>-повышенном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99284c"/>
                </a:solidFill>
                <a:latin typeface="Times New Roman"/>
                <a:ea typeface="Times New Roman"/>
              </a:rPr>
              <a:t>2. Общее для всего класса задание возрастающей   степени труднос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99284c"/>
                </a:solidFill>
                <a:latin typeface="Times New Roman"/>
                <a:ea typeface="Times New Roman"/>
              </a:rPr>
              <a:t>3. Индивидуальные зада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99284c"/>
                </a:solidFill>
                <a:latin typeface="Times New Roman"/>
                <a:ea typeface="Times New Roman"/>
              </a:rPr>
              <a:t>4. Групповые задания с учётом различной подготовки учащихс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99284c"/>
                </a:solidFill>
                <a:latin typeface="Times New Roman"/>
                <a:ea typeface="Times New Roman"/>
              </a:rPr>
              <a:t>5. Упражнения с указанием минимального и максимального количества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99284c"/>
                </a:solidFill>
                <a:latin typeface="Times New Roman"/>
                <a:ea typeface="Times New Roman"/>
              </a:rPr>
              <a:t>заданий для обязательного выполн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99284c"/>
                </a:solidFill>
                <a:latin typeface="Times New Roman"/>
                <a:ea typeface="Times New Roman"/>
              </a:rPr>
              <a:t>6. Дифференцированные задания с разной степенью помощ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1"/>
          <p:cNvSpPr/>
          <p:nvPr/>
        </p:nvSpPr>
        <p:spPr>
          <a:xfrm>
            <a:off x="741240" y="555480"/>
            <a:ext cx="8609040" cy="63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280099"/>
                </a:solidFill>
                <a:latin typeface="Calibri"/>
                <a:ea typeface="Calibri"/>
              </a:rPr>
              <a:t>Используя различные способы организации деятельности детей и единые задания, я дифференцирую п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280099"/>
                </a:solidFill>
                <a:latin typeface="Calibri"/>
                <a:ea typeface="Calibri"/>
              </a:rPr>
              <a:t>1) по уровню творчества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280099"/>
                </a:solidFill>
                <a:latin typeface="Calibri"/>
                <a:ea typeface="Calibri"/>
              </a:rPr>
              <a:t>2) по уровню трудност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280099"/>
                </a:solidFill>
                <a:latin typeface="Calibri"/>
                <a:ea typeface="Calibri"/>
              </a:rPr>
              <a:t>3) по объему учебного материала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280099"/>
                </a:solidFill>
                <a:latin typeface="Calibri"/>
                <a:ea typeface="Calibri"/>
              </a:rPr>
              <a:t>4) по степени самостоятельности учащихся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280099"/>
                </a:solidFill>
                <a:latin typeface="Calibri"/>
                <a:ea typeface="Calibri"/>
              </a:rPr>
              <a:t>5) по характеру помощи учащимся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1"/>
          <p:cNvSpPr/>
          <p:nvPr/>
        </p:nvSpPr>
        <p:spPr>
          <a:xfrm>
            <a:off x="720720" y="720720"/>
            <a:ext cx="8609040" cy="62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ctr">
            <a:noAutofit/>
          </a:bodyPr>
          <a:p>
            <a:pPr marL="216000" indent="-216000"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ПО УРОВНЮ ТВОРЧЕ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( репродуктивный или продуктивный способ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-К репродуктивным заданиям относятся, например: решение арифметических задач знакомых видов, нахождение значений выражений на основе изученных вычислительных приём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-К продуктивным  заданиям относятся упражнения, отличающиеся от стандартных. В процессе работы над продуктивными заданиями школьники приобретают опыт творческой деятельности (выполнение задания разными способами, поиск наиболее рационального способа решения;   самостоятельное составление задач, математических выражений, уравнений и др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1"/>
          <p:cNvSpPr/>
          <p:nvPr/>
        </p:nvSpPr>
        <p:spPr>
          <a:xfrm>
            <a:off x="741240" y="104760"/>
            <a:ext cx="8607600" cy="68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16000" indent="-216000"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e6e6e6"/>
                </a:solidFill>
                <a:latin typeface="Calibri"/>
                <a:ea typeface="Calibri"/>
              </a:rPr>
              <a:t>2. ПО УРОВНЮ ТРУД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2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e6e6e6"/>
                </a:solidFill>
                <a:latin typeface="Calibri"/>
                <a:ea typeface="Calibri"/>
              </a:rPr>
              <a:t>- усложнение математического материала (например, в задании для 1-й и 2-й группы используются двузначные числа, а для 3-й группы – однозначные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2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e6e6e6"/>
                </a:solidFill>
                <a:latin typeface="Calibri"/>
                <a:ea typeface="Calibri"/>
              </a:rPr>
              <a:t>- увеличение количества действий в выражении или в решении задачи (например, во 2-й и 3-й группах даётся задача в 1 действие, а в 1-й группе в 2 действия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2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e6e6e6"/>
                </a:solidFill>
                <a:latin typeface="Calibri"/>
                <a:ea typeface="Calibri"/>
              </a:rPr>
              <a:t>- использование обратного задания вместо прямого (например, 2-й и 3-й группам даётся задание на замену крупных мер мелкими, а 1-й группе – более трудное задание на замену мелких мер крупным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1"/>
          <p:cNvSpPr/>
          <p:nvPr/>
        </p:nvSpPr>
        <p:spPr>
          <a:xfrm>
            <a:off x="741240" y="162000"/>
            <a:ext cx="8607600" cy="67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e6e6e6"/>
                </a:solidFill>
                <a:latin typeface="Calibri"/>
                <a:ea typeface="Calibri"/>
              </a:rPr>
              <a:t>3. ПО ОБЪЁМУ УЧЕ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e6e6e6"/>
                </a:solidFill>
                <a:latin typeface="Calibri"/>
                <a:ea typeface="Calibri"/>
              </a:rPr>
              <a:t>Такой способ дифференциации предполагает, что учащиеся 1-й и 2-й группы выполняются кроме основного ещё и дополнительное задание, аналогичное основному, однотипное с ни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e6e6e6"/>
                </a:solidFill>
                <a:latin typeface="Calibri"/>
                <a:ea typeface="Calibri"/>
              </a:rPr>
              <a:t>Необходимость дифференциации заданий по объёму обусловлена разным темпом работы учащихся. Медлительные дети, а также дети с низким уровнем обучаемости обычно не успевают выполнить самостоятельную работу к моменту её фронтальной проверки в классе, им требуется на это дополнительное время. Остальные дети затрачивают это время на выполнение дополнительного задания, которое  не является обязательным для всех ученик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1"/>
          <p:cNvSpPr/>
          <p:nvPr/>
        </p:nvSpPr>
        <p:spPr>
          <a:xfrm>
            <a:off x="741240" y="162000"/>
            <a:ext cx="8607600" cy="67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e6e6e6"/>
                </a:solidFill>
                <a:latin typeface="Calibri"/>
                <a:ea typeface="Calibri"/>
              </a:rPr>
              <a:t>4. ПО СТЕПЕНИ САМОСТОЯТЕЛЬНОСТИ УЧАЩИХ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6e6e6"/>
                </a:solidFill>
                <a:latin typeface="Calibri"/>
                <a:ea typeface="Calibri"/>
              </a:rPr>
              <a:t>При таком способе дифференциации не предполагается различий в учебных заданиях для разных групп учащихся. Все дети выполняют одинаковые упражнения, но одни это делают под руководством учителя, а другие самостоятельно. Степень самостоятельности учащихся различна. Для 1-й группы предусмотрена самостоятельная работа, для 2-й – полусамостоятельная, для 3-й – фронтальная работа под руководством учителя. Школьники сами определяют, на каком уровне им следует приступить к самостоятельному выполнению задания. При необходимости они могут в любой момент вернуться к работе под руководством уч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1"/>
          <p:cNvSpPr/>
          <p:nvPr/>
        </p:nvSpPr>
        <p:spPr>
          <a:xfrm>
            <a:off x="179280" y="0"/>
            <a:ext cx="8607600" cy="77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e6e6e6"/>
                </a:solidFill>
                <a:latin typeface="Calibri"/>
                <a:ea typeface="Calibri"/>
              </a:rPr>
              <a:t>5. ПО ХАРАКТЕРУ ПОМОЩИ УЧАЩИМС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6e6e6"/>
                </a:solidFill>
                <a:latin typeface="Calibri"/>
                <a:ea typeface="Calibri"/>
              </a:rPr>
              <a:t>Такой способ не предусматривает организации фронтальной работы под руководством учителя. Все учащиеся сразу приступают к самостоятельной работе. Но, тем детям, которые испытывают затруднения в выполнении задания, оказывается помощ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6e6e6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e6e6e6"/>
                </a:solidFill>
                <a:latin typeface="Calibri"/>
                <a:ea typeface="Calibri"/>
              </a:rPr>
              <a:t>а) помощь в виде вспомогательных заданий, подготовительных упражн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6e6e6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e6e6e6"/>
                </a:solidFill>
                <a:latin typeface="Calibri"/>
                <a:ea typeface="Calibri"/>
              </a:rPr>
              <a:t>б) помощь в виде «подсказок» (карточек-помощниц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6e6e6"/>
                </a:solidFill>
                <a:latin typeface="Calibri"/>
                <a:ea typeface="Calibri"/>
              </a:rPr>
              <a:t>в) образец выполнения задания на доск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6e6e6"/>
                </a:solidFill>
                <a:latin typeface="Calibri"/>
                <a:ea typeface="Calibri"/>
              </a:rPr>
              <a:t>г) справочные материалы (теоретическая справка в виде правила, формулы, таблице единиц длины, массы и т. п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6e6e6"/>
                </a:solidFill>
                <a:latin typeface="Calibri"/>
                <a:ea typeface="Calibri"/>
              </a:rPr>
              <a:t>д) наглядные опоры, иллюстрации, модели (например, краткая запись задачи, графическая схема, таблица и д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6e6e6"/>
                </a:solidFill>
                <a:latin typeface="Calibri"/>
                <a:ea typeface="Calibri"/>
              </a:rPr>
              <a:t>е) дополнительная конкретизация задания (разъяснение отдельных слов в задаче, указание на какую-нибудь деталь, существенную для решения задачи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6e6e6"/>
                </a:solidFill>
                <a:latin typeface="Calibri"/>
                <a:ea typeface="Calibri"/>
              </a:rPr>
              <a:t>ж) вспомогательные наводящие вопросы, прямые или косвенные указания по выполнению зад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6e6e6"/>
                </a:solidFill>
                <a:latin typeface="Calibri"/>
                <a:ea typeface="Calibri"/>
              </a:rPr>
              <a:t>з) начало решения или частично выполненное 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1"/>
          <p:cNvSpPr/>
          <p:nvPr/>
        </p:nvSpPr>
        <p:spPr>
          <a:xfrm>
            <a:off x="619200" y="333360"/>
            <a:ext cx="8607240" cy="67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e6e6e6"/>
                </a:solidFill>
                <a:latin typeface="Arial"/>
                <a:ea typeface="Lucida Sans Unicode"/>
              </a:rPr>
              <a:t>Решите уравнения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e6e6e6"/>
                </a:solidFill>
                <a:latin typeface="Arial"/>
                <a:ea typeface="Lucida Sans Unicode"/>
              </a:rPr>
              <a:t>Вариант А: 45-х=38,783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e6e6e6"/>
                </a:solidFill>
                <a:latin typeface="Arial"/>
                <a:ea typeface="Lucida Sans Unicode"/>
              </a:rPr>
              <a:t>Вариант Б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e6e6e6"/>
                </a:solidFill>
                <a:latin typeface="Arial"/>
                <a:ea typeface="Lucida Sans Unicode"/>
              </a:rPr>
              <a:t>3,97х+20,4х+0,63х=505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e6e6e6"/>
                </a:solidFill>
                <a:latin typeface="Arial"/>
                <a:ea typeface="Lucida Sans Unicode"/>
              </a:rPr>
              <a:t>Вариант С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e6e6e6"/>
                </a:solidFill>
                <a:latin typeface="Arial"/>
                <a:ea typeface="Lucida Sans Unicode"/>
              </a:rPr>
              <a:t>6,793х+0,007х+0,5х=704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1"/>
          <p:cNvSpPr/>
          <p:nvPr/>
        </p:nvSpPr>
        <p:spPr>
          <a:xfrm>
            <a:off x="720720" y="189000"/>
            <a:ext cx="8607600" cy="61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75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99284c"/>
                </a:solidFill>
                <a:latin typeface="Arial"/>
                <a:ea typeface="Lucida Sans Unicode"/>
              </a:rPr>
              <a:t>Работа направлена на обучение всех детей: и с высоким, и со средним, и с низким уровнем развития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1"/>
          <p:cNvSpPr/>
          <p:nvPr/>
        </p:nvSpPr>
        <p:spPr>
          <a:xfrm>
            <a:off x="752400" y="650880"/>
            <a:ext cx="860760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2300dc"/>
                </a:solidFill>
                <a:latin typeface="Times New Roman"/>
                <a:ea typeface="Lucida Sans Unicode"/>
              </a:rPr>
              <a:t>Учащиеся сами размышляют, ищут, делают открыт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2300dc"/>
                </a:solidFill>
                <a:latin typeface="Times New Roman"/>
                <a:ea typeface="Lucida Sans Unicode"/>
              </a:rPr>
              <a:t>Это проявляется на всех этапах обуч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2300dc"/>
                </a:solidFill>
                <a:latin typeface="Times New Roman"/>
                <a:ea typeface="Lucida Sans Unicode"/>
              </a:rPr>
              <a:t>при получении и систематизации знаний, контроле и самоконтроле, оценке и самооценке, при выполнении домашнего зада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1"/>
          <p:cNvSpPr/>
          <p:nvPr/>
        </p:nvSpPr>
        <p:spPr>
          <a:xfrm>
            <a:off x="741240" y="117360"/>
            <a:ext cx="8607600" cy="68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024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ff00"/>
                </a:solidFill>
                <a:latin typeface="Times New Roman"/>
                <a:ea typeface="Lucida Sans Unicode"/>
              </a:rPr>
              <a:t>Дифференцированное обучение</a:t>
            </a:r>
            <a:r>
              <a:rPr b="0" lang="ru-RU" sz="48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 </a:t>
            </a:r>
            <a:r>
              <a:rPr b="0" lang="ru-RU" sz="48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- это форма организации учебного процесса, при котором максимально учитываются возможности и запросы каждого ученика или отдельных групп школьник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1"/>
          <p:cNvSpPr/>
          <p:nvPr/>
        </p:nvSpPr>
        <p:spPr>
          <a:xfrm>
            <a:off x="571680" y="360360"/>
            <a:ext cx="8607240" cy="67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68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Times New Roman"/>
                <a:ea typeface="Lucida Sans Unicode"/>
              </a:rPr>
              <a:t>Цель дифференцированного обучения</a:t>
            </a:r>
            <a:r>
              <a:rPr b="0" lang="ru-RU" sz="36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 – создание комфортной среды для обучения и развития личности с учетом индивидуально-психологических особенносте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1"/>
          <p:cNvSpPr/>
          <p:nvPr/>
        </p:nvSpPr>
        <p:spPr>
          <a:xfrm>
            <a:off x="720720" y="360360"/>
            <a:ext cx="8609040" cy="66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68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cccccc"/>
                </a:solidFill>
                <a:latin typeface="Times New Roman"/>
                <a:ea typeface="Lucida Sans Unicode"/>
              </a:rPr>
              <a:t> </a:t>
            </a:r>
            <a:r>
              <a:rPr b="0" lang="ru-RU" sz="3600" spc="-1" strike="noStrike">
                <a:solidFill>
                  <a:srgbClr val="ff9966"/>
                </a:solidFill>
                <a:latin typeface="Times New Roman"/>
                <a:ea typeface="Lucida Sans Unicode"/>
              </a:rPr>
              <a:t>1. Оптимизировать процесс индивидуального обуч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9966"/>
                </a:solidFill>
                <a:latin typeface="Times New Roman"/>
                <a:ea typeface="Lucida Sans Unicode"/>
              </a:rPr>
              <a:t>2.  Обеспечить правильное определения результатов обуч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9966"/>
                </a:solidFill>
                <a:latin typeface="Times New Roman"/>
                <a:ea typeface="Lucida Sans Unicode"/>
              </a:rPr>
              <a:t>3.  Руководствуясь выработанными критериями, свести к минимуму ошибки при переводе учащихся из одной учебной группы в другую.</a:t>
            </a:r>
            <a:r>
              <a:rPr b="0" lang="ru-RU" sz="3600" spc="-1" strike="noStrike">
                <a:solidFill>
                  <a:srgbClr val="ff9966"/>
                </a:solidFill>
                <a:latin typeface="Times New Roman"/>
                <a:ea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1"/>
          <p:cNvSpPr/>
          <p:nvPr/>
        </p:nvSpPr>
        <p:spPr>
          <a:xfrm>
            <a:off x="741240" y="282600"/>
            <a:ext cx="8609040" cy="66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20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imes New Roman"/>
                <a:ea typeface="Lucida Sans Unicode"/>
              </a:rPr>
              <a:t>При этом: определить особенности усвоения учащимися предметных знаний, умений и навыков; выявить характер трудностей ученика и установить их причины; установить уровень овладения учебной деятельностью; оценить умения, происходящие в развитии учащихс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1"/>
          <p:cNvSpPr/>
          <p:nvPr/>
        </p:nvSpPr>
        <p:spPr>
          <a:xfrm>
            <a:off x="503280" y="301680"/>
            <a:ext cx="9070920" cy="64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Lucida Sans Unicode"/>
              </a:rPr>
              <a:t>1. Группа учеников с высокими учебными способностями ведет работу со сложным материалом, требующим умения применять знания в незнакомой ситуации и самостоятельно творчески походить к решению учебных зада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1"/>
          <p:cNvSpPr/>
          <p:nvPr/>
        </p:nvSpPr>
        <p:spPr>
          <a:xfrm>
            <a:off x="741240" y="700200"/>
            <a:ext cx="8607600" cy="62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9284c"/>
                </a:solidFill>
                <a:latin typeface="Arial"/>
                <a:ea typeface="Lucida Sans Unicode"/>
              </a:rPr>
              <a:t>2. </a:t>
            </a:r>
            <a:r>
              <a:rPr b="1" lang="ru-RU" sz="3200" spc="-1" strike="noStrike">
                <a:solidFill>
                  <a:srgbClr val="99284c"/>
                </a:solidFill>
                <a:latin typeface="Arial"/>
                <a:ea typeface="Lucida Sans Unicode"/>
              </a:rPr>
              <a:t>группа учащихся со средними способностями</a:t>
            </a:r>
            <a:r>
              <a:rPr b="0" lang="ru-RU" sz="3200" spc="-1" strike="noStrike">
                <a:solidFill>
                  <a:srgbClr val="99284c"/>
                </a:solidFill>
                <a:latin typeface="Arial"/>
                <a:ea typeface="Lucida Sans Unicode"/>
              </a:rPr>
              <a:t> усваивает материал после тренировочной работы, не сразу выделяет существенное, закономерное, умеет увидеть в частном общее, овладев знаниями; для усвоения знаний ей требуется более длительное врем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9284c"/>
                </a:solidFill>
                <a:latin typeface="Arial"/>
                <a:ea typeface="Lucida Sans Unicode"/>
              </a:rPr>
              <a:t>Если учащихся 2 группы направлять, помогать, то они вполне смогут справиться и с заданиями 1 группы 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18:18:03Z</dcterms:created>
  <dc:creator/>
  <dc:description/>
  <dc:language>en-US</dc:language>
  <cp:lastModifiedBy>учитель_5</cp:lastModifiedBy>
  <dcterms:modified xsi:type="dcterms:W3CDTF">2012-03-29T17:55:27Z</dcterms:modified>
  <cp:revision>4</cp:revision>
  <dc:subject/>
  <dc:title>Дифференцированное обучение на уроках математики как средство активизации познавательной деятельности.</dc:title>
</cp:coreProperties>
</file>