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dt" idx="10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 type="sldNum" idx="12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8EDF0-F952-4C60-AF22-1A50FF8BDA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B99ED-19D1-4909-9970-861CA2529C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D4518-43D2-4E56-94CF-5A3B81D5E8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A85CE-58CC-44B4-BDCC-46A7E56501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57D57-7C41-4BAB-8C7A-6DE43508AD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460D0-FD51-43C7-B84A-08B89E6C88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2E67B-6264-434B-B85B-74F22D4FBC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2E0EF-272E-4853-8D9B-DE118E794E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F2A93-5F23-4E2C-A1DF-6F88043479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A58E1-E4DA-42B5-9F2E-08405B8912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CD779-EFBC-4669-9C38-7CF5830105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D04D1-FE14-47A6-BF7C-29EEF77D15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6A1FE-85FD-42C0-9591-0B6972911A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53CE0-E7BE-4A00-931E-43923E3819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D9CCC-9517-4C26-89D3-4BEB3ABFF4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76FF0-4149-4797-841D-8373D4FF21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D9053-8071-413F-8159-2C0490347C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D3990-E7D5-4D4E-9A75-33FB25AFF0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10C0D-F051-4011-86D6-EB252FDCB2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2D97-97AE-4384-8DBF-3C4BBAAA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C5A3-6657-4A45-9C21-A50A1CDA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740880" y="11736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13CB-A9C8-4654-85BE-033B0A77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0CDC-02E6-4793-83F2-20A5BBC7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11736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987F-26DD-4142-A84A-1E543958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563D-36B5-4819-8A70-84990071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40880" y="11736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271-A377-4391-8AD8-7BF92F4B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40880" y="11736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7FF7-B9A5-418A-A768-2F24761F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95F6-5902-41E2-8B34-7B998025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802F-8649-4208-AA23-543CCB83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8DF1-FD17-49C2-89E1-53FB2B6C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BD56-8114-4CD7-936F-BE53B13C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4E45-A4A8-437E-8C3F-D505204A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740880" y="11736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9C78-CE1D-432A-AA5A-AD68F5F5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732D-B795-44D6-9345-DD96374E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8A44-2E51-48CF-8387-86C30EB7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327E-C061-4F4B-8AAE-D4D3B59E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C633-04FC-4B19-B328-81DB5BC2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EF9A-AEC3-46AE-8E26-B33651E35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11736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E7E-8BD6-4942-BFC4-9A9AEEC0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64B5-E6D0-43B8-B1EC-FDD7A2FA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740880" y="11736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1D55-4443-4DDF-B1EB-8D6B54C2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24DB1-14CC-400E-B7B8-6A130F96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75FDF-F101-4D99-AF53-62405F9C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30921-FBF4-4A9F-9933-8279B1F8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00C44-9504-4B43-A8C7-0E3D5EB4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F7EEB-263F-40E1-82E5-1449BAE0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740880" y="11736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6D3E8-39A9-4BD5-BDE4-2936999D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FB7DD-2F45-4553-ABE6-7F7F8527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7A06-29ED-4495-9325-67A8B3AA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74618-3154-4920-84C4-EB07C241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2479D-CB5F-4A69-A7FE-726439AB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DB84B-E11B-47FB-ABA8-42986C37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7EDB5-4EEC-47B2-ABE9-72A99436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D556F-2A5B-4311-B71C-BF4CC1F1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5F43-37C2-4DEA-B5BC-D227950C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740880" y="11736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44EC7-ECE5-4613-A712-B18A266D46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3B869-2E1C-432E-B529-BB17355D6D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40C84-4640-40CD-96A8-642D9E8957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280" y="755280"/>
            <a:ext cx="907092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ифференцированное обучение на уроках математики как средство активизации познавательной деятельност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1"/>
          <p:cNvSpPr/>
          <p:nvPr/>
        </p:nvSpPr>
        <p:spPr>
          <a:xfrm>
            <a:off x="741240" y="744480"/>
            <a:ext cx="860760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284c"/>
                </a:solidFill>
                <a:latin typeface="Arial"/>
                <a:ea typeface="Lucida Sans Unicode"/>
              </a:rPr>
              <a:t>3. Группа учащихся с низкими учебными способност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  <a:ea typeface="Lucida Sans Unicode"/>
              </a:rPr>
              <a:t> </a:t>
            </a:r>
            <a:r>
              <a:rPr b="0" lang="ru-RU" sz="3200" spc="-1" strike="noStrike">
                <a:solidFill>
                  <a:srgbClr val="99284c"/>
                </a:solidFill>
                <a:latin typeface="Arial"/>
                <a:ea typeface="Lucida Sans Unicode"/>
              </a:rPr>
              <a:t>усваивает материал после многократных упражнений и не всегда в полном объёме, выполняет задания репродуктивного характера, овладевает знаниями более длительное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741240" y="744480"/>
            <a:ext cx="860760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Виды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1. Предварительные задания по уровню трудност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-облегчённом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-среднем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-повышенном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2. Общее для всего класса задание возрастающей   степени труд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3. Индивидуальные зад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4. Групповые задания с учётом различной подготовки учащих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5. Упражнения с указанием минимального и максимального количества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заданий для обязательного выполн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284c"/>
                </a:solidFill>
                <a:latin typeface="Times New Roman"/>
                <a:ea typeface="Times New Roman"/>
              </a:rPr>
              <a:t>6. Дифференцированные задания с разной степенью помощ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1"/>
          <p:cNvSpPr/>
          <p:nvPr/>
        </p:nvSpPr>
        <p:spPr>
          <a:xfrm>
            <a:off x="741240" y="555480"/>
            <a:ext cx="860904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280099"/>
                </a:solidFill>
                <a:latin typeface="Calibri"/>
                <a:ea typeface="Calibri"/>
              </a:rPr>
              <a:t>Используя различные способы организации деятельности детей и единые задания, я дифференцирую п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80099"/>
                </a:solidFill>
                <a:latin typeface="Calibri"/>
                <a:ea typeface="Calibri"/>
              </a:rPr>
              <a:t>1) по уровню творчеств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80099"/>
                </a:solidFill>
                <a:latin typeface="Calibri"/>
                <a:ea typeface="Calibri"/>
              </a:rPr>
              <a:t>2) по уровню трудност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80099"/>
                </a:solidFill>
                <a:latin typeface="Calibri"/>
                <a:ea typeface="Calibri"/>
              </a:rPr>
              <a:t>3) по объему учебного материал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80099"/>
                </a:solidFill>
                <a:latin typeface="Calibri"/>
                <a:ea typeface="Calibri"/>
              </a:rPr>
              <a:t>4) по степени самостоятельности учащихс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80099"/>
                </a:solidFill>
                <a:latin typeface="Calibri"/>
                <a:ea typeface="Calibri"/>
              </a:rPr>
              <a:t>5) по характеру помощи учащимс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1"/>
          <p:cNvSpPr/>
          <p:nvPr/>
        </p:nvSpPr>
        <p:spPr>
          <a:xfrm>
            <a:off x="720720" y="720720"/>
            <a:ext cx="860904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ПО УРОВНЮ ТВОРЧ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( репродуктивный или продуктивный спосо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-К репродуктивным заданиям относятся, например: решение арифметических задач знакомых видов, нахождение значений выражений на основе изученных вычислительных приё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-К продуктивным  заданиям относятся упражнения, отличающиеся от стандартных. В процессе работы над продуктивными заданиями школьники приобретают опыт творческой деятельности (выполнение задания разными способами, поиск наиболее рационального способа решения;   самостоятельное составление задач, математических выражений, уравнений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741240" y="104760"/>
            <a:ext cx="8607600" cy="68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6e6e6"/>
                </a:solidFill>
                <a:latin typeface="Calibri"/>
                <a:ea typeface="Calibri"/>
              </a:rPr>
              <a:t>2. ПО УРОВНЮ ТРУ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2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6e6e6"/>
                </a:solidFill>
                <a:latin typeface="Calibri"/>
                <a:ea typeface="Calibri"/>
              </a:rPr>
              <a:t>- усложнение математического материала (например, в задании для 1-й и 2-й группы используются двузначные числа, а для 3-й группы – однозначны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2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6e6e6"/>
                </a:solidFill>
                <a:latin typeface="Calibri"/>
                <a:ea typeface="Calibri"/>
              </a:rPr>
              <a:t>- увеличение количества действий в выражении или в решении задачи (например, во 2-й и 3-й группах даётся задача в 1 действие, а в 1-й группе в 2 действ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2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6e6e6"/>
                </a:solidFill>
                <a:latin typeface="Calibri"/>
                <a:ea typeface="Calibri"/>
              </a:rPr>
              <a:t>- использование обратного задания вместо прямого (например, 2-й и 3-й группам даётся задание на замену крупных мер мелкими, а 1-й группе – более трудное задание на замену мелких мер крупны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"/>
          <p:cNvSpPr/>
          <p:nvPr/>
        </p:nvSpPr>
        <p:spPr>
          <a:xfrm>
            <a:off x="741240" y="162000"/>
            <a:ext cx="8607600" cy="67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6e6e6"/>
                </a:solidFill>
                <a:latin typeface="Calibri"/>
                <a:ea typeface="Calibri"/>
              </a:rPr>
              <a:t>3. ПО ОБЪЁМУ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6e6e6"/>
                </a:solidFill>
                <a:latin typeface="Calibri"/>
                <a:ea typeface="Calibri"/>
              </a:rPr>
              <a:t>Такой способ дифференциации предполагает, что учащиеся 1-й и 2-й группы выполняются кроме основного ещё и дополнительное задание, аналогичное основному, однотипное с ни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e6e6e6"/>
                </a:solidFill>
                <a:latin typeface="Calibri"/>
                <a:ea typeface="Calibri"/>
              </a:rPr>
              <a:t>Необходимость дифференциации заданий по объёму обусловлена разным темпом работы учащихся. Медлительные дети, а также дети с низким уровнем обучаемости обычно не успевают выполнить самостоятельную работу к моменту её фронтальной проверки в классе, им требуется на это дополнительное время. Остальные дети затрачивают это время на выполнение дополнительного задания, которое  не является обязательным для всех ученик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741240" y="162000"/>
            <a:ext cx="8607600" cy="67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6e6e6"/>
                </a:solidFill>
                <a:latin typeface="Calibri"/>
                <a:ea typeface="Calibri"/>
              </a:rPr>
              <a:t>4. ПО СТЕПЕНИ САМОСТОЯТЕЛЬНОСТИ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Calibri"/>
                <a:ea typeface="Calibri"/>
              </a:rPr>
              <a:t>При таком способе дифференциации не предполагается различий в учебных заданиях для разных групп учащихся. Все дети выполняют одинаковые упражнения, но одни это делают под руководством учителя, а другие самостоятельно. Степень самостоятельности учащихся различна. Для 1-й группы предусмотрена самостоятельная работа, для 2-й – полусамостоятельная, для 3-й – фронтальная работа под руководством учителя. Школьники сами определяют, на каком уровне им следует приступить к самостоятельному выполнению задания. При необходимости они могут в любой момент вернуться к работе под руководством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179280" y="0"/>
            <a:ext cx="8607600" cy="77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e6e6e6"/>
                </a:solidFill>
                <a:latin typeface="Calibri"/>
                <a:ea typeface="Calibri"/>
              </a:rPr>
              <a:t>5. ПО ХАРАКТЕРУ ПОМОЩИ УЧАЩИМС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Calibri"/>
                <a:ea typeface="Calibri"/>
              </a:rPr>
              <a:t>Такой способ не предусматривает организации фронтальной работы под руководством учителя. Все учащиеся сразу приступают к самостоятельной работе. Но, тем детям, которые испытывают затруднения в выполнении задания, оказываетс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e6e6e6"/>
                </a:solidFill>
                <a:latin typeface="Calibri"/>
                <a:ea typeface="Calibri"/>
              </a:rPr>
              <a:t>а) помощь в виде вспомогательных заданий, подготовительных упражн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e6e6e6"/>
                </a:solidFill>
                <a:latin typeface="Calibri"/>
                <a:ea typeface="Calibri"/>
              </a:rPr>
              <a:t>б) помощь в виде «подсказок» (карточек-помощниц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Calibri"/>
                <a:ea typeface="Calibri"/>
              </a:rPr>
              <a:t>в) образец выполнения задания на доск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Calibri"/>
                <a:ea typeface="Calibri"/>
              </a:rPr>
              <a:t>г) справочные материалы (теоретическая справка в виде правила, формулы, таблице единиц длины, массы и т. п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Calibri"/>
                <a:ea typeface="Calibri"/>
              </a:rPr>
              <a:t>д) наглядные опоры, иллюстрации, модели (например, краткая запись задачи, графическая схема, таблица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Calibri"/>
                <a:ea typeface="Calibri"/>
              </a:rPr>
              <a:t>е) дополнительная конкретизация задания (разъяснение отдельных слов в задаче, указание на какую-нибудь деталь, существенную для решения задач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Calibri"/>
                <a:ea typeface="Calibri"/>
              </a:rPr>
              <a:t>ж) вспомогательные наводящие вопросы, прямые или косвенные указания по выполнению зад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Calibri"/>
                <a:ea typeface="Calibri"/>
              </a:rPr>
              <a:t>з) начало решения или частично выполненное 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"/>
          <p:cNvSpPr/>
          <p:nvPr/>
        </p:nvSpPr>
        <p:spPr>
          <a:xfrm>
            <a:off x="619200" y="333360"/>
            <a:ext cx="8607240" cy="67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e6e6e6"/>
                </a:solidFill>
                <a:latin typeface="Arial"/>
                <a:ea typeface="Lucida Sans Unicode"/>
              </a:rPr>
              <a:t>Решите уравнения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e6e6e6"/>
                </a:solidFill>
                <a:latin typeface="Arial"/>
                <a:ea typeface="Lucida Sans Unicode"/>
              </a:rPr>
              <a:t>Вариант А: 45-х=38,783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e6e6e6"/>
                </a:solidFill>
                <a:latin typeface="Arial"/>
                <a:ea typeface="Lucida Sans Unicode"/>
              </a:rPr>
              <a:t>Вариант Б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e6e6e6"/>
                </a:solidFill>
                <a:latin typeface="Arial"/>
                <a:ea typeface="Lucida Sans Unicode"/>
              </a:rPr>
              <a:t>3,97х+20,4х+0,63х=505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e6e6e6"/>
                </a:solidFill>
                <a:latin typeface="Arial"/>
                <a:ea typeface="Lucida Sans Unicode"/>
              </a:rPr>
              <a:t>Вариант С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e6e6e6"/>
                </a:solidFill>
                <a:latin typeface="Arial"/>
                <a:ea typeface="Lucida Sans Unicode"/>
              </a:rPr>
              <a:t>6,793х+0,007х+0,5х=704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720720" y="189000"/>
            <a:ext cx="860760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99284c"/>
                </a:solidFill>
                <a:latin typeface="Arial"/>
                <a:ea typeface="Lucida Sans Unicode"/>
              </a:rPr>
              <a:t>Работа направлена на обучение всех детей: и с высоким, и со средним, и с низким уровнем развития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752400" y="650880"/>
            <a:ext cx="86076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300dc"/>
                </a:solidFill>
                <a:latin typeface="Times New Roman"/>
                <a:ea typeface="Lucida Sans Unicode"/>
              </a:rPr>
              <a:t>Учащиеся сами размышляют, ищут, делают открыт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300dc"/>
                </a:solidFill>
                <a:latin typeface="Times New Roman"/>
                <a:ea typeface="Lucida Sans Unicode"/>
              </a:rPr>
              <a:t>Это проявляется на всех этапах обуч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300dc"/>
                </a:solidFill>
                <a:latin typeface="Times New Roman"/>
                <a:ea typeface="Lucida Sans Unicode"/>
              </a:rPr>
              <a:t>при получении и систематизации знаний, контроле и самоконтроле, оценке и самооценке, при выполнении домашнего зад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741240" y="117360"/>
            <a:ext cx="8607600" cy="68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024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ff00"/>
                </a:solidFill>
                <a:latin typeface="Times New Roman"/>
                <a:ea typeface="Lucida Sans Unicode"/>
              </a:rPr>
              <a:t>Дифференцированное обучение</a:t>
            </a:r>
            <a:r>
              <a:rPr b="0" lang="ru-RU" sz="48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Lucida Sans Unicode"/>
              </a:rPr>
              <a:t>- это форма организации учебного процесса, при котором максимально учитываются возможности и запросы каждого ученика или отдельных групп школьник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571680" y="360360"/>
            <a:ext cx="8607240" cy="67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  <a:ea typeface="Lucida Sans Unicode"/>
              </a:rPr>
              <a:t>Цель дифференцированного обучения</a:t>
            </a:r>
            <a:r>
              <a:rPr b="0" lang="ru-RU" sz="3600" spc="-1" strike="noStrike">
                <a:solidFill>
                  <a:srgbClr val="e6e6e6"/>
                </a:solidFill>
                <a:latin typeface="Times New Roman"/>
                <a:ea typeface="Lucida Sans Unicode"/>
              </a:rPr>
              <a:t> – создание комфортной среды для обучения и развития личности с учетом индивидуально-психологических особенност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"/>
          <p:cNvSpPr/>
          <p:nvPr/>
        </p:nvSpPr>
        <p:spPr>
          <a:xfrm>
            <a:off x="720720" y="36036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268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cccc"/>
                </a:solidFill>
                <a:latin typeface="Times New Roman"/>
                <a:ea typeface="Lucida Sans Unicode"/>
              </a:rPr>
              <a:t> </a:t>
            </a:r>
            <a:r>
              <a:rPr b="0" lang="ru-RU" sz="3600" spc="-1" strike="noStrike">
                <a:solidFill>
                  <a:srgbClr val="ff9966"/>
                </a:solidFill>
                <a:latin typeface="Times New Roman"/>
                <a:ea typeface="Lucida Sans Unicode"/>
              </a:rPr>
              <a:t>1. Оптимизировать процесс индивидуального обу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9966"/>
                </a:solidFill>
                <a:latin typeface="Times New Roman"/>
                <a:ea typeface="Lucida Sans Unicode"/>
              </a:rPr>
              <a:t>2.  Обеспечить правильное определения результатов обу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9966"/>
                </a:solidFill>
                <a:latin typeface="Times New Roman"/>
                <a:ea typeface="Lucida Sans Unicode"/>
              </a:rPr>
              <a:t>3.  Руководствуясь выработанными критериями, свести к минимуму ошибки при переводе учащихся из одной учебной группы в другую.</a:t>
            </a:r>
            <a:r>
              <a:rPr b="0" lang="ru-RU" sz="3600" spc="-1" strike="noStrike">
                <a:solidFill>
                  <a:srgbClr val="ff9966"/>
                </a:solidFill>
                <a:latin typeface="Times New Roman"/>
                <a:ea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imes New Roman"/>
                <a:ea typeface="Lucida Sans Unicode"/>
              </a:rPr>
              <a:t>При этом: определить особенности усвоения учащимися предметных знаний, умений и навыков; выявить характер трудностей ученика и установить их причины; установить уровень овладения учебной деятельностью; оценить умения, происходящие в развитии учащих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Lucida Sans Unicode"/>
              </a:rPr>
              <a:t>1. Группа учеников с высокими учебными способностями ведет работу со сложным материалом, требующим умения применять знания в незнакомой ситуации и самостоятельно творчески походить к решению учебны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741240" y="700200"/>
            <a:ext cx="8607600" cy="62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  <a:ea typeface="Lucida Sans Unicode"/>
              </a:rPr>
              <a:t>2. </a:t>
            </a:r>
            <a:r>
              <a:rPr b="1" lang="ru-RU" sz="3200" spc="-1" strike="noStrike">
                <a:solidFill>
                  <a:srgbClr val="99284c"/>
                </a:solidFill>
                <a:latin typeface="Arial"/>
                <a:ea typeface="Lucida Sans Unicode"/>
              </a:rPr>
              <a:t>группа учащихся со средними способностями</a:t>
            </a:r>
            <a:r>
              <a:rPr b="0" lang="ru-RU" sz="3200" spc="-1" strike="noStrike">
                <a:solidFill>
                  <a:srgbClr val="99284c"/>
                </a:solidFill>
                <a:latin typeface="Arial"/>
                <a:ea typeface="Lucida Sans Unicode"/>
              </a:rPr>
              <a:t> усваивает материал после тренировочной работы, не сразу выделяет существенное, закономерное, умеет увидеть в частном общее, овладев знаниями; для усвоения знаний ей требуется более длительное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  <a:ea typeface="Lucida Sans Unicode"/>
              </a:rPr>
              <a:t>Если учащихся 2 группы направлять, помогать, то они вполне смогут справиться и с заданиями 1 группы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18:18:03Z</dcterms:created>
  <dc:creator/>
  <dc:description/>
  <dc:language>en-US</dc:language>
  <cp:lastModifiedBy>учитель_5</cp:lastModifiedBy>
  <dcterms:modified xsi:type="dcterms:W3CDTF">2012-03-29T17:55:27Z</dcterms:modified>
  <cp:revision>4</cp:revision>
  <dc:subject/>
  <dc:title>Дифференцированное обучение на уроках математики как средство активизации познавательной деятельности.</dc:title>
</cp:coreProperties>
</file>