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2895-B1C4-4C65-807F-411FCA38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A7CE-CCEE-4746-9B53-EC04A3A6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D451-CE24-4E1A-8152-3783A4AA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B263-8AE4-4B8A-8FB4-0A3486C7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CBE5-342F-4E28-94B8-222936BA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9F6-99E0-484C-B23F-93BAC29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DA29-D2F4-4047-80B6-F83BECA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21E8-4565-4FD2-B213-D5232932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424-2264-4E93-AC2A-6594804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58B4-0F0F-432A-A2DA-A2C22159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0A3E-B917-4ADD-8BBF-5183438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7C88-5EDB-4DDE-A954-BECC4CC6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9CB-E238-41C9-84A3-8CB464D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939C-4994-423C-A56C-C49B05C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63E-B6B8-4F78-98BE-87A80B4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4623-0037-43E9-B2D6-57DE2987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052-9597-4F5B-B253-5E2310B1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A512-DCDC-4F75-AFAE-590123B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3AB0-E8C4-46AB-A395-092DEA18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9EE9-AAD2-4D39-B7B2-BAFDA79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853E-CF07-424E-B3DF-D5B0C53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BD52-A235-470D-8A35-EEA0FDC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B989-FFF7-4B7D-95A3-3B19A90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71CD-885D-4798-9625-6B5AE709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122-6C2F-48EB-A5F1-07D450D706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D56A-A222-4312-964E-18F667C054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599840"/>
            <a:ext cx="74152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Tahoma"/>
              </a:rPr>
              <a:t>Древнегреческий ТЕАТР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1f"/>
                </a:solidFill>
                <a:latin typeface="Tahoma"/>
              </a:rPr>
              <a:t>Выполнила: Зеличенко Л.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1f"/>
                </a:solidFill>
                <a:latin typeface="Tahoma"/>
              </a:rPr>
              <a:t>Учитель ИЗО ГБОУ СОШ № 879, ЮАО, г. Москв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8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Театр 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6000" y="981000"/>
            <a:ext cx="46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Театр возник в Древней Греции более 2500 лет назад в честь Великих Дионисий и бога Диониса, покровителя виноградар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Слово театр означает «место для зрелища» или само «зрелище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аждый полис имел свой театр. Он строился у подножия холма под открытым неб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4105440" cy="280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105440" cy="2697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127440" y="6491160"/>
            <a:ext cx="46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1311f"/>
                </a:solidFill>
                <a:uFillTx/>
                <a:latin typeface="Tahoma"/>
              </a:rPr>
              <a:t>Театрон</a:t>
            </a:r>
            <a:r>
              <a:rPr b="0" lang="en-US" sz="1800" spc="-1" strike="noStrike">
                <a:solidFill>
                  <a:srgbClr val="21311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21311f"/>
                </a:solidFill>
                <a:latin typeface="Tahoma"/>
              </a:rPr>
              <a:t>— здание греческого те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Устройство теат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4508280"/>
            <a:ext cx="4897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311f"/>
                </a:solidFill>
                <a:uFillTx/>
                <a:latin typeface="Tahoma"/>
              </a:rPr>
              <a:t>Амфитеатр</a:t>
            </a: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— зрительская часть греческого театра, разделенная проходами на сектора и поднимающаяся полукругом над орхестр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720" y="907560"/>
            <a:ext cx="3888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311f"/>
                </a:solidFill>
                <a:uFillTx/>
                <a:latin typeface="Tahoma"/>
              </a:rPr>
              <a:t>Орхестра</a:t>
            </a: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– круглая или полукруглая площадка, на которой выступали актёры и хо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311f"/>
                </a:solidFill>
                <a:uFillTx/>
                <a:latin typeface="Tahoma"/>
              </a:rPr>
              <a:t>Скене</a:t>
            </a: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– пристройка, примыкавшая к орхестре. К её стене прикрепляли полотнища, изображавшие то вход во дворец, то берег моря. Внутри скене хранились костюмы и маски актёр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41767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5640" y="333360"/>
            <a:ext cx="77770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11f"/>
                </a:solidFill>
                <a:latin typeface="Tahoma"/>
              </a:rPr>
              <a:t>В первом ряду сидели почётные г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11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21311f"/>
                </a:solidFill>
                <a:latin typeface="Tahoma"/>
              </a:rPr>
              <a:t>жрецы Диониса, стратеги, олимпио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530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92000" y="333360"/>
            <a:ext cx="6853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11f"/>
                </a:solidFill>
                <a:latin typeface="Tahoma"/>
              </a:rPr>
              <a:t>Актёрами были только муж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88000" y="1052640"/>
            <a:ext cx="21639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832360" cy="4583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280" y="5877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отурны – высокие башмаки красного или белого цвета на толстой пробковой подош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4259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Театральная мас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96000" y="188640"/>
            <a:ext cx="424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Маска – с древних времен важный атрибут театрального действ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Театральная маска исторически вышла из обрядовой мас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Традиционно существуе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	</a:t>
            </a:r>
            <a:r>
              <a:rPr b="1" lang="ru-RU" sz="2000" spc="-1" strike="noStrike" u="sng">
                <a:solidFill>
                  <a:srgbClr val="21311f"/>
                </a:solidFill>
                <a:uFillTx/>
                <a:latin typeface="Tahoma"/>
              </a:rPr>
              <a:t>в форме накладки на лицо</a:t>
            </a: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театр Древней Греци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Буддистский мистериальный театр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комедия дель арте и пр.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И </a:t>
            </a:r>
            <a:r>
              <a:rPr b="1" lang="ru-RU" sz="2000" spc="-1" strike="noStrike" u="sng">
                <a:solidFill>
                  <a:srgbClr val="21311f"/>
                </a:solidFill>
                <a:uFillTx/>
                <a:latin typeface="Tahoma"/>
              </a:rPr>
              <a:t>в форме маски-грима</a:t>
            </a: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японский театр Ноо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японский театр Кабу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Изображает «чужое лицо» или представляет «безличность», «безымянность», скрывая лицо (часть лица) под нейтральной повяз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4320" y="5157720"/>
            <a:ext cx="43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311f"/>
                </a:solidFill>
                <a:latin typeface="Tahoma"/>
              </a:rPr>
              <a:t>Театральные мас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311f"/>
                </a:solidFill>
                <a:latin typeface="Tahoma"/>
              </a:rPr>
              <a:t>Мозаика виллы Адриана в Тиволи (II ве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аждая маска увеличивала черты лица, подчеркивала страсть, которой одержим персонаж, и с помощью встроенного рупора усиливала звук. Маски были цветными: мужские лица — темные, женские — светлые. Раздражение и ярость передавались багровым цветом, мудрость — синим, хитрость — рыжим, болезнь — желты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32360" y="3213000"/>
            <a:ext cx="4105440" cy="2541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2301840" cy="252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23461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КОМЕ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1280" y="1125000"/>
            <a:ext cx="475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ОМЕДИЯ - произведение, изображающее такие жизненные положения и характеры, которые вызывают смех. В комедии - действующими лицами являлись обычные люди, современники автора и зрителей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Актеры высмеивали людские порок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глупость правителе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жадность торговцев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бесчеловечность военных, затевающих войны для собственной вы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741480" cy="2506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3120" y="4221000"/>
            <a:ext cx="390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311f"/>
                </a:solidFill>
                <a:latin typeface="Tahoma"/>
              </a:rPr>
              <a:t>Сцена из древнегреческой комед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311f"/>
                </a:solidFill>
                <a:latin typeface="Tahoma"/>
              </a:rPr>
              <a:t>Рисунок на ва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10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11f"/>
                </a:solidFill>
                <a:latin typeface="Tahoma"/>
              </a:rPr>
              <a:t>- произведение, изображающее борьбу, личную или общественную катастрофу, обычно оканчивающуюся гибелью героя. В трагедии действовали герои мифов, боги и геро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5352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0:51Z</dcterms:created>
  <dc:creator>Евгений</dc:creator>
  <dc:description/>
  <dc:language>en-US</dc:language>
  <cp:lastModifiedBy>Евгений</cp:lastModifiedBy>
  <dcterms:modified xsi:type="dcterms:W3CDTF">2013-01-26T16:30:17Z</dcterms:modified>
  <cp:revision>2</cp:revision>
  <dc:subject/>
  <dc:title>ТЕАТРАЛЬНАЯ МАСКА.</dc:title>
</cp:coreProperties>
</file>