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5A10-002E-407D-B5A2-140ABEE4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7455-8955-4903-B34D-FE0A4CF2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D26D5-5C89-41DD-9CB0-23AF2222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876B-59ED-40CD-859E-275DF8DED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93CE-5D2C-4FBF-8A29-B376ED64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B394-5D3A-44A4-BAE5-C5096F19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76C7-9905-41C6-AE0A-CF339E8C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45D5-E190-4073-9623-E0C10018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6D4B-CBDA-4285-91AD-98403A6B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2E05-CC4A-43CF-B63B-CA5C2E8C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26F9-3CA8-449E-A1CC-B90FD79E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066B-C152-4971-B447-7088B101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D886-592B-4089-939D-62746E99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8D19-A37C-4ABA-B62B-A91DAF79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5D94-3E90-4BB5-953E-CF3A361D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3F26-92EA-4F83-A99F-2A43547C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8359-A8B1-442E-87E6-1934FA26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B0C9-B4DF-4729-A08C-F4D4084E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0A06-1CCE-4B9D-ADFA-BB06CD6F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810A-B56C-431F-9524-AC7197AD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FD9AC-3CE7-4CF5-AFD0-FC187E0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8687-076C-4EC0-99FD-E0B7C48C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B3DD-E192-4FD2-86FC-ECB52BDB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1E66-EB59-4C64-98B5-61BEAA91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796B-706D-45D1-AA42-6B02A3FCF8C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b3b095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dddc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a9a78b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9d9b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c9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b0ac90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50000">
                  <a:srgbClr val="c1bf9f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cc5"/>
                </a:gs>
                <a:gs pos="100000">
                  <a:srgbClr val="c9c6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c9c6a5"/>
                </a:gs>
                <a:gs pos="100000">
                  <a:srgbClr val="dddcc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b0ac9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b0ac90"/>
                </a:gs>
                <a:gs pos="50000">
                  <a:srgbClr val="b1ad92"/>
                </a:gs>
                <a:gs pos="100000">
                  <a:srgbClr val="b0ac9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527F-C7CF-41E9-81AD-3E11E2EB2B4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1599840"/>
            <a:ext cx="74152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9933"/>
                </a:solidFill>
                <a:latin typeface="Tahoma"/>
              </a:rPr>
              <a:t>Древнегреческий ТЕАТР.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1f"/>
                </a:solidFill>
                <a:latin typeface="Tahoma"/>
              </a:rPr>
              <a:t>Выполнила: Зеличенко Л.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1311f"/>
                </a:solidFill>
                <a:latin typeface="Tahoma"/>
              </a:rPr>
              <a:t>Учитель ИЗО ГБОУ СОШ № 879, ЮАО, г. Москв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38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Театр в Древней Гре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56000" y="981000"/>
            <a:ext cx="4608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Театр возник в Древней Греции более 2500 лет назад в честь Великих Дионисий и бога Диониса, покровителя виноградар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Слово театр означает «место для зрелища» или само «зрелище»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Каждый полис имел свой театр. Он строился у подножия холма под открытым неб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4105440" cy="2800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4105440" cy="2697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-127440" y="6491160"/>
            <a:ext cx="46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1311f"/>
                </a:solidFill>
                <a:uFillTx/>
                <a:latin typeface="Tahoma"/>
              </a:rPr>
              <a:t>Театрон</a:t>
            </a:r>
            <a:r>
              <a:rPr b="0" lang="en-US" sz="1800" spc="-1" strike="noStrike">
                <a:solidFill>
                  <a:srgbClr val="21311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21311f"/>
                </a:solidFill>
                <a:latin typeface="Tahoma"/>
              </a:rPr>
              <a:t>— здание греческого теа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Устройство теат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0920" y="4508280"/>
            <a:ext cx="48974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311f"/>
                </a:solidFill>
                <a:uFillTx/>
                <a:latin typeface="Tahoma"/>
              </a:rPr>
              <a:t>Амфитеатр</a:t>
            </a: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 — зрительская часть греческого театра, разделенная проходами на сектора и поднимающаяся полукругом над орхестр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76720" y="907560"/>
            <a:ext cx="3888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311f"/>
                </a:solidFill>
                <a:uFillTx/>
                <a:latin typeface="Tahoma"/>
              </a:rPr>
              <a:t>Орхестра</a:t>
            </a: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 – круглая или полукруглая площадка, на которой выступали актёры и хо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1311f"/>
                </a:solidFill>
                <a:uFillTx/>
                <a:latin typeface="Tahoma"/>
              </a:rPr>
              <a:t>Скене</a:t>
            </a: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 – пристройка, примыкавшая к орхестре. К её стене прикрепляли полотнища, изображавшие то вход во дворец, то берег моря. Внутри скене хранились костюмы и маски актёр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41767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15640" y="333360"/>
            <a:ext cx="77770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11f"/>
                </a:solidFill>
                <a:latin typeface="Tahoma"/>
              </a:rPr>
              <a:t>В первом ряду сидели почётные гост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311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21311f"/>
                </a:solidFill>
                <a:latin typeface="Tahoma"/>
              </a:rPr>
              <a:t>жрецы Диониса, стратеги, олимпиони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5530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692000" y="333360"/>
            <a:ext cx="6853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11f"/>
                </a:solidFill>
                <a:latin typeface="Tahoma"/>
              </a:rPr>
              <a:t>Актёрами были только мужчи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588000" y="1052640"/>
            <a:ext cx="2163960" cy="453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5832360" cy="4583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3280" y="587700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Котурны – высокие башмаки красного или белого цвета на толстой пробковой подош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4259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Театральная мас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96000" y="188640"/>
            <a:ext cx="4248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Маска – с древних времен важный атрибут театрального действ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Театральная маска исторически вышла из обрядовой мас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Традиционно существуе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	</a:t>
            </a:r>
            <a:r>
              <a:rPr b="1" lang="ru-RU" sz="2000" spc="-1" strike="noStrike" u="sng">
                <a:solidFill>
                  <a:srgbClr val="21311f"/>
                </a:solidFill>
                <a:uFillTx/>
                <a:latin typeface="Tahoma"/>
              </a:rPr>
              <a:t>в форме накладки на лицо</a:t>
            </a: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311f"/>
                </a:solidFill>
                <a:latin typeface="Tahoma"/>
              </a:rPr>
              <a:t>театр Древней Греци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311f"/>
                </a:solidFill>
                <a:latin typeface="Tahoma"/>
              </a:rPr>
              <a:t>Буддистский мистериальный театр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311f"/>
                </a:solidFill>
                <a:latin typeface="Tahoma"/>
              </a:rPr>
              <a:t>комедия дель арте и пр.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И </a:t>
            </a:r>
            <a:r>
              <a:rPr b="1" lang="ru-RU" sz="2000" spc="-1" strike="noStrike" u="sng">
                <a:solidFill>
                  <a:srgbClr val="21311f"/>
                </a:solidFill>
                <a:uFillTx/>
                <a:latin typeface="Tahoma"/>
              </a:rPr>
              <a:t>в форме маски-грима</a:t>
            </a: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311f"/>
                </a:solidFill>
                <a:latin typeface="Tahoma"/>
              </a:rPr>
              <a:t>японский театр Ноо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311f"/>
                </a:solidFill>
                <a:latin typeface="Tahoma"/>
              </a:rPr>
              <a:t>японский театр Кабук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311f"/>
                </a:solidFill>
                <a:latin typeface="Tahoma"/>
              </a:rPr>
              <a:t>Изображает «чужое лицо» или представляет «безличность», «безымянность», скрывая лицо (часть лица) под нейтральной повяз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572000" cy="3216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4320" y="5157720"/>
            <a:ext cx="437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311f"/>
                </a:solidFill>
                <a:latin typeface="Tahoma"/>
              </a:rPr>
              <a:t>Театральные мас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311f"/>
                </a:solidFill>
                <a:latin typeface="Tahoma"/>
              </a:rPr>
              <a:t>Мозаика виллы Адриана в Тиволи (II ве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713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Каждая маска увеличивала черты лица, подчеркивала страсть, которой одержим персонаж, и с помощью встроенного рупора усиливала звук. Маски были цветными: мужские лица — темные, женские — светлые. Раздражение и ярость передавались багровым цветом, мудрость — синим, хитрость — рыжим, болезнь — желты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932360" y="3213000"/>
            <a:ext cx="4105440" cy="2541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627280" y="3213000"/>
            <a:ext cx="2301840" cy="2521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234612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КОМЕД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11280" y="1125000"/>
            <a:ext cx="4753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КОМЕДИЯ - произведение, изображающее такие жизненные положения и характеры, которые вызывают смех. В комедии - действующими лицами являлись обычные люди, современники автора и зрителей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Актеры высмеивали людские пороки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глупость правителе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жадность торговцев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05c8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311f"/>
                </a:solidFill>
                <a:latin typeface="Tahoma"/>
              </a:rPr>
              <a:t>бесчеловечность военных, затевающих войны для собственной выг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741480" cy="2506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3120" y="4221000"/>
            <a:ext cx="390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311f"/>
                </a:solidFill>
                <a:latin typeface="Tahoma"/>
              </a:rPr>
              <a:t>Сцена из древнегреческой комед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311f"/>
                </a:solidFill>
                <a:latin typeface="Tahoma"/>
              </a:rPr>
              <a:t>Рисунок на ваз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Tahoma"/>
              </a:rPr>
              <a:t>ТРАГЕД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859280" y="1557000"/>
            <a:ext cx="410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311f"/>
                </a:solidFill>
                <a:latin typeface="Tahoma"/>
              </a:rPr>
              <a:t>- произведение, изображающее борьбу, личную или общественную катастрофу, обычно оканчивающуюся гибелью героя. В трагедии действовали герои мифов, боги и геро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5352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0:51Z</dcterms:created>
  <dc:creator>Евгений</dc:creator>
  <dc:description/>
  <dc:language>en-US</dc:language>
  <cp:lastModifiedBy>Евгений</cp:lastModifiedBy>
  <dcterms:modified xsi:type="dcterms:W3CDTF">2013-01-26T16:30:17Z</dcterms:modified>
  <cp:revision>2</cp:revision>
  <dc:subject/>
  <dc:title>ТЕАТРАЛЬНАЯ МАСКА.</dc:title>
</cp:coreProperties>
</file>