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83D-511A-484F-B19E-EFC9AA67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E04-E368-468E-BEBD-93B52148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9964-B849-4438-A37F-C53FBDAA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AF45-56D8-4EC6-A188-26420815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AC5A-D510-42A5-862D-99D47A2A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A352-5623-4F28-BDB8-C987BCF5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9CE5-0E4B-471D-9709-130B5422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0C1A-6DB8-4A38-8967-A18C3457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D2A-A0A4-401E-A78A-E211B58D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D709-D238-4E03-9FC7-F4F4D413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D2B-1099-46FB-98CC-DFC0C547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183-ED78-4BB0-84CB-F8867927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72F0-6E1B-44B7-B0F5-0A943CEDF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Сатирические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разы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53520" y="1699200"/>
            <a:ext cx="734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ти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лат. satira) 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явление комического в искусст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879640" cy="275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776680" cy="6193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348000" y="3068640"/>
            <a:ext cx="2720880" cy="352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39640" y="3068640"/>
            <a:ext cx="2492640" cy="342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284720" y="33336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крыник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5538600" cy="5904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7280" y="638172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оре Домье. Луи Филипп превращается в груш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843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51280" y="64911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905280" cy="5477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03640" y="189000"/>
            <a:ext cx="3895920" cy="6076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609300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5349960" cy="5472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62262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йоф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27280" y="333360"/>
            <a:ext cx="4211640" cy="5975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00360" y="630864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йя. 17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7628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АТИ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вид комического (см. «Эстетика»), отличающийся от других видов (юмора, иронии) резкостью обли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075120" cy="4869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2360" y="5302080"/>
            <a:ext cx="421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рика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(перегружать)- Жанр, в котором намеренно подчёркивается, преувеличивается одна из сторон изображаемого, что вызывает комический эфф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530208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Шар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жанр, в котором подчёркивается, преувеличивается характерные особенности изображаемого. Шарж всегда связан с мягкой иронией и юм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0" y="260280"/>
            <a:ext cx="3753000" cy="4543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165800" y="44370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фи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09:18:35Z</dcterms:created>
  <dc:creator>дикий КОТ</dc:creator>
  <dc:description/>
  <dc:language>en-US</dc:language>
  <cp:lastModifiedBy>дикий КОТ</cp:lastModifiedBy>
  <dcterms:modified xsi:type="dcterms:W3CDTF">2013-03-31T10:42:35Z</dcterms:modified>
  <cp:revision>36</cp:revision>
  <dc:subject/>
  <dc:title>Портрет </dc:title>
</cp:coreProperties>
</file>