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BB4-878C-48D7-83B4-C0D34EA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A43-BF59-4D39-80EF-3265687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AB4-2115-4DA3-A35F-78CC55CE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6E8-FA9E-4921-9E68-862FF8DD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141-ED7C-4D7C-B60D-2BB3D4B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1E3-E039-4BCB-B31F-DC0336B0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8CE-DC7F-4D82-99CC-1F2193FE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336-7A94-4775-9998-0214BEE1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6D3-1ECE-4EC6-8B24-6E2FF7D4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9C4-339D-499F-BC78-B251FA01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256-E2C8-43A1-BEB9-A4EC1F14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937-2EBE-4276-A686-608E643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98E-6841-4DE7-9A1C-954AE5A4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Сатирически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ы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3520" y="1699200"/>
            <a:ext cx="73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ти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ат. satira) 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ение комического в искусст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79640" cy="275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76680" cy="619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2720880" cy="352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9640" y="3068640"/>
            <a:ext cx="24926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84720" y="33336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крыни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538600" cy="590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63817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ре Домье. Луи Филипп превращается в гру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84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51280" y="64911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905280" cy="547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189000"/>
            <a:ext cx="3895920" cy="6076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6093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349960" cy="547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6226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оф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211640" cy="5975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00360" y="63086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йя. 17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628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АТ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вид комического (см. «Эстетика»), отличающийся от других видов (юмора, иронии) резкостью обли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075120" cy="486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530208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рик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(перегружать)- Жанр, в котором намеренно подчёркивается, преувеличивается одна из сторон изображаемого, что вызывает комический эф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30208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ар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жанр, в котором подчёркивается, преувеличивается характерные особенности изображаемого. Шарж всегда связан с мягкой иронией и юм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753000" cy="4543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65800" y="4437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9:18:35Z</dcterms:created>
  <dc:creator>дикий КОТ</dc:creator>
  <dc:description/>
  <dc:language>en-US</dc:language>
  <cp:lastModifiedBy>дикий КОТ</cp:lastModifiedBy>
  <dcterms:modified xsi:type="dcterms:W3CDTF">2013-03-31T10:42:35Z</dcterms:modified>
  <cp:revision>36</cp:revision>
  <dc:subject/>
  <dc:title>Портрет </dc:title>
</cp:coreProperties>
</file>