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9EA-3AE6-4D62-B256-E50B43A3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BB0-A476-4F2F-9839-1154DE7B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1A5-F316-4686-86F3-89D06126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628-B661-49B1-9425-86352DBD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415-8F59-485F-B22B-9D6818B2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B24-5C1C-4F04-9C1D-015ED8B5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3D2-71A7-4220-8FE9-A42EE4D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5FC-C3DC-4B47-B858-D21FA66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930-6C4C-421D-A96D-77923E2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CAB-8414-4BD5-B184-771819C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3A9-F10F-4C35-88BC-8DDA7B9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36A-2CDE-42C6-9B82-62C0A67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A629-D88F-4A93-9816-25CECAE3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знь каждого дня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ая тема в искус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означает принять человека как цен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91960"/>
            <a:ext cx="7777080" cy="554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00720" y="5877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. Т. Пименов. . Начало любви.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31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35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Попков «Развод». 196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88000" y="3490920"/>
            <a:ext cx="4125960" cy="319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02880" y="29973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Поп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Лето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89800" cy="601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качёв А. П. У колодца.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9530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92360" y="57340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Попков «Ссора».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30:26Z</dcterms:created>
  <dc:creator>дикий КОТ</dc:creator>
  <dc:description/>
  <dc:language>en-US</dc:language>
  <cp:lastModifiedBy>дикий КОТ</cp:lastModifiedBy>
  <dcterms:modified xsi:type="dcterms:W3CDTF">2013-04-03T19:09:10Z</dcterms:modified>
  <cp:revision>36</cp:revision>
  <dc:subject/>
  <dc:title>Слайд 1</dc:title>
</cp:coreProperties>
</file>