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121-A56E-4C68-B709-1251E0FE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542-8EB3-4FE6-9D30-E073AF3B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8F0-338B-427A-AC23-4233399C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44C-407C-4E5A-94B6-B4619947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702-62FE-468A-ADE2-D3C7AA89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FBC-044D-48D3-AA5B-0E56278D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A0B-8E73-41D8-99D1-D370813A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FD7-6876-4AE1-A5B2-2D69220A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B23-5F07-4237-8E3E-399BBE43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DFF-250A-4BF9-88FA-E6B8A86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254-FCE8-412D-A255-FCBF6E36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5D6-631D-4CA2-AAB9-1952D6BC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83CF-6D6C-4F24-9B45-105350568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знь каждого дня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ая тема в искус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означает принять человека как ценнос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291960"/>
            <a:ext cx="7777080" cy="554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00720" y="5877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. Т. Пименов. . Начало любви.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31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35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. Попков «Развод». 196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88000" y="3490920"/>
            <a:ext cx="4125960" cy="3198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02880" y="29973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. Поп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Лето 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489800" cy="6016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6237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качёв А. П. У колодца.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953040" cy="543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92360" y="57340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. Попков «Ссора».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8:30:26Z</dcterms:created>
  <dc:creator>дикий КОТ</dc:creator>
  <dc:description/>
  <dc:language>en-US</dc:language>
  <cp:lastModifiedBy>дикий КОТ</cp:lastModifiedBy>
  <dcterms:modified xsi:type="dcterms:W3CDTF">2013-04-03T19:09:10Z</dcterms:modified>
  <cp:revision>36</cp:revision>
  <dc:subject/>
  <dc:title>Слайд 1</dc:title>
</cp:coreProperties>
</file>