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980-34CE-4B16-BF18-CA8D52ED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0CF-7BEA-45AC-B8DB-FDBE00F3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EB0-ACD4-4525-879D-F83B8C63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AFD-39AB-49B3-9AEB-17B6F086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084-0BDA-43FC-8444-469DA5A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F53-95B5-40FF-9C7A-4E78F94C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BD4-F49A-4D06-A54C-2D1C4175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680-C492-4FAB-8FCB-C3B288FA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A3F-7F0B-43B5-BCF6-0DF9C0D1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D62-9C55-400B-85D9-9534EB1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497-0504-4923-BE70-4F1EAA1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142-78DE-4C41-8FE1-1AFCA92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0A02-B14C-439C-AECE-B555E67AE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950760" y="1023840"/>
            <a:ext cx="7454880" cy="227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75000" y="4646880"/>
            <a:ext cx="6108480" cy="707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Автор: Шелкунова Яросла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Руководитель: Цыдыпова Ю.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Группа 65" descr=""/>
          <p:cNvPicPr/>
          <p:nvPr/>
        </p:nvPicPr>
        <p:blipFill>
          <a:blip r:embed="rId2"/>
          <a:stretch/>
        </p:blipFill>
        <p:spPr>
          <a:xfrm>
            <a:off x="365040" y="2938320"/>
            <a:ext cx="8352000" cy="1127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79" name="Заголовок 35" descr=""/>
          <p:cNvPicPr/>
          <p:nvPr/>
        </p:nvPicPr>
        <p:blipFill>
          <a:blip r:embed="rId2"/>
          <a:stretch/>
        </p:blipFill>
        <p:spPr>
          <a:xfrm>
            <a:off x="963720" y="-60480"/>
            <a:ext cx="7284960" cy="1487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989600" y="1483920"/>
            <a:ext cx="3777840" cy="446868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евает препятствия, выполняет задания, проявляя силу и ловкость, переодевшись парнем или выдав себя за бра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Группа 65" descr=""/>
          <p:cNvPicPr/>
          <p:nvPr/>
        </p:nvPicPr>
        <p:blipFill>
          <a:blip r:embed="rId3"/>
          <a:stretch/>
        </p:blipFill>
        <p:spPr>
          <a:xfrm>
            <a:off x="907920" y="993600"/>
            <a:ext cx="7272360" cy="76860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5" descr="5498695_Brunhilda.jpg"/>
          <p:cNvPicPr/>
          <p:nvPr/>
        </p:nvPicPr>
        <p:blipFill>
          <a:blip r:embed="rId4"/>
          <a:stretch/>
        </p:blipFill>
        <p:spPr>
          <a:xfrm>
            <a:off x="963720" y="1695600"/>
            <a:ext cx="3614760" cy="39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03000" y="1600200"/>
            <a:ext cx="7938000" cy="438012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женщины в бурятских волшебных сказках занимает особое мест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урятских волшебных сказках выделяется четыре основных архетипа: «мать», «гонимая сирота», «дева-красавица(мастерица)», «богатырша-воительница»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бразы имеют национальные черт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Группа 65" descr=""/>
          <p:cNvPicPr/>
          <p:nvPr/>
        </p:nvPicPr>
        <p:blipFill>
          <a:blip r:embed="rId3"/>
          <a:stretch/>
        </p:blipFill>
        <p:spPr>
          <a:xfrm>
            <a:off x="907920" y="993600"/>
            <a:ext cx="7272360" cy="768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45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особенностей образа женщины в бурятских волшебных сказк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часто повторяющиеся образы, сюжеты, мотивы в фольклорных и литературных произведен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53" name="Заголовок 35" descr=""/>
          <p:cNvPicPr/>
          <p:nvPr/>
        </p:nvPicPr>
        <p:blipFill>
          <a:blip r:embed="rId2"/>
          <a:stretch/>
        </p:blipFill>
        <p:spPr>
          <a:xfrm>
            <a:off x="450720" y="-6048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ская индивидуальность(например, о Пушкине ученые говорят как об «архаическом архетипе поэта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е образы» (например, Гамлет,         Дон - Жуан, Дон Кихо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героев (например, «матери», «дитят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ы – символы, часто природные (например, цветок, мор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57" name="Заголовок 35" descr=""/>
          <p:cNvPicPr/>
          <p:nvPr/>
        </p:nvPicPr>
        <p:blipFill>
          <a:blip r:embed="rId2"/>
          <a:stretch/>
        </p:blipFill>
        <p:spPr>
          <a:xfrm>
            <a:off x="895320" y="-60480"/>
            <a:ext cx="7211880" cy="1487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матери(Великая Мать, Ужасная Мать, Ревнивая Мачеха, Ведьма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гонимой сироты(падчерицы, девушки из бедной семьи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мудрой девы-красавицы (рукодельницы, мастерицы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богатырши-воительницы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070280" y="1814400"/>
            <a:ext cx="7074360" cy="42588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– носительница народной мудро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– заботливая мать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– мудрая, находчивая жена (сестра, невеста, дочь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-мастерица, умелиц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имеет небесное происхождени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Группа 65" descr=""/>
          <p:cNvPicPr/>
          <p:nvPr/>
        </p:nvPicPr>
        <p:blipFill>
          <a:blip r:embed="rId1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  <p:pic>
        <p:nvPicPr>
          <p:cNvPr id="65" name="Группа 65" descr=""/>
          <p:cNvPicPr/>
          <p:nvPr/>
        </p:nvPicPr>
        <p:blipFill>
          <a:blip r:embed="rId2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66" name="Заголовок 35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87520" y="1600200"/>
            <a:ext cx="3777840" cy="43956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матери связан в первую очередь с образом сы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тип матери может быть амбивалентен. Так, он трансформируется в образы ведьмы, злой мачехи, ужасной мат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77" descr="12.jpg"/>
          <p:cNvPicPr/>
          <p:nvPr/>
        </p:nvPicPr>
        <p:blipFill>
          <a:blip r:embed="rId4"/>
          <a:stretch/>
        </p:blipFill>
        <p:spPr>
          <a:xfrm>
            <a:off x="4998960" y="1182600"/>
            <a:ext cx="3322800" cy="5102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70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614320" y="1628640"/>
            <a:ext cx="3778200" cy="43956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ерность и стойкость этим героиням всегда воздается по справедливости, а их злые гонители наказываютс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Группа 65" descr=""/>
          <p:cNvPicPr/>
          <p:nvPr/>
        </p:nvPicPr>
        <p:blipFill>
          <a:blip r:embed="rId3"/>
          <a:stretch/>
        </p:blipFill>
        <p:spPr>
          <a:xfrm>
            <a:off x="907920" y="993600"/>
            <a:ext cx="7272360" cy="768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6092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Группа 65" descr=""/>
          <p:cNvPicPr/>
          <p:nvPr/>
        </p:nvPicPr>
        <p:blipFill>
          <a:blip r:embed="rId1"/>
          <a:stretch/>
        </p:blipFill>
        <p:spPr>
          <a:xfrm>
            <a:off x="987480" y="5437080"/>
            <a:ext cx="7265880" cy="768600"/>
          </a:xfrm>
          <a:prstGeom prst="rect">
            <a:avLst/>
          </a:prstGeom>
          <a:ln w="0">
            <a:noFill/>
          </a:ln>
        </p:spPr>
      </p:pic>
      <p:pic>
        <p:nvPicPr>
          <p:cNvPr id="74" name="Заголовок 3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87520" y="1600200"/>
            <a:ext cx="3777840" cy="4395600"/>
          </a:xfrm>
          <a:prstGeom prst="rect">
            <a:avLst/>
          </a:prstGeom>
          <a:gradFill rotWithShape="0">
            <a:gsLst>
              <a:gs pos="0">
                <a:srgbClr val="a3c4ff">
                  <a:alpha val="90196"/>
                </a:srgbClr>
              </a:gs>
              <a:gs pos="100000">
                <a:srgbClr val="e5eeff">
                  <a:alpha val="74117"/>
                </a:srgbClr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ницы в любом домашнем тру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умны, хитры, находчивы, мудрые доч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Группа 65" descr=""/>
          <p:cNvPicPr/>
          <p:nvPr/>
        </p:nvPicPr>
        <p:blipFill>
          <a:blip r:embed="rId3"/>
          <a:stretch/>
        </p:blipFill>
        <p:spPr>
          <a:xfrm>
            <a:off x="938160" y="1006560"/>
            <a:ext cx="7267680" cy="7729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3" descr="16.webp"/>
          <p:cNvPicPr/>
          <p:nvPr/>
        </p:nvPicPr>
        <p:blipFill>
          <a:blip r:embed="rId4"/>
          <a:stretch/>
        </p:blipFill>
        <p:spPr>
          <a:xfrm>
            <a:off x="4998960" y="1335240"/>
            <a:ext cx="3286080" cy="4833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3:22:29Z</dcterms:created>
  <dc:creator>Ярослава</dc:creator>
  <dc:description/>
  <dc:language>en-US</dc:language>
  <cp:lastModifiedBy>Slava</cp:lastModifiedBy>
  <dcterms:modified xsi:type="dcterms:W3CDTF">2013-04-05T07:50:37Z</dcterms:modified>
  <cp:revision>8</cp:revision>
  <dc:subject/>
  <dc:title>АРХЕТИП ЖЕНЩИНЫ В БУРЯТСКИХ ВОЛШЕБНЫХ СКАЗ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80939990</vt:lpwstr>
  </property>
</Properties>
</file>