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275-3EB9-447A-AC07-33C960FE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305-B011-4D3D-B74C-512AABC6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727-8A3F-4BD7-B8B9-10105072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ACE-1D25-4342-A78E-16FDBDCA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BDB0-A5D5-4FE5-AB66-0BDAA414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CE9F-5E9C-4859-B03D-78ACCE3E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1EBF-DF61-428C-987B-59F3D084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5CA1-926B-48C9-A678-64CC6306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FEBC-238A-45D1-A68C-9DC8E95D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C241-30B8-4F26-A9FA-97BF6970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255B-82DE-435C-B72E-4C20266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A99-7127-4C4F-BB40-93E57A14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08A-77EE-4016-BFBE-5610DA39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8520-D0EF-4A27-AAF3-42F2692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D161-4DC3-4D1A-B07B-B596C15D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BFDA-AEA8-462C-82F6-9BE18FA8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04D6-E798-47BD-B18A-41D39BE1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D8E-4958-44F7-8694-B8391938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BCF-A6DE-417C-A34E-137E7997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A5A-1253-4BA3-95FB-B1E5937D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0E6-001B-436F-9D46-DFF535EF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B977-ED76-4930-9157-DFC5AEE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DC0-9CCB-4C7C-A4A6-4587BF6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161-6B8C-4481-B11D-41B2DE57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84BD-C01A-42F1-B323-065F0E4580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B86E-6990-4024-B853-02CF0D1087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Атмосфера и атмосферное давление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-1767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то такое атмосфера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очему атмосфера давит на наш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ланету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ак можно обнаружить атмосферное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авлени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ак можно использовать атмосферное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авление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акое значение имеет атмосфера для Земл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читать и ответить на вопросы 40, 41 параграфов учебника и решить задачи упр 17,упр 18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 ваш выбор подготовьте 1 занимательный опыт на использование атмосферного давления. Занимательные опыты можно найти в книгах «Занимательная физика» Перельмана и других, а также на сайтах  http://vpl54.narod.ru/FOKUS.html,  http://www.lmagic.inf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аша плане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Есть одна планета-са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 этом космосе холодн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Только здесь леса шумят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тиц скликая перелётных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ишь на ней одной цветут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Ландыши в траве зелёной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И стрекозы только ту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 речку смотрят удивлённ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ереги свою планету –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едь другой, похожей, нету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Я. Аким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ссмотреть причины, создающие атмосферное давление, выяснить влияние земной атмосферы на живые организмы. Дать определение атмосферного давления и раскрыть его природу; ознакомить школьников с явлениями, вызванными действием атмосферы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задачи урока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звитие умений и навыков экспериментальной деятельности учащихся; научить видеть вокруг физические явления, уметь их правильно объяснять, пробудить интерес к предмету, расширить кругозор учащихся, формировать научное мировоззрени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Развитие мыслительных операций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анализиров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синтезиров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сравнив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обобща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ыделять главно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Воспитание: трудолюбия, настойчивости в достижении цели, культуры труда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борудование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мпьютер, мультимедийный проектор, экран, приборы для проведения простых опытов, доказывающих существование атмосферного давления, презентац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виз урока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услышал и забыл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увидел и запомнил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сделал и понял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итайская народная пословиц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ез сомнения, все наше знание начинается с опыт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(Кант Эммануил. Немецкий философ 1724-1804г.г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тмосфера Земли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848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тмосферное давление – это давление, оказываемое атмосферой Земли на земную поверхность и на все тела, находящиеся на ней. Ту силу, с которой атмосфера давит на выбранный участок поверхности, называют атмосферным давлением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12:12Z</dcterms:created>
  <dc:creator>Алексей</dc:creator>
  <dc:description/>
  <dc:language>en-US</dc:language>
  <cp:lastModifiedBy>Алексей</cp:lastModifiedBy>
  <dcterms:modified xsi:type="dcterms:W3CDTF">2013-02-14T13:56:27Z</dcterms:modified>
  <cp:revision>5</cp:revision>
  <dc:subject/>
  <dc:title>Атмосфера и атмосферное давление.</dc:title>
</cp:coreProperties>
</file>