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CAC-1519-44A2-B0DD-23C0FFB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E6A-E182-4CFF-973A-44C2D31B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679-0EA0-40AF-97CA-433745A1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72E-923D-4D19-B852-1D11D4CD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F3A9-173F-4457-9B5E-60FAE0F6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67BA-2BD5-453B-82F7-0C920AC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304-85AA-497E-AA1C-7CE498A4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C8B7-2E14-41FB-8B98-3A4483B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F99-44F6-41CE-8F88-3B466994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4F5F-7BDF-422B-AB16-CFA082BB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1113-FC21-46D3-9F05-9839BAD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601-E1F0-4F89-8227-E3C80D4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61EF-C3D4-4D1D-AE82-A959CE3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2E4-C5DD-4EDC-943B-2415135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745-CB63-4CC9-AC77-43C9C1B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7818-4F33-40A6-8BD8-7E22275E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EB9D-E195-4E68-A574-69708329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63D-FF8E-4C96-9D4A-C840F78A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7FB-8603-41B0-8C5C-3377E4F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957-C5C5-441B-B6D4-5310DF45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364-AECF-49C0-A81B-EBCCA22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647-0F64-407C-9294-18EC7CD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3E7-088D-4BBF-9627-BFCCDA9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20E-4156-4BAC-9BD0-E69CA9B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806-40CD-4BF0-B5AD-905013C779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CAFE-7613-43C8-B997-31F6B293BA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тмосфера и атмосферное давл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-1767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то такое атмосфер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чему атмосфера давит на наш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ланету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 можно обнаружить атмосферно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влени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 можно использовать атмосферно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влени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ое значение имеет атмосфера для Земл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читать и ответить на вопросы 40, 41 параграфов учебника и решить задачи упр 17,упр 18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ваш выбор подготовьте 1 занимательный опыт на использование атмосферного давления. Занимательные опыты можно найти в книгах «Занимательная физика» Перельмана и других, а также на сайтах  http://vpl54.narod.ru/FOKUS.html,  http://www.lmagic.inf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аша плане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сть одна планета-с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этом космосе холодн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олько здесь леса шумят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тиц скликая перелётных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ишь на ней одной цветут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андыши в траве зелёной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 стрекозы только ту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речку смотрят удивлённ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ереги свою планету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едь другой, похожей, нету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Я. Аки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ссмотреть причины, создающие атмосферное давление, выяснить влияние земной атмосферы на живые организмы. Дать определение атмосферного давления и раскрыть его природу; ознакомить школьников с явлениями, вызванными действием атмосфер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и урока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умений и навыков экспериментальной деятельности учащихся; научить видеть вокруг физические явления, уметь их правильно объяснять, пробудить интерес к предмету, расширить кругозор учащихся, формировать научное мировоззрени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мыслительных операций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нализиро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интезиро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равни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обобщ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ыделять главно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оспитание: трудолюбия, настойчивости в достижении цели, культуры труд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орудование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ьютер, мультимедийный проектор, экран, приборы для проведения простых опытов, доказывающих существование атмосферного давления, презентац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виз урока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услышал и забыл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увидел и запомнил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сделал и поня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итайская народная пословиц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ез сомнения, все наше знание начинается с опыт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Кант Эммануил. Немецкий философ 1724-1804г.г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тмосфера Земл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тмосферное давление – это давление, оказываемое атмосферой Земли на земную поверхность и на все тела, находящиеся на ней. Ту силу, с которой атмосфера давит на выбранный участок поверхности, называют атмосферным давление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12:12Z</dcterms:created>
  <dc:creator>Алексей</dc:creator>
  <dc:description/>
  <dc:language>en-US</dc:language>
  <cp:lastModifiedBy>Алексей</cp:lastModifiedBy>
  <dcterms:modified xsi:type="dcterms:W3CDTF">2013-02-14T13:56:27Z</dcterms:modified>
  <cp:revision>5</cp:revision>
  <dc:subject/>
  <dc:title>Атмосфера и атмосферное давление.</dc:title>
</cp:coreProperties>
</file>