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B4C-951C-4C64-96D2-61B48AF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BAA-F6F2-480A-BBE0-389F752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10D-51C8-499A-81F2-1DE419C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5E3-0A34-4389-B4FE-68DC437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519-481E-4B25-83EC-2936FF72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ECE-2D69-4B58-88E5-B33D705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784-2D9D-4F2F-8CAB-8BC2B66D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238-7556-41A4-B19B-D547884B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98A-4FBB-4884-A70C-94686567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BB5-E1A1-4E5A-AC18-1352BDB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917-CF4D-45F9-A766-E4EA51F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E3B-6866-4023-963F-83B97B5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2958-954B-477A-A703-80F46B2D9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341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549360"/>
            <a:ext cx="79912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ч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идетельствуют храмы Древней Рус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ч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или хра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…дети, потерявшие родителей, и народы, забывшие свою историю, становятся похожими друг на друг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началом духовного порабощения наро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«Построить новый храм легче, чем помириться с ближним. Хуже того: строительство храмов часто тем активнее, чем активнее разрушается связь между людьми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ушается единство людей, возникает отчужден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которые люди в наше время строят хра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З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ч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обще нужны храм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молвные свидетел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4220640"/>
            <a:ext cx="74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Что такое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Этого нельзя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можно лишь почувствов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486072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128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1164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фийский собор. 1045 – 105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4176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о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чие силуэ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декора на стен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ровая величав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ив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г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ликого Нов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280" y="1125360"/>
            <a:ext cx="35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ми чер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овгородской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16640"/>
            <a:ext cx="403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На кресте центрального купола храма сидит голубь. По преданию, Новгород умрет в тот день, когда птица упадет. За всю многовековую историю это случилось лишь однажды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71280"/>
            <a:ext cx="6408720" cy="5565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5950080"/>
            <a:ext cx="93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твердить незыблемость и вечность творений русского зодчества, бессмертие великой культу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такую задачу поставили перед собой худож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40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енный трагической красоты собор стоит на родной земле как твердыня, как символ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ероической славы России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 все времена он олицетворял независимость Новго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589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крыниксы. «Бегство фашистов из Новгорода».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чему такую всемирную известность и любовь снискала скромная и простая церковь Покрова на Нерли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209840" cy="633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-Суздальского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ня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-Суздаль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ня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21360"/>
            <a:ext cx="161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окрова Богород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на Нерли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дость русского зодчества, гимн красоте и гармонии человека и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700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484280"/>
            <a:ext cx="43560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рковь Покрова на Нерли - памятник становления и расцвета Владимирского княж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был возведен за один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ли из белого кам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увенчан одной главой на высоком бараб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 покрыты узореч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232160" cy="56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51280" y="5877000"/>
            <a:ext cx="439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крова Богородицы на Нерли.116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8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445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жский ансамбль. Преображенская церковь. ( 37 м)Мастер Нестор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17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сть в Кижах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н срублен топо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 меркнет перед ним  любая позолота, в нём дерево поёт сладчайшим язы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800" y="3319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ревянное зод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46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71600" y="60930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ображенская церков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 г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800" y="6491160"/>
            <a:ext cx="89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уникальное деревянное сооружение остаётся непревзойдённым чудом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0"/>
            <a:ext cx="7488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всё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 , прос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гармони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рамы рубились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з оси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ишь при помощи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топора и доло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Кровлю покрывали досками, а купола- дранкой, или леме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321080" cy="298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500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789360"/>
            <a:ext cx="374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чем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ольк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русской зем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огли  возникнуть такие церкви, которых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т и не могло никогда бы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 других народ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7:43:52Z</dcterms:created>
  <dc:creator>дикий КОТ</dc:creator>
  <dc:description/>
  <dc:language>en-US</dc:language>
  <cp:lastModifiedBy>дикий КОТ</cp:lastModifiedBy>
  <dcterms:modified xsi:type="dcterms:W3CDTF">2011-01-30T16:04:52Z</dcterms:modified>
  <cp:revision>60</cp:revision>
  <dc:subject/>
  <dc:title>Безмолвные свидетели </dc:title>
</cp:coreProperties>
</file>