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653-2CE3-46EC-B887-B50D161C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F4A-0881-4D77-940D-2FCB4A2F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7F8-81ED-403B-8A91-AD84AA4A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577-73BF-441A-8C2E-CFA3B2FF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5EC7-C679-465B-8A93-8711A284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C084-D619-4FB7-B3C0-3B16703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762-B79B-4461-B70A-78B5D9ED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8726-B94A-499D-A09E-C54D841B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449C-7554-4297-80ED-4CD169D7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F1DE-7343-4958-BC07-4C30CFA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3764-C37E-4906-A08C-B5715BB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4B5-33DF-4037-9E6B-D64934AD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E02F-C68D-4F1C-B959-E61598F5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5E94-282F-44EF-88AE-A5D9DEA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945-01B1-4D0F-9AD1-CB2AFD42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9C80-5E96-4F34-9E8E-8E77F094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6C75-0FFE-4AB4-A497-87A57E1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1A7-030F-4578-881D-C78BEAF5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96B-1B3C-4B8F-A6FB-9127D4C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788-B28E-4E6F-A3C8-20B55F4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5C9-8191-4759-AF48-C2583709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DEC-A0F5-4B1A-9D61-F96A9B1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309-E297-4FC7-BB0E-92FB8E6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C05-DD78-47B0-976C-AE13646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38DC-2B65-441D-A5D6-422E3F064B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7342-F766-4CE0-BA95-EDC0A7001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«Чем отличается  британский английский от американского английского?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90960" y="39621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9 «Б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цея №1 им. Г. С. Тит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живилова Ната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икушина Лариса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64680" y="6273720"/>
            <a:ext cx="105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138120" y="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ьное Научное Обществ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ШАГ В НАУКУ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Одно значение, но разные слов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Содержимое 6" descr="адфе.jpeg"/>
          <p:cNvPicPr/>
          <p:nvPr/>
        </p:nvPicPr>
        <p:blipFill>
          <a:blip r:embed="rId1"/>
          <a:stretch/>
        </p:blipFill>
        <p:spPr>
          <a:xfrm>
            <a:off x="1295280" y="40384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7" descr="i.jpeg"/>
          <p:cNvPicPr/>
          <p:nvPr/>
        </p:nvPicPr>
        <p:blipFill>
          <a:blip r:embed="rId2"/>
          <a:stretch/>
        </p:blipFill>
        <p:spPr>
          <a:xfrm>
            <a:off x="5105520" y="4038480"/>
            <a:ext cx="2311200" cy="1733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ььь.jpeg"/>
          <p:cNvPicPr/>
          <p:nvPr/>
        </p:nvPicPr>
        <p:blipFill>
          <a:blip r:embed="rId3"/>
          <a:stretch/>
        </p:blipFill>
        <p:spPr>
          <a:xfrm>
            <a:off x="1219320" y="167652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ьь.юю.jpeg"/>
          <p:cNvPicPr/>
          <p:nvPr/>
        </p:nvPicPr>
        <p:blipFill>
          <a:blip r:embed="rId4"/>
          <a:stretch/>
        </p:blipFill>
        <p:spPr>
          <a:xfrm>
            <a:off x="5029200" y="1752480"/>
            <a:ext cx="2452680" cy="15242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1295280" y="3429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10061"/>
                </a:solidFill>
                <a:latin typeface="Arial"/>
              </a:rPr>
              <a:t>Petrol VS gasolin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1607400" y="5867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0061"/>
                </a:solidFill>
                <a:latin typeface="Arial"/>
              </a:rPr>
              <a:t>Flat VS A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800600" y="3352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0061"/>
                </a:solidFill>
                <a:latin typeface="Arial"/>
              </a:rPr>
              <a:t>Pavement VS sidewa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5257800" y="5867280"/>
            <a:ext cx="17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0061"/>
                </a:solidFill>
                <a:latin typeface="Arial"/>
              </a:rPr>
              <a:t>Shop VS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ункту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16002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79132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828800" y="1600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British vari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136240" y="236052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onth/day/yea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/03/0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cember 3, 200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945400" y="236052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day/month/yea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/03/0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rch 12, 200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902960" y="4113720"/>
            <a:ext cx="33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sai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ove you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5788800" y="4113720"/>
            <a:ext cx="32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sai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ove yo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Граммати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85800" y="3171960"/>
            <a:ext cx="64008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85800" y="2077920"/>
            <a:ext cx="64008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28800" y="1600200"/>
          <a:ext cx="6858000" cy="2604960"/>
        </p:xfrm>
        <a:graphic>
          <a:graphicData uri="http://schemas.openxmlformats.org/drawingml/2006/table">
            <a:tbl>
              <a:tblPr/>
              <a:tblGrid>
                <a:gridCol w="4191120"/>
                <a:gridCol w="2666880"/>
              </a:tblGrid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bbc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ish varia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bbc67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nai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 a flight t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don today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nai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ve a flight t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don today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arge collective noun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an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 played well today, even if it los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an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ve played well today, even if they los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Governm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acting like itself agai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Governm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acting like themselves agai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81" descr=""/>
          <p:cNvPicPr/>
          <p:nvPr/>
        </p:nvPicPr>
        <p:blipFill>
          <a:blip r:embed="rId1"/>
          <a:stretch/>
        </p:blipFill>
        <p:spPr>
          <a:xfrm>
            <a:off x="369720" y="4970520"/>
            <a:ext cx="1459080" cy="1506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3"/>
          <p:cNvSpPr/>
          <p:nvPr/>
        </p:nvSpPr>
        <p:spPr>
          <a:xfrm>
            <a:off x="685800" y="2971800"/>
            <a:ext cx="64008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4191120"/>
          <a:ext cx="6858000" cy="2209320"/>
        </p:xfrm>
        <a:graphic>
          <a:graphicData uri="http://schemas.openxmlformats.org/drawingml/2006/table">
            <a:tbl>
              <a:tblPr/>
              <a:tblGrid>
                <a:gridCol w="4178160"/>
                <a:gridCol w="2679840"/>
              </a:tblGrid>
              <a:tr h="122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was differ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/than the othe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was differ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/to the oth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day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/to Frid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day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Frid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weeke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the weeke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варианта – одна осн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сходств, чем разли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ы различий – история, культура, современное общ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инирование Американского английского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, ссыл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 Ou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 78- 88 с.30-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ткина В. И. Новая лексика современного английского языка: Учебное пособие. – М.: Высшая школа, 1989, - 12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терчук Г. В. США и Американцы. – М.: Высшая школа, 1997, - 23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вейцер А. Д. Литературный английский язык в США и Англии. – М.: Высшая школа, 1971, - 20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вейцер А. Д. Очерк современного английского языка в США. – М.: Высшая школа, 1963, - 21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вейцер А. Д. Социальная дифференциация английского языка в США. – М., 19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арь иностранных слов.// Под редакцией Лехина И. В. и профессора Петрова Ф. Н. Издание 4, переработанное и дополненное. – М.: Государственное издательство иностранных и национальных словарей, 19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очник «Все трудности английской фонетики и орфограф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// Collins. Russian-English Dictionary.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, 1996 – 57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 ссыл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english.language.ru/curious/curious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thedifference.ru/otlichie-britanskogo-anglijskogo-ot-amerikanskogo-anglijskog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inolang.ru/english/28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omeenglish.ru/Articlesosnovn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udynow.ru/other/britishameric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xreferat.ru/119/88-1-razlichiya-v-leksike-britanskogo-i-amerikanskogo-variantov-angliiyskogo-yazyka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Цели работ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лечь внимание учащихся к различию двух язы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77000" cy="3227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Задачи работы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материал по затронутой 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области языкового различия: орфография, фонетика, лексика, грам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собранную информ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йти к вывод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Распространение Британского Английского язы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305920" cy="484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ичины доминирования американского английского язы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7368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енность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щная эконом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ая численность ВУ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совые средства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ериканская поп-куль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тическое и экономическ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Недопонима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414972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 flipH="1">
            <a:off x="4419720" y="1752480"/>
            <a:ext cx="761760" cy="213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419720" y="373356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4038120" y="3733920"/>
            <a:ext cx="83844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4038480" y="5486400"/>
            <a:ext cx="15264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Фонетические различия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ritish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5909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571500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85800" y="266688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анец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62120" y="2057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2665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æ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477120" y="266688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a: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533520" y="3961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прашива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4431960" y="35697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6858000" y="388512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: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4" descr="0005"/>
          <p:cNvPicPr/>
          <p:nvPr/>
        </p:nvPicPr>
        <p:blipFill>
          <a:blip r:embed="rId1"/>
          <a:stretch/>
        </p:blipFill>
        <p:spPr>
          <a:xfrm>
            <a:off x="6629400" y="5029200"/>
            <a:ext cx="1905120" cy="1290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5"/>
          <p:cNvSpPr/>
          <p:nvPr/>
        </p:nvSpPr>
        <p:spPr>
          <a:xfrm>
            <a:off x="3430440" y="3961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əsk]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мофон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British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981080" y="1600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59436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553080" y="220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lou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3200400" y="228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ol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609840" y="228600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kʌlər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3430080" y="3656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6859080" y="3656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ent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3880" y="36576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Одно слово, но разное значение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440" y="1600200"/>
            <a:ext cx="77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British vari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85440" y="243684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tɔ:rtʃ]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954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к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632280" y="2514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нар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12120" y="362988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iscu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ɪskɪ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96560" y="365760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к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633000" y="36576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057400" y="1600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638680" y="1676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" descr="bild5"/>
          <p:cNvPicPr/>
          <p:nvPr/>
        </p:nvPicPr>
        <p:blipFill>
          <a:blip r:embed="rId1"/>
          <a:stretch/>
        </p:blipFill>
        <p:spPr>
          <a:xfrm>
            <a:off x="6629400" y="4756320"/>
            <a:ext cx="2187720" cy="187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7:09:57Z</dcterms:created>
  <dc:creator>1</dc:creator>
  <dc:description/>
  <dc:language>en-US</dc:language>
  <cp:lastModifiedBy>Admin</cp:lastModifiedBy>
  <dcterms:modified xsi:type="dcterms:W3CDTF">2013-04-04T11:46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