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D0B-79C9-4A2F-84E3-E1F84D8A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FEA-86C4-4EE9-830A-B58A5DA4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16F-249B-418E-B1FD-779A1F00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8A3-FA5E-45A7-AC51-F05FC620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69B6-FA34-4761-A537-936155BD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8FB3-1854-4FB4-9FFA-12A60699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3BF-31F2-45E6-AF94-74FDFA9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FC49-6B0B-465F-AD0A-833C1EE8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0B93-5501-412E-95BE-87636EDD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430F-7409-4C2B-B268-DA9F2EC0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124D-5546-4C39-A60A-C7BC360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3AD-8CDA-48CB-8EC8-B105250F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C31-9CE1-49C5-B44B-E857561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5E7B-1E6F-47A5-9B19-2A4A4C12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F6DC-EBD5-4A8D-B535-B2B99646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91BB-BB0B-47D8-8D7E-0437BB07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2F3A-E92B-4F69-89C4-9CAFBA02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EB44-EC00-4ECE-B4EA-374FE442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608-9701-4005-93B8-0E5621A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E68-3D11-4174-B862-A232BDB4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D34-DC16-4D6B-9186-EDE93C54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00A-6C58-48F7-8561-F6C41976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23C-0509-4CEC-9B09-CD9C71C7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FFA-A1EB-4EA2-8340-2ACF4F2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1A5-DDAC-4508-AFAB-39C10BF775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7980-FC2B-4EB1-ACC8-3CEBECBB23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«Чем отличается  британский английский от американского английского?»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90960" y="39621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ница 9 «Б»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цея №1 им. Г. С. Тит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живилова Ната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икушина Лариса Иван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964680" y="6273720"/>
            <a:ext cx="105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138120" y="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льное Научное Обществ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ШАГ В НАУКУ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Одно значение, но разные слова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Содержимое 6" descr="адфе.jpeg"/>
          <p:cNvPicPr/>
          <p:nvPr/>
        </p:nvPicPr>
        <p:blipFill>
          <a:blip r:embed="rId1"/>
          <a:stretch/>
        </p:blipFill>
        <p:spPr>
          <a:xfrm>
            <a:off x="1295280" y="4038480"/>
            <a:ext cx="2362320" cy="175284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i.jpeg"/>
          <p:cNvPicPr/>
          <p:nvPr/>
        </p:nvPicPr>
        <p:blipFill>
          <a:blip r:embed="rId2"/>
          <a:stretch/>
        </p:blipFill>
        <p:spPr>
          <a:xfrm>
            <a:off x="5105520" y="4038480"/>
            <a:ext cx="2311200" cy="17337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8" descr="ььь.jpeg"/>
          <p:cNvPicPr/>
          <p:nvPr/>
        </p:nvPicPr>
        <p:blipFill>
          <a:blip r:embed="rId3"/>
          <a:stretch/>
        </p:blipFill>
        <p:spPr>
          <a:xfrm>
            <a:off x="1219320" y="167652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9" descr="ьь.юю.jpeg"/>
          <p:cNvPicPr/>
          <p:nvPr/>
        </p:nvPicPr>
        <p:blipFill>
          <a:blip r:embed="rId4"/>
          <a:stretch/>
        </p:blipFill>
        <p:spPr>
          <a:xfrm>
            <a:off x="5029200" y="1752480"/>
            <a:ext cx="2452680" cy="152424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1295280" y="3429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10061"/>
                </a:solidFill>
                <a:latin typeface="Arial"/>
              </a:rPr>
              <a:t>Petrol VS gasolin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1607400" y="58672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Flat VS Apart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800600" y="33526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Pavement VS sidewa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5257800" y="5867280"/>
            <a:ext cx="17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0061"/>
                </a:solidFill>
                <a:latin typeface="Arial"/>
              </a:rPr>
              <a:t>Shop VS sto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Пунктуац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16002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79132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1828800" y="1600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British vari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136240" y="236052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month/day/yea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/03/0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ecember 3, 200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945400" y="2360520"/>
            <a:ext cx="243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day/month/yea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/03/0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rch 12, 200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1902960" y="4113720"/>
            <a:ext cx="33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sai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ve you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5788800" y="4113720"/>
            <a:ext cx="32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sai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ve you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Грамматик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85800" y="317196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85800" y="207792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828800" y="1600200"/>
          <a:ext cx="6858000" cy="2604960"/>
        </p:xfrm>
        <a:graphic>
          <a:graphicData uri="http://schemas.openxmlformats.org/drawingml/2006/table">
            <a:tbl>
              <a:tblPr/>
              <a:tblGrid>
                <a:gridCol w="4191120"/>
                <a:gridCol w="2666880"/>
              </a:tblGrid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bbc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ish varia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bbc67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nai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 a flight t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 today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nair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ve a flight to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don today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rge collective noun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s played well today, even if it lo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gl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ve played well today, even if they lost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overn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acting like itself agai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Governm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acting like themselves again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81" descr=""/>
          <p:cNvPicPr/>
          <p:nvPr/>
        </p:nvPicPr>
        <p:blipFill>
          <a:blip r:embed="rId1"/>
          <a:stretch/>
        </p:blipFill>
        <p:spPr>
          <a:xfrm>
            <a:off x="369720" y="4970520"/>
            <a:ext cx="1459080" cy="15066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3"/>
          <p:cNvSpPr/>
          <p:nvPr/>
        </p:nvSpPr>
        <p:spPr>
          <a:xfrm>
            <a:off x="685800" y="2971800"/>
            <a:ext cx="64008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4191120"/>
          <a:ext cx="6858000" cy="2209320"/>
        </p:xfrm>
        <a:graphic>
          <a:graphicData uri="http://schemas.openxmlformats.org/drawingml/2006/table">
            <a:tbl>
              <a:tblPr/>
              <a:tblGrid>
                <a:gridCol w="4178160"/>
                <a:gridCol w="2679840"/>
              </a:tblGrid>
              <a:tr h="122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as diffe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/than the other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e was different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m/to the oth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day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/to Fri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day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Frid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the weeke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 the weeken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ва варианта – одна осн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е сходств, чем разли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чины различий – история, культура, современное обще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минирование Американского английского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писок литературы, ссылк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урн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ak Ou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№ 78- 88 с.30-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боткина В. И. Новая лексика современного английского языка: Учебное пособие. – М.: Высшая школа, 1989, - 124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терчук Г. В. США и Американцы. – М.: Высшая школа, 1997, - 238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Литературный английский язык в США и Англии. – М.: Высшая школа, 1971, - 200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Очерк современного английского языка в США. – М.: Высшая школа, 1963, - 215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вейцер А. Д. Социальная дифференциация английского языка в США. – М., 198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рь иностранных слов.// Под редакцией Лехина И. В. и профессора Петрова Ф. Н. Издание 4, переработанное и дополненное. – М.: Государственное издательство иностранных и национальных словарей, 19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очник «Все трудности английской фонетики и орфографи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овар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// Collins. Russian-English Dictionary.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, 1996 – 573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нет ссыл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english.language.ru/curious/curious2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thedifference.ru/otlichie-britanskogo-anglijskogo-ot-amerikanskogo-anglijskog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inolang.ru/english/28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homeenglish.ru/Articlesosnovn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tudynow.ru/other/britishameric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xreferat.ru/119/88-1-razlichiya-v-leksike-britanskogo-i-amerikanskogo-variantov-angliiyskogo-yazyka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Цели работы: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лечь внимание учащихся к различию двух язы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77000" cy="3227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Задачи работы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материал по затронутой пробл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области языкового различия: орфография, фонетика, лексика, грам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собранную информа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йти к вывод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Распространение Британского Английского язы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05920" cy="484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Причины доминирования американского английского язык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73680" cy="47246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енность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щная эконом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кая численность ВУ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ссовые средства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ериканская поп-куль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итическое и экономическ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Недопонимани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772400" cy="414972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 flipH="1">
            <a:off x="4419720" y="1752480"/>
            <a:ext cx="761760" cy="213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419720" y="3733560"/>
            <a:ext cx="4572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4038120" y="3733920"/>
            <a:ext cx="83844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4038480" y="5486400"/>
            <a:ext cx="152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Фонетические различия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ritish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25909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571500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85800" y="266688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анец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762120" y="20574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2665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æ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477120" y="266688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a: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3"/>
          <p:cNvSpPr/>
          <p:nvPr/>
        </p:nvSpPr>
        <p:spPr>
          <a:xfrm>
            <a:off x="533520" y="3961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прашивать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4431960" y="3569760"/>
            <a:ext cx="201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>
            <a:off x="6858000" y="388512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: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4" descr="0005"/>
          <p:cNvPicPr/>
          <p:nvPr/>
        </p:nvPicPr>
        <p:blipFill>
          <a:blip r:embed="rId1"/>
          <a:stretch/>
        </p:blipFill>
        <p:spPr>
          <a:xfrm>
            <a:off x="6629400" y="5029200"/>
            <a:ext cx="1905120" cy="1290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5"/>
          <p:cNvSpPr/>
          <p:nvPr/>
        </p:nvSpPr>
        <p:spPr>
          <a:xfrm>
            <a:off x="3430440" y="39614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əsk]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мофон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British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1981080" y="16002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5943600" y="16002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553080" y="220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lou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3200400" y="2284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ol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609840" y="2286000"/>
            <a:ext cx="10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[kʌlər]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3430080" y="365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ent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6859080" y="3656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ent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533880" y="3657600"/>
            <a:ext cx="11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н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Одно слово, но разное значение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685800" y="2057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440" y="1600200"/>
            <a:ext cx="77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American vari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British vari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85440" y="243684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o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tɔ:rtʃ]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954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ке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632280" y="25146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нар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12120" y="3629880"/>
            <a:ext cx="170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iscu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ɪskɪ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2896560" y="365760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екс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633000" y="365760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ен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057400" y="1600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5638680" y="167652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9" descr="bild5"/>
          <p:cNvPicPr/>
          <p:nvPr/>
        </p:nvPicPr>
        <p:blipFill>
          <a:blip r:embed="rId1"/>
          <a:stretch/>
        </p:blipFill>
        <p:spPr>
          <a:xfrm>
            <a:off x="6629400" y="4756320"/>
            <a:ext cx="2187720" cy="187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7:09:57Z</dcterms:created>
  <dc:creator>1</dc:creator>
  <dc:description/>
  <dc:language>en-US</dc:language>
  <cp:lastModifiedBy>Admin</cp:lastModifiedBy>
  <dcterms:modified xsi:type="dcterms:W3CDTF">2013-04-04T11:46:3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