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195-38F6-41BD-A934-6BC57E66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684-8398-44A3-B01C-7EE69C73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729-8086-42D9-B9CF-DC7AF3E7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9F3-7430-41EE-B6D1-857FFCCA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BB1B-5BDC-4416-A813-E01739DE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AB32-A58C-4917-9E80-72D23B17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DBD-DD0B-4CD5-A6A8-FE4CA7FB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B19B-4F72-46B7-BFC7-75354A23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E190-CD92-4D19-AECA-403C702C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B129-41C2-4D83-B0ED-20A0DA57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CAB0-1202-4AA3-875A-EEC3195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4AD-4458-4E20-8A77-BB98C43D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7F2-2828-491E-BA99-4211C35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0716-641B-4DBE-ABFA-720F677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C086-1BCA-476E-AC51-5D62A7DC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22DF-114E-40DF-A5DB-9334B200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788E-F827-4021-9174-409C6E86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549-5B3C-4491-94F0-83B0C142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DAC-1D6F-4C7C-93C8-BEA6A00A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EC3-5C9C-422D-9B79-BA2D8ECD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8E7-669F-4AF5-A7A1-6B07A16B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835B-E964-4ABB-8693-AAE2C1F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832-F481-4B75-9EED-C9627D1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F8A-22C2-409F-8660-FE061119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EC3-7837-467B-A5EA-75A1F2446C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89C1-CA1C-44F8-BC98-E5754E479B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13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b7"/>
                </a:solidFill>
                <a:latin typeface="Arial Black"/>
              </a:rPr>
              <a:t>ОБРАЗОВАТЕЛЬНАЯ ПРОГРАММА ЭЛЕКТИВНОГО КУРСА ПРЕДПРОФИЛЬНОЙ ПОДГОТОВКИ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1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Краткое содержание программы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й курс дополняет и систематизирует базовую программу, не нарушая её цело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Планируемые результаты обуче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щиеся, успешно окончившие курс, смогу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казываться целостно, логично и связно как в структурном, так и смысловом отнош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ать этикетные правила в процессе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тупать в контакт, определять целевую установку об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 использовать лексику в речи в различных коммуникативных ситуация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ршенствовать навыки гово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знать об особенностях употребления отдельных лексических един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600" spc="-1" strike="noStrike">
                <a:solidFill>
                  <a:srgbClr val="ffffb7"/>
                </a:solidFill>
                <a:latin typeface="Arial Black"/>
              </a:rPr>
              <a:t>ПОУРОЧНОЕ ПЛАНИРОВАНИЕ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шность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жные прилагатель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словесного портрета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лагательные- антонимы, приставки прилага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психологических тес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ши своё настро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ишь ли ты в гороскоп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ь гороскопы для членов своей семь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каз о своей семье ( с опорой на модели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лучше: в доме или квартир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ги места в описании интерь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иши своё жилищ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оны гостеприимства и этик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адиции и обычаи разных стр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ы приглаш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иши пригласительную открыт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народный эти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Литература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ссов Е.И. и др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йски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- Another way to English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».- учебное пособие, М., «Иностранный язык». «Оникс», 2000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орник «Элективные курсы в профильном обучении. Образовательная область «ФИЛОЛОГИЯ»», НФПК, М., «Вита−пресс», 200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монян Р. Я., Дороничева Н. А. «Предпрофильная подготовка учащихся в условиях обучения на элективных курсах» (Теоретико−практические аспекты), Челябинск, ИДППО, 200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рнал «Иностранные языки в школе», 2003−2010 г.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5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5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5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МАНО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WORK WITHOUT WO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ЛЕКСИКА? НЕТ ПРОБЛЕМ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Тип и вид элективного курса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рофильной подготовки; предметно− ориентированный (английский язык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Компоненты программы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риантны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Направленность материалов элективного курса по специфике содерж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065400"/>
            <a:ext cx="800748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ивный курс « Лексика? Нет проблем…» входит в образовательную область «Филология» и сопровождает учебный предмет «Английский язык» в основном образовании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назначен для расширения  коммуникативных умений и навыков учащихся. Элективный курс позволяет проверить способности к английскому языку. Вопросы, рассматриваемые в курсе, выходят за рамки обязательного содержания. Вместе с тем, они тесно примыкают к основному курсу. Поэтому данный курс будет способствовать совершенствованию и развитию коммуникативных знаний и умений учащихся, предусмотренных школьной программ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бъём часов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17 ча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атегория обучающихся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иеся 9−х классов общеобразовательной школы, проявляющие интерес к изучению английского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есто проведения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АОУ СОШ №152− кабинет английского язы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орма обучения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чн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24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Цель курса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системе предпрофильной подготовки содействовать формированию толерантной, открытой для общения личности, способной к межкультурному взаимодействию, владеющей важнейшим инструментом достижения социального и личного успеха в жизни− навыками успешной коммуникации. Успешная коммуникация предполагает овладение не только языковыми, лингвистическими навыками, но и навыками, связанными со знанием закономерностей речевой коммуникации в единстве и взаимосвязи всех её составляющих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структурн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−содержательная организация деятельности общ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б) социокультурные нормы и стереотипы речевого обще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) материальная и духовная культура изучаемого языка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Задачи курса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практических навыков успешного, эффективного речевого общения в важнейших жизненных ситуац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ладение учащимися новым лексическим и грамматическим материалом в соответствии с темами и ситуациями общения, отобранными для элективного кур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и формирование коммуникативной способности, готовности к успешному, позитивному общ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общение учащихся к культуре и реалиям Великобритании в рамках более широкого спектра тем и ситуаций общения, отвечающих опыту, интересам, психологическим особенностям учащихся 9−х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09:16:19Z</dcterms:created>
  <dc:creator>Вячеслав</dc:creator>
  <dc:description/>
  <dc:language>en-US</dc:language>
  <cp:lastModifiedBy>Курманов</cp:lastModifiedBy>
  <dcterms:modified xsi:type="dcterms:W3CDTF">2013-03-14T15:32:31Z</dcterms:modified>
  <cp:revision>5</cp:revision>
  <dc:subject/>
  <dc:title>ОБРАЗОВАТЕЛЬНАЯ ПРОГРАММА ЭЛЕКТИВНОГО КУРСА ПРЕДПРОФИЛЬНОЙ ПОДГОТОВКИ </dc:title>
</cp:coreProperties>
</file>