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56D-C867-44B0-BD03-F52EE333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3DD-9E0E-4BA0-844A-5A455ED5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750-FFC2-43EC-8ED2-DB188352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B89-BAEB-4E14-A6D1-62A0283E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DDA5-B1D9-472E-BAD2-BC4A1AAA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6654-ED1A-4A79-A33F-0859A08C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4F00-7283-456C-A2E0-D473F42D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0D2A-EB30-435A-8811-33FF66E8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AE3A-F2B2-4236-9A26-3070335C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394D-B760-498A-A031-9E39AA5B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391C-84CB-4AEB-8062-660C3DA2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E39-80DF-451D-8711-BEA7E686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B449-B406-4B99-9D40-28C548A1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4232-6039-445F-836A-43CAAFD3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A7D3-26B4-4446-9D21-30F13F90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1B07-AD6B-4FE7-BFCA-F0AF2939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0CB3-C38C-492F-A359-B17A79B3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E4B1-A710-43DF-9A9F-A806C3E8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9585-1189-4F99-AE92-A11B36B2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A0C-56AD-4D86-967B-C6A299B1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5980-0FB9-467B-8A22-F809207E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AE1-7E72-4970-A0B5-505BD48A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4F49-D5C5-41F7-960A-41B23BC8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96B-6E9B-490D-B39B-10EBE0F6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21A6-9C79-467E-A132-D1CBFEFCEA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40AE-93AD-4829-80EA-333070EFED2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13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ОБРАЗОВАТЕЛЬНАЯ ПРОГРАММА ЭЛЕКТИВНОГО КУРСА ПРЕДПРОФИЛЬНОЙ ПОДГОТОВКИ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advTm="11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Краткое содержание программ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ный курс дополняет и систематизирует базовую программу, не нарушая её целос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1000"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Планируемые результаты обучен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щиеся, успешно окончившие курс, смогу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казываться целостно, логично и связно как в структурном, так и смысловом отноше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блюдать этикетные правила в процессе общ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тупать в контакт, определять целевую установку общ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но использовать лексику в речи в различных коммуникативных ситуация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ршенствовать навыки говор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знать об особенностях употребления отдельных лексических един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600" spc="-1" strike="noStrike">
                <a:solidFill>
                  <a:srgbClr val="ffffb7"/>
                </a:solidFill>
                <a:latin typeface="Arial Black"/>
              </a:rPr>
              <a:t>ПОУРОЧНОЕ ПЛАНИРОВАНИЕ</a:t>
            </a:r>
            <a:br>
              <a:rPr sz="40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ешность челове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ожные прилагате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словесного портрета челове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лагательные- антонимы, приставки прилагатель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ение психологических тес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иши своё настро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ишь ли ты в гороскоп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ь гороскопы для членов своей семь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каз о своей семье ( с опорой на модели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лучше: в доме или квартир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оги места в описании интерь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иши своё жилищ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оны гостеприимства и этик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адиции и обычаи разных стр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ды приглаш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пиши пригласительную открыт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ждународный этик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1000"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Литература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249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ссов Е.И. и др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ы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глийски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зык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- Another way to English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».- учебное пособие, М., «Иностранный язык». «Оникс», 2000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249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борник «Элективные курсы в профильном обучении. Образовательная область «ФИЛОЛОГИЯ»», НФПК, М., «Вита−пресс», 2004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249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монян Р. Я., Дороничева Н. А. «Предпрофильная подготовка учащихся в условиях обучения на элективных курсах» (Теоретико−практические аспекты), Челябинск, ИДППО, 2004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249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урнал «Иностранные языки в школе», 2003−2010 г.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5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5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5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5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5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5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МАНОВ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DOESN’T WORK WITHOUT WORD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ЛЕКСИКА? НЕТ ПРОБЛЕМ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Тип и вид элективного курса: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профильной подготовки; предметно− ориентированный (английский язык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Компоненты программы: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вариантны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b7"/>
                </a:solidFill>
                <a:latin typeface="Arial Black"/>
              </a:rPr>
              <a:t>Направленность материалов элективного курса по специфике содержания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3065400"/>
            <a:ext cx="8007480" cy="30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ивный курс « Лексика? Нет проблем…» входит в образовательную область «Филология» и сопровождает учебный предмет «Английский язык» в основном образовании школьни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назначен для расширения  коммуникативных умений и навыков учащихся. Элективный курс позволяет проверить способности к английскому языку. Вопросы, рассматриваемые в курсе, выходят за рамки обязательного содержания. Вместе с тем, они тесно примыкают к основному курсу. Поэтому данный курс будет способствовать совершенствованию и развитию коммуникативных знаний и умений учащихся, предусмотренных школьной программ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бъём часов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17 ча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атегория обучающихся: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иеся 9−х классов общеобразовательной школы, проявляющие интерес к изучению английского язы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есто проведения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АОУ СОШ №152− кабинет английского язы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Форма обучения: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чн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Цель курса: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системе предпрофильной подготовки содействовать формированию толерантной, открытой для общения личности, способной к межкультурному взаимодействию, владеющей важнейшим инструментом достижения социального и личного успеха в жизни− навыками успешной коммуникации. Успешная коммуникация предполагает овладение не только языковыми, лингвистическими навыками, но и навыками, связанными со знанием закономерностей речевой коммуникации в единстве и взаимосвязи всех её составляющих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) структурн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−содержательная организация деятельности общ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) социокультурные нормы и стереотипы речевого общ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) материальная и духовная культура изучаемого языка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b7"/>
                </a:solidFill>
                <a:latin typeface="Arial Black"/>
              </a:rPr>
              <a:t>Задачи курса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практических навыков успешного, эффективного речевого общения в важнейших жизненных ситуац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ладение учащимися новым лексическим и грамматическим материалом в соответствии с темами и ситуациями общения, отобранными для элективного кур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и формирование коммуникативной способности, готовности к успешному, позитивному общ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общение учащихся к культуре и реалиям Великобритании в рамках более широкого спектра тем и ситуаций общения, отвечающих опыту, интересам, психологическим особенностям учащихся 9−х клас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09:16:19Z</dcterms:created>
  <dc:creator>Вячеслав</dc:creator>
  <dc:description/>
  <dc:language>en-US</dc:language>
  <cp:lastModifiedBy>Курманов</cp:lastModifiedBy>
  <dcterms:modified xsi:type="dcterms:W3CDTF">2013-03-14T15:32:31Z</dcterms:modified>
  <cp:revision>5</cp:revision>
  <dc:subject/>
  <dc:title>ОБРАЗОВАТЕЛЬНАЯ ПРОГРАММА ЭЛЕКТИВНОГО КУРСА ПРЕДПРОФИЛЬНОЙ ПОДГОТОВКИ </dc:title>
</cp:coreProperties>
</file>