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EDF0-D73E-4703-9BF1-6F25E5A71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9F58-2860-41CA-8BD3-85612A921E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D5B8-8598-46F7-B05B-371972653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E003-AA11-4BFF-A1E0-604AC88B99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E13D-5FE7-47AA-BA67-11CAFE0FD2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5381-D526-4A3F-80CC-94FC92DE07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022E-70BD-48AC-B782-AA4BDE86E3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3A44-613F-4CF4-801C-08521E90FF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2056-48A5-4C4F-81A9-B666EFD55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143A-D9BA-402E-B6C3-86CB0E14B3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3E3B-6250-4AB8-8CE6-AC94AE2ED9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7B1-F3BE-4647-AE80-5C7825F2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C6C-F699-4A1E-89E8-4E6B08F1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CEA-BE91-441A-8A2A-EFD00C73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5B0-8B80-4558-9E36-C55421B8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DD0-A3D4-4793-9C5E-AD72A204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D7F-15A6-40E9-8C0A-DDCC65B1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B86-93A8-4F4A-A310-47DCCF87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703-2E6B-49D5-8FB1-57AD6F73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721-0875-446E-A958-EBE6E0DD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3B7-D1D0-4DA6-9D71-52F380B5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FA9-9874-424D-A129-395B82F9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4C7-8C79-4D1F-B429-F9C62AD8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2396-48B7-4DC0-8F0C-89E83BEA9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имры. Сапожное дел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4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-презент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 ученик 6 а класса МОУ «Средняя школа №16» г.Кимры Тверск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дилов Ро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 Гулина Александр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ин из филиалов фабрики «Красная звез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dom-s-plakatom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ый момент, после закрытия предприятия,  этот филиал функционирует автономно продолжая обувное д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 сапож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sapog"/>
          <p:cNvPicPr/>
          <p:nvPr/>
        </p:nvPicPr>
        <p:blipFill>
          <a:blip r:embed="rId1"/>
          <a:stretch/>
        </p:blipFill>
        <p:spPr>
          <a:xfrm>
            <a:off x="698400" y="2276640"/>
            <a:ext cx="3556080" cy="3173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город именуют Столицей сапожного царства. В знак этого городу была вручена уменьшенная копия «памятника сапожни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1148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kimry_old1"/>
          <p:cNvPicPr/>
          <p:nvPr/>
        </p:nvPicPr>
        <p:blipFill>
          <a:blip r:embed="rId1"/>
          <a:srcRect l="0" t="0" r="-16991" b="0"/>
          <a:stretch/>
        </p:blipFill>
        <p:spPr>
          <a:xfrm>
            <a:off x="762120" y="1752480"/>
            <a:ext cx="4406760" cy="4267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ы сапог на гербе символизируют город как исторический центр сапожного промысла, благодаря которому Кимры получили всероссийскую извест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n1899-09"/>
          <p:cNvPicPr/>
          <p:nvPr/>
        </p:nvPicPr>
        <p:blipFill>
          <a:blip r:embed="rId1"/>
          <a:stretch/>
        </p:blipFill>
        <p:spPr>
          <a:xfrm>
            <a:off x="304920" y="2438280"/>
            <a:ext cx="4076640" cy="3135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3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"Село имеет в длину не менее двух верст и поперек — не менее версты. При всем том, строения, находящиеся на столь длинных улицах, с каждого конца улицы представляются как бы па блюдце... Всего улиц в длину села пять и девять поперек, села, все они широкие и прямые. Набережная улица почти на всем протяжении своем усажена лиственными деревьями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ение в селе расположено правильно... Строение теперь преимущественно высокое и обширное, крытое или тесом под гвоздь или железом. Есть немало и каменных домов и зд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имры. Сапожный промысел. 17-18 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128222bbb435t"/>
          <p:cNvPicPr/>
          <p:nvPr/>
        </p:nvPicPr>
        <p:blipFill>
          <a:blip r:embed="rId1"/>
          <a:srcRect l="0" t="0" r="0" b="10071"/>
          <a:stretch/>
        </p:blipFill>
        <p:spPr>
          <a:xfrm>
            <a:off x="152280" y="2286000"/>
            <a:ext cx="4299120" cy="320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пожный промысел, получивший развитие в Кимрах и округе, прошел трудный путь развития. В силу различных исторических факторов сапожное дело стало одним из основных источников существования местных жителей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ад кимряков в поставки обуви на нужды русской армии был столь велик, что Александр I, в знак признательности, пожаловал селу батарею пушек, из которой потом стреляли по праздникам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увное производств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пожные мастерски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uclL6ua8vD"/>
          <p:cNvPicPr/>
          <p:nvPr/>
        </p:nvPicPr>
        <p:blipFill>
          <a:blip r:embed="rId1"/>
          <a:stretch/>
        </p:blipFill>
        <p:spPr>
          <a:xfrm>
            <a:off x="457200" y="2371680"/>
            <a:ext cx="4038480" cy="2982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1666 году промысел растет, одновременно увеличивается и потребность в обуви Москвы, где к 1678 году было всего 165 сапожников. Отходничество кимрских сапожников было важным для сапожного производства, так как приводило к знакомству с более высокой технологией и техникой шитья московских мастеров. Все это поднимало уровень кимрского сапожного производств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й тру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&amp;Ocy;&amp;bcy;&amp;ucy;&amp;chcy;&amp;iecy;&amp;ncy;&amp;icy;&amp;iecy; &amp;bcy;&amp;iecy;&amp;scy;&amp;pcy;&amp;rcy;&amp;icy;&amp;zcy;&amp;ocy;&amp;rcy;&amp;ncy;&amp;icy;&amp;kcy;&amp;ocy;&amp;vcy; &amp;scy;&amp;acy;&amp;pcy;&amp;ocy;&amp;zhcy;&amp;ncy;&amp;ocy;&amp;mcy;&amp;ucy; &amp;dcy;&amp;iecy;&amp;lcy;&amp;ucy;"/>
          <p:cNvPicPr/>
          <p:nvPr/>
        </p:nvPicPr>
        <p:blipFill>
          <a:blip r:embed="rId1"/>
          <a:stretch/>
        </p:blipFill>
        <p:spPr>
          <a:xfrm>
            <a:off x="457200" y="1447920"/>
            <a:ext cx="3857760" cy="5075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труд никого не удивлял. С 8-9, а чаще с 11-12 лет, родители отдавали мальчиков мастеру-хозяину. Договоры писались в волостном правлении. Условия были следующие: мастер брал мальчика на содержание, предоставлял ему стол и учил в течение 4-5 лет, одновременно пользуясь его трудом. За шалости мастер выговаривал себе право наказывать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брика «Якор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kimry02"/>
          <p:cNvPicPr/>
          <p:nvPr/>
        </p:nvPicPr>
        <p:blipFill>
          <a:blip r:embed="rId1"/>
          <a:stretch/>
        </p:blipFill>
        <p:spPr>
          <a:xfrm>
            <a:off x="457200" y="2440080"/>
            <a:ext cx="4038480" cy="2846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07 году построена фабрика "Якорь". Так кимрская обувная промышленность постепенно превратилась в капиталистическое обувное производство. Но все равно, главным действующим лицом кимрского сапожного производства являлся до революции кустарь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рговые ря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упалась продукция в основном на кимрском рынке. Каждую субботу туда стекался торговый и производящий люд. Бывали дни, когда весь товар скупался одним купцом. Детскую обувь покупали на вес..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http://www.rech-agent.ru/bundles/base/files/cruise/settlement/kimry/kimry_03.jpg"/>
          <p:cNvPicPr/>
          <p:nvPr/>
        </p:nvPicPr>
        <p:blipFill>
          <a:blip r:embed="rId1"/>
          <a:stretch/>
        </p:blipFill>
        <p:spPr>
          <a:xfrm>
            <a:off x="533520" y="2590920"/>
            <a:ext cx="40384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брика Красная звез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bc4db1d6cf9e"/>
          <p:cNvPicPr/>
          <p:nvPr/>
        </p:nvPicPr>
        <p:blipFill>
          <a:blip r:embed="rId1"/>
          <a:stretch/>
        </p:blipFill>
        <p:spPr>
          <a:xfrm>
            <a:off x="228600" y="2209680"/>
            <a:ext cx="4341960" cy="275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ачала 30-х годов в Кимрах осуществлялась государственная политика направленная на объединение кустарных мастерских в артели и создание в городе промышленных предприятий. В 1941 г., в результате объединения двух артелей "Промкооператор" и "Экспортобувь" возникла обувная фабрика "Стахановец". В 1950году появилась фабрика «Красная звезда», которая существует и по се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05T05:26:5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