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3E75-AB47-462F-8658-DE08952383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0B91-4384-45DB-860D-3738F77FC3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E9DB-43B8-41C7-AAC1-384AEC6B4D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45A3-BC05-436C-9AD1-A1D1571642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3469-A194-4315-B1FE-01D59C46A0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C08A-2865-4EEA-A9C8-2F0ECF0AC9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8A60-3517-44BF-B708-D6CCA62C74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44D4-EBD4-4CF1-97FB-7B5DE0945C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738D-928D-4E36-B1D7-26CE93CFD1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CEB0-0141-4C85-BB25-8492A2A3EF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D5FA-DC6B-485B-BBCB-9323FC6E05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3B1F-A4AB-4C74-ACBE-57E05E79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79F5-C1A2-4953-804A-89B2738C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EC14-EE89-44B7-9332-3D30990F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48C5-63F2-483E-9DDC-20808C54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B7E6-53B5-4F43-A847-A3DE0FE9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2273-74CE-48D4-A687-E17DBCF2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D5F6-2C84-4111-ACDC-61B3F612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25ED-3C1A-43B5-BE20-3D2C5D56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7193-B51C-4F64-8790-B382446B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361-2511-4961-B63F-CD872E4B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F6AA-3C56-469B-8574-20CE7A9C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D177-01C0-400F-A8D3-DE0C94F5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B197-11C5-4FA9-BDF8-60F036689C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Кимры. Сапожное дел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14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-презент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 ученик 6 а класса МОУ «Средняя школа №16» г.Кимры Тверской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дилов Ро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 Гулина Александр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дин из филиалов фабрики «Красная звезд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dom-s-plakatom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анный момент, после закрытия предприятия,  этот филиал функционирует автономно продолжая обувное де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мятник сапож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sapog"/>
          <p:cNvPicPr/>
          <p:nvPr/>
        </p:nvPicPr>
        <p:blipFill>
          <a:blip r:embed="rId1"/>
          <a:stretch/>
        </p:blipFill>
        <p:spPr>
          <a:xfrm>
            <a:off x="698400" y="2276640"/>
            <a:ext cx="3556080" cy="3173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 город именуют Столицей сапожного царства. В знак этого городу была вручена уменьшенная копия «памятника сапожник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41148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kimry_old1"/>
          <p:cNvPicPr/>
          <p:nvPr/>
        </p:nvPicPr>
        <p:blipFill>
          <a:blip r:embed="rId1"/>
          <a:srcRect l="0" t="0" r="-16991" b="0"/>
          <a:stretch/>
        </p:blipFill>
        <p:spPr>
          <a:xfrm>
            <a:off x="762120" y="1752480"/>
            <a:ext cx="4406760" cy="4267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ы сапог на гербе символизируют город как исторический центр сапожного промысла, благодаря которому Кимры получили всероссийскую извест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n1899-09"/>
          <p:cNvPicPr/>
          <p:nvPr/>
        </p:nvPicPr>
        <p:blipFill>
          <a:blip r:embed="rId1"/>
          <a:stretch/>
        </p:blipFill>
        <p:spPr>
          <a:xfrm>
            <a:off x="304920" y="2438280"/>
            <a:ext cx="4076640" cy="3135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7239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"Село имеет в длину не менее двух верст и поперек — не менее версты. При всем том, строения, находящиеся на столь длинных улицах, с каждого конца улицы представляются как бы па блюдце... Всего улиц в длину села пять и девять поперек, села, все они широкие и прямые. Набережная улица почти на всем протяжении своем усажена лиственными деревьями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ение в селе расположено правильно... Строение теперь преимущественно высокое и обширное, крытое или тесом под гвоздь или железом. Есть немало и каменных домов и зд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имры. Сапожный промысел. 17-18 ве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128222bbb435t"/>
          <p:cNvPicPr/>
          <p:nvPr/>
        </p:nvPicPr>
        <p:blipFill>
          <a:blip r:embed="rId1"/>
          <a:srcRect l="0" t="0" r="0" b="10071"/>
          <a:stretch/>
        </p:blipFill>
        <p:spPr>
          <a:xfrm>
            <a:off x="152280" y="2286000"/>
            <a:ext cx="4299120" cy="320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пожный промысел, получивший развитие в Кимрах и округе, прошел трудный путь развития. В силу различных исторических факторов сапожное дело стало одним из основных источников существования местных жителей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ад кимряков в поставки обуви на нужды русской армии был столь велик, что Александр I, в знак признательности, пожаловал селу батарею пушек, из которой потом стреляли по праздникам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увное производств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пожные мастерски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uclL6ua8vD"/>
          <p:cNvPicPr/>
          <p:nvPr/>
        </p:nvPicPr>
        <p:blipFill>
          <a:blip r:embed="rId1"/>
          <a:stretch/>
        </p:blipFill>
        <p:spPr>
          <a:xfrm>
            <a:off x="457200" y="2371680"/>
            <a:ext cx="4038480" cy="2982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1666 году промысел растет, одновременно увеличивается и потребность в обуви Москвы, где к 1678 году было всего 165 сапожников. Отходничество кимрских сапожников было важным для сапожного производства, так как приводило к знакомству с более высокой технологией и техникой шитья московских мастеров. Все это поднимало уровень кимрского сапожного производства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ский тр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&amp;Ocy;&amp;bcy;&amp;ucy;&amp;chcy;&amp;iecy;&amp;ncy;&amp;icy;&amp;iecy; &amp;bcy;&amp;iecy;&amp;scy;&amp;pcy;&amp;rcy;&amp;icy;&amp;zcy;&amp;ocy;&amp;rcy;&amp;ncy;&amp;icy;&amp;kcy;&amp;ocy;&amp;vcy; &amp;scy;&amp;acy;&amp;pcy;&amp;ocy;&amp;zhcy;&amp;ncy;&amp;ocy;&amp;mcy;&amp;ucy; &amp;dcy;&amp;iecy;&amp;lcy;&amp;ucy;"/>
          <p:cNvPicPr/>
          <p:nvPr/>
        </p:nvPicPr>
        <p:blipFill>
          <a:blip r:embed="rId1"/>
          <a:stretch/>
        </p:blipFill>
        <p:spPr>
          <a:xfrm>
            <a:off x="457200" y="1447920"/>
            <a:ext cx="3857760" cy="5075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труд никого не удивлял. С 8-9, а чаще с 11-12 лет, родители отдавали мальчиков мастеру-хозяину. Договоры писались в волостном правлении. Условия были следующие: мастер брал мальчика на содержание, предоставлял ему стол и учил в течение 4-5 лет, одновременно пользуясь его трудом. За шалости мастер выговаривал себе право наказывать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абрика «Якор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kimry02"/>
          <p:cNvPicPr/>
          <p:nvPr/>
        </p:nvPicPr>
        <p:blipFill>
          <a:blip r:embed="rId1"/>
          <a:stretch/>
        </p:blipFill>
        <p:spPr>
          <a:xfrm>
            <a:off x="457200" y="2440080"/>
            <a:ext cx="4038480" cy="2846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07 году построена фабрика "Якорь". Так кимрская обувная промышленность постепенно превратилась в капиталистическое обувное производство. Но все равно, главным действующим лицом кимрского сапожного производства являлся до революции кустарь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рговые ря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упалась продукция в основном на кимрском рынке. Каждую субботу туда стекался торговый и производящий люд. Бывали дни, когда весь товар скупался одним купцом. Детскую обувь покупали на вес..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http://www.rech-agent.ru/bundles/base/files/cruise/settlement/kimry/kimry_03.jpg"/>
          <p:cNvPicPr/>
          <p:nvPr/>
        </p:nvPicPr>
        <p:blipFill>
          <a:blip r:embed="rId1"/>
          <a:stretch/>
        </p:blipFill>
        <p:spPr>
          <a:xfrm>
            <a:off x="533520" y="2590920"/>
            <a:ext cx="403848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абрика Красная звез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bc4db1d6cf9e"/>
          <p:cNvPicPr/>
          <p:nvPr/>
        </p:nvPicPr>
        <p:blipFill>
          <a:blip r:embed="rId1"/>
          <a:stretch/>
        </p:blipFill>
        <p:spPr>
          <a:xfrm>
            <a:off x="228600" y="2209680"/>
            <a:ext cx="4341960" cy="2757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начала 30-х годов в Кимрах осуществлялась государственная политика направленная на объединение кустарных мастерских в артели и создание в городе промышленных предприятий. В 1941 г., в результате объединения двух артелей "Промкооператор" и "Экспортобувь" возникла обувная фабрика "Стахановец". В 1950году появилась фабрика «Красная звезда», которая существует и по сей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05T05:26:5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