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261-2A02-4770-873D-0F3C9E30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352-E657-4E74-A7CC-0DACD48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921-8709-42B3-96DF-9E64E02C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0AC-551E-46CE-8531-0D51FF58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EBA-5B99-414F-9977-365CF64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76C-1A99-4761-8BB7-6E896E4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1D5-6529-4D77-8400-3A67F686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F4E-494F-4C17-86E0-C82C56F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CB2-48C5-418E-A66A-1E3E22A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7D0-022E-4888-A32E-9081441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31A-A976-413C-8F6A-0D52A87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71-D0A8-4307-BCEC-C2D19DA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5B5-DD4B-4F03-83B8-56DA32C0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ртретный рисунок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разительн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а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2720" y="630864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пренский Портрет Чаплица 18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75000" cy="540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76720" cy="401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13440" y="465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 Кольвиц. 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4720" y="44280"/>
            <a:ext cx="4762440" cy="607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35200" y="5956200"/>
            <a:ext cx="650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и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Портрет женщины с распущенными волосам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590920" cy="221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3213000"/>
            <a:ext cx="1644480" cy="1487520"/>
          </a:xfrm>
          <a:custGeom>
            <a:avLst/>
            <a:gdLst/>
            <a:ahLst/>
            <a:rect l="l" t="t" r="r" b="b"/>
            <a:pathLst>
              <a:path w="1036" h="937">
                <a:moveTo>
                  <a:pt x="998" y="423"/>
                </a:moveTo>
                <a:cubicBezTo>
                  <a:pt x="797" y="680"/>
                  <a:pt x="597" y="937"/>
                  <a:pt x="590" y="922"/>
                </a:cubicBezTo>
                <a:cubicBezTo>
                  <a:pt x="583" y="907"/>
                  <a:pt x="1036" y="370"/>
                  <a:pt x="953" y="332"/>
                </a:cubicBezTo>
                <a:cubicBezTo>
                  <a:pt x="870" y="294"/>
                  <a:pt x="182" y="612"/>
                  <a:pt x="91" y="695"/>
                </a:cubicBezTo>
                <a:cubicBezTo>
                  <a:pt x="0" y="778"/>
                  <a:pt x="326" y="891"/>
                  <a:pt x="409" y="831"/>
                </a:cubicBezTo>
                <a:cubicBezTo>
                  <a:pt x="492" y="771"/>
                  <a:pt x="635" y="468"/>
                  <a:pt x="590" y="332"/>
                </a:cubicBezTo>
                <a:cubicBezTo>
                  <a:pt x="545" y="196"/>
                  <a:pt x="212" y="0"/>
                  <a:pt x="136" y="15"/>
                </a:cubicBezTo>
                <a:cubicBezTo>
                  <a:pt x="60" y="30"/>
                  <a:pt x="98" y="226"/>
                  <a:pt x="136" y="4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826920" y="40428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2373480" cy="273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9160" y="333360"/>
            <a:ext cx="2857320" cy="348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843280" y="3544920"/>
            <a:ext cx="2244600" cy="290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916360" y="1413000"/>
            <a:ext cx="2160360" cy="184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099040" y="189000"/>
            <a:ext cx="3807000" cy="446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53440" y="479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55600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631960" cy="316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4437000"/>
            <a:ext cx="16128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84720" y="549360"/>
            <a:ext cx="4595760" cy="56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9800" y="6237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юстав  Д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 (422x506, 47Kb)"/>
          <p:cNvPicPr/>
          <p:nvPr/>
        </p:nvPicPr>
        <p:blipFill>
          <a:blip r:embed="rId1"/>
          <a:stretch/>
        </p:blipFill>
        <p:spPr>
          <a:xfrm>
            <a:off x="539640" y="404640"/>
            <a:ext cx="468468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6720" y="6307920"/>
            <a:ext cx="55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Кругликова. Силуэтный портрет Б. Пастер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158920" cy="117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84720" y="1989000"/>
            <a:ext cx="2799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668320" cy="381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575080" cy="199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4309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50040" cy="630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00" y="649044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с Берк. Портрет Винсента Лунарди. 178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7528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нктирная ма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93040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681360" cy="475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63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уз Лот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24000" y="333000"/>
            <a:ext cx="50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41840" cy="597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3600" y="6308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. панек .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856040" cy="564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6160" y="630864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нчаров. Портрет стару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2763720" cy="554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08720" y="6299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и Бёрдсли. Ав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22:22:56Z</dcterms:created>
  <dc:creator>дикий КОТ</dc:creator>
  <dc:description/>
  <dc:language>en-US</dc:language>
  <cp:lastModifiedBy>дикий КОТ</cp:lastModifiedBy>
  <dcterms:modified xsi:type="dcterms:W3CDTF">2003-05-10T12:24:45Z</dcterms:modified>
  <cp:revision>37</cp:revision>
  <dc:subject/>
  <dc:title>Слайд 1</dc:title>
</cp:coreProperties>
</file>