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2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7.jpeg" ContentType="image/jpeg"/>
  <Override PartName="/ppt/media/image6.png" ContentType="image/png"/>
  <Override PartName="/ppt/media/image4.png" ContentType="image/png"/>
  <Override PartName="/ppt/media/image3.png" ContentType="image/png"/>
  <Override PartName="/ppt/media/image17.jpeg" ContentType="image/jpeg"/>
  <Override PartName="/ppt/media/image24.jpeg" ContentType="image/jpeg"/>
  <Override PartName="/ppt/media/image5.png" ContentType="image/png"/>
  <Override PartName="/ppt/media/image10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png" ContentType="image/png"/>
  <Override PartName="/ppt/media/image1.jpeg" ContentType="image/jpeg"/>
  <Override PartName="/ppt/media/image22.jpeg" ContentType="image/jpeg"/>
  <Override PartName="/ppt/media/image2.png" ContentType="image/png"/>
  <Override PartName="/ppt/media/image2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E38F6-BEB8-4866-9BCB-13126B50A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C74A6-EDBF-48BC-852F-D86934C8D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F3C06-5749-40CE-92CC-2AD88DC5C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3B06F-B3B3-4E36-935B-E4CC08AB0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BC383-06DF-44E6-BD6C-D810005FC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A8A33-60A6-4C14-B76A-B9788CA3F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886DC-ABEF-4312-B0DB-8E5100EAF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1725B-E9C4-4121-9BB7-3FB3E4E3C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A3A0B-FF2B-4505-8912-62A14C512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E262F-B5B2-4459-B947-88E8DA424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1E15A-5358-4263-8D21-6AFC3282F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CA6C2-18CC-4FA1-985D-F4F089D0E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BAA25-A362-461A-A2FB-E22EBB6938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213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Графический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портретный рисунок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и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выразительность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образа человек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612720" y="6308640"/>
            <a:ext cx="391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ипренский Портрет Чаплица 18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324000" y="404640"/>
            <a:ext cx="4275000" cy="54007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4788000" y="476280"/>
            <a:ext cx="4176720" cy="401004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6013440" y="4653000"/>
            <a:ext cx="28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. Кольвиц. Автопортр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284720" y="44280"/>
            <a:ext cx="4762440" cy="60771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635200" y="5956200"/>
            <a:ext cx="65037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316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атисс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"Портрет женщины с распущенными волосами"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826920" y="836640"/>
            <a:ext cx="2590920" cy="22143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332000" y="3213000"/>
            <a:ext cx="1644480" cy="1487520"/>
          </a:xfrm>
          <a:custGeom>
            <a:avLst/>
            <a:gdLst/>
            <a:ahLst/>
            <a:rect l="l" t="t" r="r" b="b"/>
            <a:pathLst>
              <a:path w="1036" h="937">
                <a:moveTo>
                  <a:pt x="998" y="423"/>
                </a:moveTo>
                <a:cubicBezTo>
                  <a:pt x="797" y="680"/>
                  <a:pt x="597" y="937"/>
                  <a:pt x="590" y="922"/>
                </a:cubicBezTo>
                <a:cubicBezTo>
                  <a:pt x="583" y="907"/>
                  <a:pt x="1036" y="370"/>
                  <a:pt x="953" y="332"/>
                </a:cubicBezTo>
                <a:cubicBezTo>
                  <a:pt x="870" y="294"/>
                  <a:pt x="182" y="612"/>
                  <a:pt x="91" y="695"/>
                </a:cubicBezTo>
                <a:cubicBezTo>
                  <a:pt x="0" y="778"/>
                  <a:pt x="326" y="891"/>
                  <a:pt x="409" y="831"/>
                </a:cubicBezTo>
                <a:cubicBezTo>
                  <a:pt x="492" y="771"/>
                  <a:pt x="635" y="468"/>
                  <a:pt x="590" y="332"/>
                </a:cubicBezTo>
                <a:cubicBezTo>
                  <a:pt x="545" y="196"/>
                  <a:pt x="212" y="0"/>
                  <a:pt x="136" y="15"/>
                </a:cubicBezTo>
                <a:cubicBezTo>
                  <a:pt x="60" y="30"/>
                  <a:pt x="98" y="226"/>
                  <a:pt x="136" y="42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826920" y="404280"/>
            <a:ext cx="1008360" cy="158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79280" y="3860640"/>
            <a:ext cx="2373480" cy="27370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19160" y="333360"/>
            <a:ext cx="2857320" cy="34830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2843280" y="3544920"/>
            <a:ext cx="2244600" cy="29084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2916360" y="1413000"/>
            <a:ext cx="2160360" cy="18414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099040" y="189000"/>
            <a:ext cx="3807000" cy="4464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7453440" y="4797360"/>
            <a:ext cx="136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ембранд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260280"/>
            <a:ext cx="2556000" cy="30243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0" y="3213000"/>
            <a:ext cx="2631960" cy="31687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2556000" y="4437000"/>
            <a:ext cx="1612800" cy="18716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4284720" y="549360"/>
            <a:ext cx="4595760" cy="56163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4429800" y="6237360"/>
            <a:ext cx="160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юстав  Дор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 (422x506, 47Kb)"/>
          <p:cNvPicPr/>
          <p:nvPr/>
        </p:nvPicPr>
        <p:blipFill>
          <a:blip r:embed="rId1"/>
          <a:stretch/>
        </p:blipFill>
        <p:spPr>
          <a:xfrm>
            <a:off x="539640" y="404640"/>
            <a:ext cx="4684680" cy="56167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756720" y="6307920"/>
            <a:ext cx="551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Е. Кругликова. Силуэтный портрет Б. Пастерна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6012000" y="692280"/>
            <a:ext cx="2158920" cy="11761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6084720" y="1989000"/>
            <a:ext cx="279900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6012000" y="404640"/>
            <a:ext cx="2668320" cy="38163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084720" y="4437000"/>
            <a:ext cx="2575080" cy="19908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611280" y="333360"/>
            <a:ext cx="4309920" cy="61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5450040" cy="63086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327600" y="6490440"/>
            <a:ext cx="530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омас Берк. Портрет Винсента Лунарди. 1786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975280" y="26028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унктирная мане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5796000" y="1125360"/>
            <a:ext cx="2930400" cy="36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95280" y="1557360"/>
            <a:ext cx="3681360" cy="47512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395280" y="630864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улуз Лотре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-324000" y="333000"/>
            <a:ext cx="50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Смешанная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техни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4211640" y="333360"/>
            <a:ext cx="4641840" cy="597708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6303600" y="6308640"/>
            <a:ext cx="248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я. панек .автопортр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4856040" cy="56466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1046160" y="6308640"/>
            <a:ext cx="307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ончаров. Портрет старух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5796000" y="404640"/>
            <a:ext cx="2763720" cy="554364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5508720" y="6299280"/>
            <a:ext cx="30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ри Бёрдсли. Авопортр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5T22:22:56Z</dcterms:created>
  <dc:creator>дикий КОТ</dc:creator>
  <dc:description/>
  <dc:language>en-US</dc:language>
  <cp:lastModifiedBy>дикий КОТ</cp:lastModifiedBy>
  <dcterms:modified xsi:type="dcterms:W3CDTF">2003-05-10T12:24:45Z</dcterms:modified>
  <cp:revision>37</cp:revision>
  <dc:subject/>
  <dc:title>Слайд 1</dc:title>
</cp:coreProperties>
</file>