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895-BAFA-496F-8567-B9DBDA80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33D-75CB-44BC-AC77-40EB24D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322-23F9-44FD-A84C-5F0B2581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2E1-81AE-4096-B7DD-D2CF4344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2C1-E006-4990-9BE8-DA9B804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95B-A5B1-402B-BE4A-0AF97E83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19D-8092-4FB8-9748-5BC3440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24B-596A-42E6-9C85-AA394E71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F88-2786-4E2C-8177-5EEA465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3B4-B0BA-4E30-931B-A669747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67B-B8DD-4B49-BB21-6F318E6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45A-2BE9-44A6-AA0D-F1395BC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20E7-E67F-4C33-B9ED-D49F4F0B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8;&#1089;&#1082;&#1091;&#1089;&#1089;&#1090;&#1074;&#1086;_&#1088;&#1072;&#1089;&#1089;&#1082;&#1072;&#1079;&#1099;&#1074;&#1072;&#1077;&#1090;_&#1086;_&#1082;&#1088;&#1072;&#1089;&#1086;&#1090;&#1077;_&#1047;&#1077;&#1084;&#1083;&#1080;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3;&#1090;&#1086;_&#1077;&#1089;&#1090;&#1100;_&#1082;&#1088;&#1072;&#1089;&#1086;&#1090;&#1072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1;&#1086;&#1088;&#1100;&#1073;&#1072;_&#1086;&#1088;&#1075;&#1072;&#1085;&#1080;&#1079;&#1084;&#1072;_&#1089;_&#1080;&#1085;&#1092;&#1077;&#1082;&#1094;&#1080;&#1077;&#1081;._&#1048;&#1084;&#1084;&#1091;&#1085;&#1080;&#1090;&#1077;&#1090;._&#1055;&#1086;&#1083;&#1085;&#1099;&#1077;_&#1091;&#1088;&#1086;&#1082;&#1080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52;&#1091;&#1079;&#1099;&#1082;&#1072;" TargetMode="External"/><Relationship Id="rId2" Type="http://schemas.openxmlformats.org/officeDocument/2006/relationships/hyperlink" Target="http://school.xvatit.com/index.php?title=&#1046;&#1080;&#1074;&#1086;&#1087;&#1080;&#1089;&#1100;_&#8212;_&#1080;&#1089;&#1082;&#1091;&#1089;&#1089;&#1090;&#1074;&#1086;_&#1094;&#1074;&#1077;&#1090;&#1072;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40;._&#1057;._&#1055;&#1091;&#1096;&#1082;&#1080;&#1085;" TargetMode="External"/><Relationship Id="rId2" Type="http://schemas.openxmlformats.org/officeDocument/2006/relationships/hyperlink" Target="http://school.xvatit.com/index.php?title=&#1059;&#1088;&#1086;&#1082;&#1080;_&#1095;&#1091;&#1074;&#1089;&#1090;&#1074;" TargetMode="External"/><Relationship Id="rId3" Type="http://schemas.openxmlformats.org/officeDocument/2006/relationships/hyperlink" Target="http://school.xvatit.com/index.php?title=&#1054;&#1089;&#1085;&#1086;&#1074;&#1085;&#1099;&#1077;_&#1093;&#1072;&#1088;&#1072;&#1082;&#1090;&#1077;&#1088;&#1080;&#1089;&#1090;&#1080;&#1082;&#1080;_&#1079;&#1074;&#1077;&#1079;&#1076;" TargetMode="External"/><Relationship Id="rId4" Type="http://schemas.openxmlformats.org/officeDocument/2006/relationships/hyperlink" Target="http://school.xvatit.com/index.php?title=&#1052;&#1099;_&#1080;&#1079;&#1091;&#1095;&#1072;&#1077;&#1084;_&#1074;&#1079;&#1072;&#1080;&#1084;&#1086;&#1076;&#1077;&#1081;&#1089;&#1090;&#1074;&#1080;&#1077;_&#1086;&#1073;&#1097;&#1077;&#1089;&#1090;&#1074;&#1072;_&#1080;_&#1087;&#1088;&#1080;&#1088;&#1086;&#1076;&#1099;._&#1055;&#1086;&#1083;&#1085;&#1099;&#1077;_&#1091;&#1088;&#1086;&#1082;&#1080;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51;&#1102;&#1073;&#1086;&#1074;&#1100;_&#1080;_&#1042;&#1088;&#1077;&#1084;&#110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скусство рассказывает о  красоте Земли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260280"/>
            <a:ext cx="835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  вдруг  отразил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зрачные  вод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  прелесть  застенчивой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ой  приро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.  Рыле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Художник: 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8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8578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333360"/>
            <a:ext cx="8785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кие  мысли  поэта  и  писателя,  раскрывающие  тайны  родной  русск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роды,  помогают почувствовать  ее 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расот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делите  в  этих  текстах  важные  для  вас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ючевые  сло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едомому  другу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ечно-росистое  это  утро,  как  неоткрытая  земля,  неизведанный слой небес, утро такое единственное, никто еще не вставал,  ничего  никто  не  видел,  и  ты  сам  видишь  впервые. Допевают  свои  весенние  песни  соловьи,  еще  сохранились  в затишных местах  одуванчики, и, может  быть,  в  сырости  черной  тени  белеет  ландыш. Соловьям помогать  взялись  бойкие летние  птички.&lt;…&gt;  Всюду  беспокойная  трескотня  дроздов,  и дятел  очень  устал  искать  живой  корм  для  своих  маленьких, присел  вдали  от  них  на  суку просто  отдохн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авай же,  друг мой! Собери  в пучок  лучи  своего  счастья, будь  смелей,  начинай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орьбу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помогай  солнцу!  Вот  слушай, и  кукушка  взялась  тебе  помогать.  Гляди,  лунь проплывает над  водой:  это  же  не  простой  лунь,  в  это  утро  он  первый  и единственный,  и  вот  сороки,  сверкая  росой,  вышли  на  дорожку  &lt;…&gt;.  Это  утро  единственное,  ни  один  человек  его  еще не  видел на  всем  земном шаре:  только  видишь  ты и  твой неведомый  дру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десятки  тысяч  лет жили на  земле  люди,  копили, передавая  друг  другу,  радость,  чтобы  ты  пришел,  поднял  ее,  собрал в  пучки  ее  стрелы  и  обрадовался.  Смелей  же, смеле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опять  расширится  душа:  елки,  березки,  —  и  не  могу оторвать  своих  глаз  от  зеленых  свечей  на  соснах  и  от  молодых  красных  шишек  на  елках.  Елки,  березки,  до  чего  хорошо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  Пришв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0560" y="61650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ивальди Жизнь как вспышка (Э.Мартон,скрипка Страдива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57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1125360"/>
            <a:ext cx="9721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ушк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называл  искусство  «магическим  кристаллом»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возь  грани которого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-новому  видны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ружающие  нас  люди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ы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  явления привычной  жизн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771640" y="2205000"/>
            <a:ext cx="60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ие  произведения  живописи  ассоциируются  у  вас  с  этими  литературными  образами?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берите  репродукции  пейзажей  русских  художников,  созвучные  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-творческие задания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Подготовьте  компьютерную  презентацию  на  тему  «Пейзаж  в  литературе,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узык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ивопис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». Обоснуйте  свой  выбор  художественных  произвед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Представьте  себя  звукорежиссером,  подберите  знакомые  вам  музыкальные  сочинения, которыми  можно  озвучить  представленные  выше  литературные  произведения.  Прочитайте  их  под эту  музыку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Icy;&amp;lcy;&amp;lcy;&amp;yucy;&amp;scy;&amp;tcy;&amp;rcy;&amp;acy;&amp;tscy;&amp;icy;&amp;yacy; &amp;kcy; &amp;pcy;&amp;rcy;&amp;ocy;&amp;icy;&amp;zcy;&amp;vcy;&amp;iecy;&amp;dcy;&amp;iecy;&amp;ncy;&amp;icy;&amp;yucy; «&amp;Ncy;&amp;iecy;&amp;vcy;&amp;iecy;&amp;dcy;&amp;ocy;&amp;mcy;&amp;ocy;&amp;mcy;&amp;ucy; &amp;dcy;&amp;rcy;&amp;ucy;&amp;gcy;&amp;ucy;» &amp;Mcy;.  &amp;Pcy;&amp;rcy;&amp;icy;&amp;shcy;&amp;vcy;&amp;icy;&amp;ncy;&amp;acy;"/>
          <p:cNvPicPr/>
          <p:nvPr/>
        </p:nvPicPr>
        <p:blipFill>
          <a:blip r:embed="rId3"/>
          <a:stretch/>
        </p:blipFill>
        <p:spPr>
          <a:xfrm>
            <a:off x="395280" y="2060640"/>
            <a:ext cx="16858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404640"/>
            <a:ext cx="86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. Пушкин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называл  искусство  «магическим  кристаллом»,  сквозь  грани которого  по-новому  видны  окружающие  нас  люди,  предметы  и  явления привычной 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  все  времена  живописцы,  композиторы  и  писатели  воплощают  в своих произведениях различные явления  природы,  волновавшие  их.  Через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увств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 и  переживания,  которые  возникают  у  них  при  восприятии  величественного  моря  или  таинственных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везд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  бескрайних  равнин  или  плавного  изгиба  реки,  они  передают  свое видение 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даря  произведениям  искусства — литературным, музыкальным, живописным —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ирод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редстает перед читателями,  слушателями,  зрителями всегда  разной:  величественной,  грустной,  нежной,  ликующей,  скорбящей, трогательной. Эти образы продолжают привлекать  человека,  затрагивая  тончайшие  струны  его  души,  помогают прикоснуться  к неповторимой  красоте  родной  природы,  увидеть  необычное  в  том,  что  привычно  и  буднично, дают  возможность  каждому  развивать в  себе  чувство  сопричастности  к  родному  краю,  к  отчему  д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692280"/>
            <a:ext cx="835164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ясните  смысл  высказыван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ранцузского  писателя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туана де  Сент Экзюпери: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Самого  главного  глазами  не  увидишь,  зорко  одно  лишь  сердц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5300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ио Вивальди . Времена года. З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60280"/>
            <a:ext cx="4788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ите репродукции пейзажей. Придумайте  свои названия к  этим  полотнам. Совпадают  ли  они  с  авторски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пределите  средства  художественной выразительности,  с  помощью  которых  созданы  эти  образы  природ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0320" y="260280"/>
            <a:ext cx="3930480" cy="568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59500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инд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4680000" cy="351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3600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62164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йзаж- жанр, посвящённый изображению природы. В европейском искусстве как самостоятельный появился в XVII 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62520" y="46522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897440" cy="384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716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99080" y="549360"/>
            <a:ext cx="678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  в  тающей  дымке: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мы,  перелески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краски  не  ярки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звуки  не  резк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6308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Дорога. 189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72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333360"/>
            <a:ext cx="67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едленны  реки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манны  озера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  все  ускользает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  беглого  взо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20000" y="551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Левитан. Осень. 18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79640" y="260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ало  увидеть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нужно  всмотре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  ясной 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юбовью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олнилось  серд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516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аак Ильич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Луг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ушке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4010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260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мало  услышать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  вслушаться  нужно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  в  душу  созвучья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лынули  друж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6093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та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резы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ушка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511280"/>
            <a:ext cx="7018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7:55:33Z</dcterms:created>
  <dc:creator>дикий КОТ</dc:creator>
  <dc:description/>
  <dc:language>en-US</dc:language>
  <cp:lastModifiedBy>дикий КОТ</cp:lastModifiedBy>
  <dcterms:modified xsi:type="dcterms:W3CDTF">2012-09-26T17:50:42Z</dcterms:modified>
  <cp:revision>32</cp:revision>
  <dc:subject/>
  <dc:title>Слайд 1</dc:title>
</cp:coreProperties>
</file>