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D72-F25B-47C8-AA56-C3769A79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E4C-59BA-4696-8832-B7988C08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3D0B-8388-4EDF-84E8-821BD6E9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709-C4E2-427B-AA1B-D89174F6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20CEA-72F4-41A7-9BE3-77CADE51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DCC93-432D-437D-B512-5A0F06D0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3B7EF-ADAF-478E-9AC8-CCB08C8E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0A09C-089B-43B4-96CA-7A2E48C3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8F921-C245-4B9C-98E0-D00F221D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2E4B7-023E-4069-8C29-E99F062D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5ADE0-9C8C-4129-9736-A453DD6A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992-6A0F-46B4-86E5-34967A08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2A70B-2F9E-485C-973D-5D702B87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AC1ED-7A62-45DB-8E57-11C89884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343D0-9706-4B54-867C-A988E1CA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AC2DC-7A7A-4241-A7E2-0BB824CC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0E4EB-C59B-41CE-B925-C3D9BE3A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0D3A-6C1C-455D-941F-6C48905D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0919-775B-40C7-8147-2D791DDF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FE396-9336-4D31-9D06-54314533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DD401-C91F-4BA1-B9E7-A7B652A7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9112-2265-43E1-A7B2-2ED68276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06D-21E2-4D83-80A0-6D96B601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9B4A-3A89-47CA-B115-A38B4BCF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97517-FDC4-410D-85D4-FCDE8298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110F4-6FEF-4B53-A820-4CE06276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D6D2F-582B-49BF-8C94-990DF259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C7BD-81DB-4E92-A51B-3689F1CF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A801-0BAC-462F-950A-C56EF18A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A7F2D-6C5E-44E6-83A8-30529D76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DE8506-7B2E-4190-9AD8-FFAA6910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67C0A7-D104-4F3C-8DAC-D1F5E075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830A61-0D57-4DAC-9BD5-EBCD3D89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93A-BC0A-4B53-A844-39BA9F5D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3EDB5A-DD77-4576-93BB-2FEC8C02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BA2E24-F1FC-420C-8984-42ED2F9B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EDFD9-E737-45D0-8B6F-631C3830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0B7AA5-20A7-466E-B155-B0106C92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F5A51-644F-48A7-8BA3-5A94BB52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F09CE-AD7A-4AA7-BEBE-7E596088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BC6D07-2D53-4AD1-937E-F885A84C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79355-AC88-4291-89EC-4C6684F6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8175CA-6276-4F52-807C-47A5D9C9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DB139-6FD3-4EC6-ACB9-109B9A2F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503-069A-4D93-B28A-54133DDF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2E849-BAEC-4435-A45D-7EAABB6D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2DF9D-8AC7-4752-A411-6B4991FB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56D2C8-661F-4147-A3CD-7DCAEF22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A5702-19C8-491A-9D52-3448F937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886CF-4B88-49DA-BA3F-7BF4075B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07445-AB3D-4E40-8A59-DDD59D72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F8084-66F4-4A25-AAE9-E9F35C11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22BC05-0150-4C5E-9D6C-FB4681F4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08A2B-C304-4022-A384-DAA4013A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658941-0D72-400A-B8C8-68F89367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732-E493-42CD-8DAD-78C642E5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C9CB5-DBCE-4F11-BFA6-41243503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858383-C919-484C-BC4C-15F726DB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45A81-6752-455D-8291-917DF63E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385700-FB98-4866-8DAC-0997F7E2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3909E-78E4-4266-91B3-45586D05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306EC-17F6-48C8-B6CA-84825F8B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46194-E341-46A7-B101-33206B09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B0B327-ADE2-43C9-B710-2CE61FA9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07EB5-DB0D-4608-9A0D-F9337812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CD11B-EF53-401E-B239-79AF02E2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672-BC67-4A1A-AAA1-5B9FCA6B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92798C-342F-4E20-BB07-8AC2010D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BB4A30-1466-4821-A6E4-A54CE5F2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25F83-1ACC-426E-8050-C4564C97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5F8-AEC6-405F-8B8B-E2964FBD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9C0-53C0-4444-940B-DDED290D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3CDB-5AF7-4CCB-9DE0-8A384B9E01A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FE99-C627-4EE4-A396-7944DB73D01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9D6D-25A8-4C32-A6C9-AD5C5762621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EA73-6169-4459-AE65-308E98CE121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5A5C-355A-4486-9F7B-34526D9A4E4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90BC-9449-4F38-9199-5FD898D60CB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4149360"/>
            <a:ext cx="83059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fac9"/>
                </a:solidFill>
                <a:latin typeface="Constantia"/>
              </a:rPr>
              <a:t>Пихтина О.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fac9"/>
                </a:solidFill>
                <a:latin typeface="Constantia"/>
              </a:rPr>
              <a:t>учитель краеведен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fac9"/>
                </a:solidFill>
                <a:latin typeface="Constantia"/>
              </a:rPr>
              <a:t>МБОУ «СОШ№12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69800" y="401760"/>
            <a:ext cx="8302680" cy="33955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1403280" y="4076640"/>
            <a:ext cx="26892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работки соли в озере Баскунчак велись начиная со скифов, в VII-IX веках ее ломали хазары, в X-XII веках - половцы, с XIII века соль ломают татар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47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 1863г. Баскунчак главный поставщик соли в Росс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являются слободы Покровская, Николаевская, Владимировская (ныне второй по величине город в Астраханской области - Ахтубинск), позже села Болхуны, Сокрутовка, Пироговка, Батаевка, Успенка, Капустин Яр и др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520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6894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1882 году построена солевозна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аскунчакская железна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рог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страивается центральный поселок промыслов, который теперь именуется поселок Нижний Баскунча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412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3" name="Рисунок 4" descr="http://www.nvspb.ru/photo/1727.jpg"/>
          <p:cNvPicPr/>
          <p:nvPr/>
        </p:nvPicPr>
        <p:blipFill>
          <a:blip r:embed="rId1"/>
          <a:stretch/>
        </p:blipFill>
        <p:spPr>
          <a:xfrm>
            <a:off x="5435640" y="765000"/>
            <a:ext cx="2957400" cy="2190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33130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 приходом Советской власти и национализацией в апреле 1918 г.  на Баскунчакских промыслах и солемельницах начинается активное внедрение механиза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412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62643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 распоряжению В.И.Ленина в мае 1918 г. на солепромысел пребывает экскаватор американской фирмы "Марион"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52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3780000" y="2781360"/>
            <a:ext cx="4537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 1972 году вводится в эксплуатацию новая солефабрик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520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3" name="Picture 2" descr="http://media.caakimg.com/downloads/images14/201008/baskunchak/ozero-014.jpg"/>
          <p:cNvPicPr/>
          <p:nvPr/>
        </p:nvPicPr>
        <p:blipFill>
          <a:blip r:embed="rId1"/>
          <a:stretch/>
        </p:blipFill>
        <p:spPr>
          <a:xfrm>
            <a:off x="1042920" y="1413000"/>
            <a:ext cx="714384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 данный момент ОАО «Бассоль» производит до 2 млн. тонн соли в год, на предприятии работает 700 челове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944720" cy="2303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3456000" cy="2527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456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5:07:26Z</dcterms:created>
  <dc:creator>school</dc:creator>
  <dc:description/>
  <dc:language>en-US</dc:language>
  <cp:lastModifiedBy>school</cp:lastModifiedBy>
  <dcterms:modified xsi:type="dcterms:W3CDTF">2013-01-29T17:28:45Z</dcterms:modified>
  <cp:revision>9</cp:revision>
  <dc:subject/>
  <dc:title>История соляных промыслов в Астраханской области</dc:title>
</cp:coreProperties>
</file>