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159-BE84-4E1B-9D65-CD90AA3F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D2A-F7B0-478A-80CF-F7C0B04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D7A-DBA8-4C5C-A21B-A36E4B1D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022-5201-44C4-8CCA-2A19C3DC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20341-0843-4D08-A292-5B69EE9F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17D53-4A43-4072-88ED-E738886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34109-F489-4EF8-AA2B-E3124829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97161-C6A4-4002-AF86-D9B4A93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6E045-3222-4D5D-AF97-B7971B83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E01DE-DC15-4B2B-882C-A975AEEA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7AE54-424C-45F8-A8BD-941BE8E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6DE-0503-4EE0-9ACD-00C7A15E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3FB26-BD45-4297-B760-4F5BF5E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883D-6F79-4CE4-9542-0FC239CD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B24A-7363-4453-AC4B-FBB3284D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3435-88C2-4C51-B1D1-E1B0972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CD959-9B6D-48DE-83C4-2692E8F4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074B-364A-4B44-9D98-1FCB9EDC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9119-F800-4CD2-B0B7-F9794543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9299-AEA7-4BD1-BE24-A425C1BB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5727-89A9-451B-8802-18C74F0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BC13-4660-490E-BDD2-1F06A81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D01-B7A9-4B2C-8984-629E10E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09E9-D15B-40E5-8EC1-35AB5C6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8E3A-D7CC-4460-B678-8C55208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35D1-2825-4AA1-926C-5B2A47B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0C346-4429-43EE-8836-7AB5B68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DA8C-093B-4EAA-9288-82528DC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D1F0-AE89-434E-824D-95CF31BF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5892-7EC2-4727-AD1D-5F0EA306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4FBDC-91FC-49D8-970D-29180031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523B0-DFF3-4B7A-AC9D-1AFD909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970A7-88D1-4691-9272-F969AD2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854-CD84-4AAF-A96A-950EF332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8E83A-56AA-49A3-96C4-48F6588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C33DE-40F2-4ADF-8046-316A2233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51CB4-219B-4E3F-BE1C-33A2F0AD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834B8-431B-46C2-81E3-2F636E3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1BCBC-A189-4D1C-B01A-AA4DF40A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63CBF-4638-4AAA-9A48-344BC94E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3A50C-C7F6-4B44-9097-9BEBD68A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36505-0F9A-451A-A8B8-61A7FC14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FB0D4D-9520-4890-996E-2054461D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668C9-9983-45DA-8A0C-90337EA5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232-C0CB-44F8-97D6-4D412C66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0B497-178E-4749-830F-B3EB4AE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C8A2D-972B-431D-B8BC-16059BBE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B555E-3594-4CB5-90CC-230048D7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B257B-BA05-4509-8871-97115BAD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D36A1-0F3C-4250-929D-8D0442BF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517E2-F253-4DC0-ACF2-E667C18F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63993-0326-406E-9EDC-FE51A2B1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DAC04-256E-4D3F-BF05-C5C15375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808F6-08D4-4F3B-81F3-936E20E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79CAF-B026-42EA-BE1B-393E6AB8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502-0FE9-42D3-8D3A-C4E9EB4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41E60-DE80-40A4-A874-42221E2D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6C3C8-C48F-4CFB-BAE6-02BA837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8EAA5-62D6-4B36-9AF9-5989C6CE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72153-AA4B-4C30-9ECC-C36DAB3E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5FD572-D4CA-4131-89B1-DF6BA5DD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9B2B9-7415-46C7-ADFF-5D2107F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41A89-14C0-4F79-9020-E5C4A7D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0A8AE-66F3-4C13-BF01-E6C1A12E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86AC4-CB34-463E-B285-E94C3D4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72060-91F2-4DC4-BCBC-535B8927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8AE-E4AE-47EE-B935-8B5FDB0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08B95-C387-4C67-AB8D-1C87F4F2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9B42A-9AAE-448A-A470-FC83DC1E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8F28A-CB5E-41A4-82DB-30E8CC29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D1A-D1B7-4942-B39F-65C06B6A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890-327D-47BD-9CAD-D6577F27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AFEE-C963-4CC5-A441-E86C7622412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9C8-C327-4DE9-BC3A-3B4477E8B6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7697-A882-495E-BB77-DAB3B574DD9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2084-6AAB-4EC9-845B-D39593C7430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7F0-0890-4346-801F-52A069946E3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0E94-6826-44EA-AF92-8CC10510D44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4149360"/>
            <a:ext cx="8305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Пихтина О.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учитель краеведения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Constantia"/>
              </a:rPr>
              <a:t>МБОУ «СОШ№12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302680" cy="3395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403280" y="4076640"/>
            <a:ext cx="26892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ки соли в озере Баскунчак велись начиная со скифов, в VII-IX веках ее ломали хазары, в X-XII веках - половцы, с XIII века соль ломают татар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54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1863г. Баскунчак главный поставщик соли в Росс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являются слободы Покровская, Николаевская, Владимировская (ныне второй по величине город в Астраханской области - Ахтубинск), позже села Болхуны, Сокрутовка, Пироговка, Батаевка, Успенка, Капустин Яр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520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6894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1882 году построена солевозна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аскунчакская железна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рог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страивается центральный поселок промыслов, который теперь именуется поселок Нижний Баскунча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41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Рисунок 4" descr="http://www.nvspb.ru/photo/1727.jpg"/>
          <p:cNvPicPr/>
          <p:nvPr/>
        </p:nvPicPr>
        <p:blipFill>
          <a:blip r:embed="rId1"/>
          <a:stretch/>
        </p:blipFill>
        <p:spPr>
          <a:xfrm>
            <a:off x="5435640" y="765000"/>
            <a:ext cx="2957400" cy="2190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33130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приходом Советской власти и национализацией в апреле 1918 г.  на Баскунчакских промыслах и солемельницах начинается активное внедрение механиза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41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2643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распоряжению В.И.Ленина в мае 1918 г. на солепромысел пребывает экскаватор американской фирмы "Марион"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52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3780000" y="2781360"/>
            <a:ext cx="45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 1972 году вводится в эксплуатацию новая солефабрик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520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3" name="Picture 2" descr="http://media.caakimg.com/downloads/images14/201008/baskunchak/ozero-014.jpg"/>
          <p:cNvPicPr/>
          <p:nvPr/>
        </p:nvPicPr>
        <p:blipFill>
          <a:blip r:embed="rId1"/>
          <a:stretch/>
        </p:blipFill>
        <p:spPr>
          <a:xfrm>
            <a:off x="1042920" y="1413000"/>
            <a:ext cx="71438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данный момент ОАО «Бассоль» производит до 2 млн. тонн соли в год, на предприятии работает 700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3456000" cy="2527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456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07:26Z</dcterms:created>
  <dc:creator>school</dc:creator>
  <dc:description/>
  <dc:language>en-US</dc:language>
  <cp:lastModifiedBy>school</cp:lastModifiedBy>
  <dcterms:modified xsi:type="dcterms:W3CDTF">2013-01-29T17:28:45Z</dcterms:modified>
  <cp:revision>9</cp:revision>
  <dc:subject/>
  <dc:title>История соляных промыслов в Астраханской области</dc:title>
</cp:coreProperties>
</file>