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20.jpeg" ContentType="image/jpeg"/>
  <Override PartName="/ppt/media/image19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45.png" ContentType="image/png"/>
  <Override PartName="/ppt/media/image27.jpeg" ContentType="image/jpeg"/>
  <Override PartName="/ppt/media/image34.jpeg" ContentType="image/jpeg"/>
  <Override PartName="/ppt/media/image6.jpeg" ContentType="image/jpeg"/>
  <Override PartName="/ppt/media/image18.png" ContentType="image/png"/>
  <Override PartName="/ppt/media/image35.jpeg" ContentType="image/jpeg"/>
  <Override PartName="/ppt/media/image10.jpeg" ContentType="image/jpeg"/>
  <Override PartName="/ppt/media/image7.jpeg" ContentType="image/jpeg"/>
  <Override PartName="/ppt/media/image28.png" ContentType="image/png"/>
  <Override PartName="/ppt/media/image40.jpeg" ContentType="image/jpeg"/>
  <Override PartName="/ppt/media/image44.png" ContentType="image/png"/>
  <Override PartName="/ppt/media/image42.jpeg" ContentType="image/jpeg"/>
  <Override PartName="/ppt/media/image46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8.jpeg" ContentType="image/jpeg"/>
  <Override PartName="/ppt/media/image30.jpeg" ContentType="image/jpeg"/>
  <Override PartName="/ppt/media/image12.jpeg" ContentType="image/jpeg"/>
  <Override PartName="/ppt/media/image13.png" ContentType="image/png"/>
  <Override PartName="/ppt/media/image11.jpeg" ContentType="image/jpeg"/>
  <Override PartName="/ppt/media/image38.png" ContentType="image/png"/>
  <Override PartName="/ppt/media/image8.png" ContentType="image/png"/>
  <Override PartName="/ppt/media/image41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7369-E9D7-40F1-98D0-C51F8E5B0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1CFC-4907-44A2-9F62-F2F2FB3F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7B8B-71D1-48B0-AF28-F9B7A8259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2C92-8346-48E8-809D-CB079B48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806D-51D1-42F3-9934-01ABE5B23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F21C-855D-410A-8C1A-9AD82255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DF8A-BE78-4878-8666-7E21E7AF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0661-492F-4223-9E4C-A0C212B8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CE06-AA8F-4BA4-9B9A-F0819347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AD6D-83FE-40CD-90FD-01697D7B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1E13-B1E4-422A-935F-B02F5FAD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4E3B-B3F0-432C-B70B-4B3045CB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998E-347F-4614-B75A-7CFBEBD2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3371-BF3A-4957-A727-8B7A733E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84CB-CB5B-4A2F-8E44-3B3AA865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0234-73D9-490A-AB1F-23149E4B2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942A-0B7A-4AF7-A93E-F3981F37A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D6BD-0665-4382-9400-1716455E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76D9-5414-4D2B-BA91-AB6C0BE5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9E45-1EBD-4807-9D35-FD30C4EF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51EC-C227-49DC-9E87-9002BB79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6204-DE3F-4841-ACB1-3256CD38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84FD-07F1-4721-8D2E-DA767112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05CE-F582-4951-8208-2A550DD5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256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87360" y="311040"/>
              <a:ext cx="8445600" cy="6159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80880" y="304920"/>
              <a:ext cx="42840" cy="6172200"/>
            </a:xfrm>
            <a:prstGeom prst="rect">
              <a:avLst/>
            </a:prstGeom>
            <a:solidFill>
              <a:srgbClr val="3939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80880" y="304920"/>
              <a:ext cx="8458200" cy="42840"/>
            </a:xfrm>
            <a:prstGeom prst="rect">
              <a:avLst/>
            </a:prstGeom>
            <a:solidFill>
              <a:srgbClr val="39393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E806-FDFF-444F-87A5-980061BD9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914256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87360" y="920880"/>
              <a:ext cx="8445600" cy="5244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380880" y="914400"/>
              <a:ext cx="8458200" cy="5257800"/>
              <a:chOff x="380880" y="914400"/>
              <a:chExt cx="8458200" cy="5257800"/>
            </a:xfrm>
          </p:grpSpPr>
          <p:sp>
            <p:nvSpPr>
              <p:cNvPr id="50" name=""/>
              <p:cNvSpPr/>
              <p:nvPr/>
            </p:nvSpPr>
            <p:spPr>
              <a:xfrm>
                <a:off x="380880" y="914400"/>
                <a:ext cx="42840" cy="5257800"/>
              </a:xfrm>
              <a:prstGeom prst="rect">
                <a:avLst/>
              </a:pr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80880" y="914400"/>
                <a:ext cx="8458200" cy="36360"/>
              </a:xfrm>
              <a:prstGeom prst="rect">
                <a:avLst/>
              </a:prstGeom>
              <a:solidFill>
                <a:srgbClr val="39393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CCAA-EC53-4EA0-AC9C-5BF25ADB8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vokrugsveta.com/" TargetMode="External"/><Relationship Id="rId2" Type="http://schemas.openxmlformats.org/officeDocument/2006/relationships/hyperlink" Target="http://vokrugsveta.com/" TargetMode="External"/><Relationship Id="rId3" Type="http://schemas.openxmlformats.org/officeDocument/2006/relationships/hyperlink" Target="http://vokrugsveta.com/" TargetMode="External"/><Relationship Id="rId4" Type="http://schemas.openxmlformats.org/officeDocument/2006/relationships/hyperlink" Target="http://dic.academic.ru/dic.nsf/enc_physics/2249/&#1060;&#1048;&#1040;&#1053;&#1048;&#1058;&#1067;" TargetMode="External"/><Relationship Id="rId5" Type="http://schemas.openxmlformats.org/officeDocument/2006/relationships/hyperlink" Target="http://dic.academic.ru/dic.nsf/enc_physics/2249/&#1060;&#1048;&#1040;&#1053;&#1048;&#1058;&#1067;" TargetMode="External"/><Relationship Id="rId6" Type="http://schemas.openxmlformats.org/officeDocument/2006/relationships/hyperlink" Target="http://dic.academic.ru/dic.nsf/enc_physics/2249/&#1060;&#1048;&#1040;&#1053;&#1048;&#1058;&#1067;" TargetMode="External"/><Relationship Id="rId7" Type="http://schemas.openxmlformats.org/officeDocument/2006/relationships/hyperlink" Target="http://dic.academic.ru/dic.nsf/enc_physics/2249/&#1060;&#1048;&#1040;&#1053;&#1048;&#1058;&#1067;" TargetMode="External"/><Relationship Id="rId8" Type="http://schemas.openxmlformats.org/officeDocument/2006/relationships/hyperlink" Target="http://dic.academic.ru/dic.nsf/enc_physics/2249/&#1060;&#1048;&#1040;&#1053;&#1048;&#1058;&#1067;" TargetMode="External"/><Relationship Id="rId9" Type="http://schemas.openxmlformats.org/officeDocument/2006/relationships/hyperlink" Target="http://dic.academic.ru/dic.nsf/enc_physics/2249/&#1060;&#1048;&#1040;&#1053;&#1048;&#1058;&#1067;" TargetMode="External"/><Relationship Id="rId10" Type="http://schemas.openxmlformats.org/officeDocument/2006/relationships/hyperlink" Target="http://dic.academic.ru/dic.nsf/enc_physics/2249/&#1060;&#1048;&#1040;&#1053;&#1048;&#1058;&#1067;" TargetMode="External"/><Relationship Id="rId11" Type="http://schemas.openxmlformats.org/officeDocument/2006/relationships/hyperlink" Target="http://dic.academic.ru/dic.nsf/enc_physics/2249/&#1060;&#1048;&#1040;&#1053;&#1048;&#1058;&#1067;" TargetMode="External"/><Relationship Id="rId12" Type="http://schemas.openxmlformats.org/officeDocument/2006/relationships/hyperlink" Target="http://almazi.net/" TargetMode="External"/><Relationship Id="rId13" Type="http://schemas.openxmlformats.org/officeDocument/2006/relationships/hyperlink" Target="http://almazi.net/" TargetMode="External"/><Relationship Id="rId14" Type="http://schemas.openxmlformats.org/officeDocument/2006/relationships/hyperlink" Target="http://almazi.net/" TargetMode="External"/><Relationship Id="rId15" Type="http://schemas.openxmlformats.org/officeDocument/2006/relationships/hyperlink" Target="http://almazi.net/" TargetMode="Externa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4360" y="234936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99ff"/>
                  </a:solidFill>
                  <a:miter/>
                </a:ln>
                <a:solidFill>
                  <a:srgbClr val="008000">
                    <a:alpha val="99000"/>
                  </a:srgbClr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Алмаз - легенды и действительность</a:t>
            </a:r>
            <a:endParaRPr b="0" lang="en-US" sz="1800" spc="1" strike="noStrike">
              <a:ln w="19080">
                <a:solidFill>
                  <a:srgbClr val="cc99ff"/>
                </a:solidFill>
                <a:miter/>
              </a:ln>
              <a:solidFill>
                <a:srgbClr val="008000">
                  <a:alpha val="99000"/>
                </a:srgbClr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1052640"/>
            <a:ext cx="7705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ниципаль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Гимназия № 8 г. Рыбинска имени Л. М. Марасинов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00720" y="3716280"/>
            <a:ext cx="3960720" cy="18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аботу выполнила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ученица 9 «А» клас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омашних Елиза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аучный руководитель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Лебедева Ирина Владими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1042920" y="3645000"/>
            <a:ext cx="2952720" cy="2200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Физические свойства алма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8061120" cy="41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Цве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от бесцветного или с едва заметными оттенками (нацветом), до ясно окрашенного розовато-лилового, жёлтого, зелёного, голубого, синего, молочно-белого, серого и чёрного. Ярко окрашенные камни называются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фантазийными алмазами. Жёлты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канареечны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ли капские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алмаз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з ЮАР, жёлтые низкого качества —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алмазы химберли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жёлто-коричневые —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алмазы шампань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жёлто-зелёные из Бразилии —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баия-изумруд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ёмно-бурые до чёрных —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савойские алмазы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и наличии сероватого нацвета —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сидерит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 на Руси их называл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бакан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огда как в США стально-серые алмазы получили название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тиффанит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ни часто фосфоресцируют из-за наличия углеводородных включений. У некоторых алмазов окраска может изменяться от нагрева или характера освещения из-за чего они называются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хамельонными алмаз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987640" y="4437000"/>
            <a:ext cx="2736720" cy="1822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116000" y="4437000"/>
            <a:ext cx="1351080" cy="1747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300720" y="4365720"/>
            <a:ext cx="1798560" cy="1798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Примеры цветных алмаз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1656000" cy="1656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700360" y="198900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резденский Зеленый Брилли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940360" y="2852640"/>
            <a:ext cx="1656000" cy="1656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771640" y="357336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Желтый алмаз Тифф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042920" y="4365720"/>
            <a:ext cx="1513080" cy="1452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843280" y="486900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ртер Родс (голубо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imes New Roman"/>
              </a:rPr>
              <a:t>Химические свойства алм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89840" cy="41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 воздухе алмаз сгорает при 850—1000°С. Особенно эффектно сжигание солнечными лучами с помощью фокусирующих линз. Пользуясь этим способом, X. Дэви установил в 1807 г. идентичность состава алмаза и уг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 + 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С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050920" y="3500280"/>
            <a:ext cx="4926240" cy="2521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Использование алма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500720" y="2492280"/>
            <a:ext cx="4167000" cy="31258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11280" y="184464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Драгоценные камн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это минералы с особыми свойствами, используемые для ювелирных целей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24000" y="1197000"/>
            <a:ext cx="63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Ювелирная обрабо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3141720"/>
            <a:ext cx="36716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словно они делятся на 4 класса. Алмаз относится к первому классу, наряду с рубином, сапфиром и  изумру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2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6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Использование алма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27280" y="105264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Ювелирная обрабо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916360" y="3573360"/>
            <a:ext cx="3333600" cy="24955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39640" y="1628640"/>
            <a:ext cx="7993080" cy="26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 долю ювелирных алмазов обычно приходится 20-25% добываемых алмазов. Ювелирные алмазы прозрачны, без трещин и включений. При их огранке выявляются наибольший блеск и игра камня, устраняются природные дефекты, при этом теряется около 50% первоначальной мас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ля ювелирной обработки алмазов специалисты используют специальный камнерезный и шлифовальный инструмен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58920" y="4076640"/>
            <a:ext cx="302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3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7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Использование алма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353440" cy="439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ысокий показатель преломления и сильная дисперсия  обуславливают яркий блеск и разноцветную «игру» ограненных ювелирных алмазов, называемых бриллиант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Бриллиант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от франц. brillant, букв. — блестящий), бездефектный ювелирный алмаз, особая искусственная огранка которого максимально выявляет его блес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11280" y="1125360"/>
            <a:ext cx="61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Ювелирная обрабо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2837160" cy="2187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427640" y="3716280"/>
            <a:ext cx="4032000" cy="2143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920000" cy="36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Виды огранки алма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4046400" cy="4896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427640" y="1268280"/>
            <a:ext cx="4049640" cy="4321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920000" cy="36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Виды огранки алма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Элементы бриллианта"/>
          <p:cNvPicPr/>
          <p:nvPr/>
        </p:nvPicPr>
        <p:blipFill>
          <a:blip r:embed="rId1"/>
          <a:stretch/>
        </p:blipFill>
        <p:spPr>
          <a:xfrm>
            <a:off x="971640" y="19890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116000" y="1700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ин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Элементы бриллианта"/>
          <p:cNvPicPr/>
          <p:nvPr/>
        </p:nvPicPr>
        <p:blipFill>
          <a:blip r:embed="rId2"/>
          <a:stretch/>
        </p:blipFill>
        <p:spPr>
          <a:xfrm>
            <a:off x="900000" y="4508640"/>
            <a:ext cx="1656000" cy="1655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116000" y="407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зумр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Элементы бриллианта"/>
          <p:cNvPicPr/>
          <p:nvPr/>
        </p:nvPicPr>
        <p:blipFill>
          <a:blip r:embed="rId3"/>
          <a:stretch/>
        </p:blipFill>
        <p:spPr>
          <a:xfrm>
            <a:off x="2843280" y="206064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916360" y="1700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ш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Элементы бриллианта"/>
          <p:cNvPicPr/>
          <p:nvPr/>
        </p:nvPicPr>
        <p:blipFill>
          <a:blip r:embed="rId4"/>
          <a:stretch/>
        </p:blipFill>
        <p:spPr>
          <a:xfrm>
            <a:off x="2700360" y="4522680"/>
            <a:ext cx="1942920" cy="16002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987640" y="407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в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Элементы бриллианта"/>
          <p:cNvPicPr/>
          <p:nvPr/>
        </p:nvPicPr>
        <p:blipFill>
          <a:blip r:embed="rId5"/>
          <a:stretch/>
        </p:blipFill>
        <p:spPr>
          <a:xfrm>
            <a:off x="4572000" y="2133720"/>
            <a:ext cx="1657440" cy="14983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716360" y="1700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арк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Элементы бриллианта"/>
          <p:cNvPicPr/>
          <p:nvPr/>
        </p:nvPicPr>
        <p:blipFill>
          <a:blip r:embed="rId6"/>
          <a:stretch/>
        </p:blipFill>
        <p:spPr>
          <a:xfrm>
            <a:off x="4716360" y="4437000"/>
            <a:ext cx="1727280" cy="1727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932360" y="407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ру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Элементы бриллианта"/>
          <p:cNvPicPr/>
          <p:nvPr/>
        </p:nvPicPr>
        <p:blipFill>
          <a:blip r:embed="rId7"/>
          <a:stretch/>
        </p:blipFill>
        <p:spPr>
          <a:xfrm>
            <a:off x="6443640" y="2060640"/>
            <a:ext cx="1513080" cy="15127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516720" y="1700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д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8"/>
          <a:stretch/>
        </p:blipFill>
        <p:spPr>
          <a:xfrm>
            <a:off x="6732720" y="4437000"/>
            <a:ext cx="1641240" cy="16416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6804000" y="407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ерд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imes New Roman"/>
              </a:rPr>
              <a:t>Использование алмаз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6694560" cy="39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ехнические алмазы использу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лмазных буровых коронках для глубокого бур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пилах, резцах, фильерах для вытягивания проволо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оптической и электронной промышленности как полупроводники, датчики в счетчиках ядерных частиц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ля изготовления шлифующих и режущих инструмент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ля изготовления полировальных порошков и паст шлифующего матери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00360" y="119700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Использование в технических цел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2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6000"/>
                            </p:stCondLst>
                            <p:childTnLst>
                              <p:par>
                                <p:cTn id="1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20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8000"/>
                            </p:stCondLst>
                            <p:childTnLst>
                              <p:par>
                                <p:cTn id="1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2000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Синтетические алма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680000" cy="475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42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требность в дешевых искусствен-ных алмазах  привела  к созданию первых  искусственных алмазов сначала  в Швеции в 1953 г.,  затем в СССР и США – в 1956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2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ехнология производства искусствен-ных алмазов довольно сложна, поэтому полученные искусственным путем ювелирные алмазы значительно дороже природ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2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 помощью  метода химического  синтеза  для получения абразивных порошков ежегодно производится до 40 т дешевых мелкокристаллических алмаз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64000" y="1341360"/>
            <a:ext cx="3156120" cy="34974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435640" y="5084640"/>
            <a:ext cx="316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именяя различные режимы синтеза,  можно получать алмазы разных цве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8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2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6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4360" y="3860640"/>
            <a:ext cx="784836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лмаз! Это название известно каждо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лмаз занимает особое место среди драгоценных камней. Он сочетает в себе исключительную твердость, высокое светопреломление, сильную дисперсию и яркий блеск. Название происходит от греческого слова «адамас» - непреодолимый, непреодолимый – так называли в Древней Греции минерал, который превосходил по своим качествам прочие камни, или от арабского «алмас», что означает «твердейши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56000" y="549360"/>
            <a:ext cx="4248000" cy="3082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Синтетические алма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95640" y="1413000"/>
            <a:ext cx="460872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России находятся два центра производства искусственных алмазов  в Москве и Новосибирс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современных лабораториях выращиваются материалы, которых нет в природе, но которые при огранке выглядят как драгоценные кам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 их числу относится имитация бриллианта —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фиани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впервые полученный в России в 1972. в Физическом институте АН СССР (сокращенно - ФИАН, отсюда названи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456000" cy="3672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120920" y="15778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5445000"/>
            <a:ext cx="352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Фианиты – синтетические бриллиан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3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7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Алмазный фонд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799128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АЛМАЗНЫЙ ФОНД Российской Федераци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 государственное собрание драгоценных камней и ювелирных изделий, имеющих историческую, художественную и материальную ценность, а также уникальных золотых и платиновых самородков. Основан в 192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 1967 в Московском Кремле открыта постоянная выставка Алмазного фон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реди семи исторических камней Алмазного фонда есть разные драгоценные камни, но в их ювелирном обрамлении обязательно присут-ствуют  бриллиан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826920" y="5157720"/>
            <a:ext cx="756144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Большая императорская кор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риллианты (4936), рубин, серебро, жемчуг (75). 1762 г. Ювелир И. Поз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сса: 1993,8 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979640" y="1125360"/>
            <a:ext cx="5079960" cy="3810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Алмазный фонд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6000840" cy="40006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539640" y="404640"/>
            <a:ext cx="777744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Скипетр император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олото, алмаз «Орлов», бриллианты (196), серебро, эмаль. 1770-е г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лина: 59,5 см (с навершием). Ювелиры: Л. Пфистерер, И. Леонови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5640" y="5445000"/>
            <a:ext cx="7777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граненный кабошоном бриллиант «Орлов» (199,6 кар.) был  привезен  из Индии и подарен  графом Г. Орловым императрице Екатерине II. Он - один из семи исторических камней Алмазного фонда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Держава императорская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олото, серебро, бриллианты (1370), алмазы огранки «роза» (25), сапфи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иаметр 48 см, высота – 24 см (с крестом). Ювелир Г.- Ф. Эка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Картинка 3 из 231"/>
          <p:cNvPicPr/>
          <p:nvPr/>
        </p:nvPicPr>
        <p:blipFill>
          <a:blip r:embed="rId1"/>
          <a:stretch/>
        </p:blipFill>
        <p:spPr>
          <a:xfrm>
            <a:off x="3059280" y="1557360"/>
            <a:ext cx="2990520" cy="3809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11280" y="515772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ндийский алмаз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«Шах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88 кар.)  был подарен императору Николаю I иранским шахом после убийства в Тегеране русского посла и поэта Александра Грибоедова. Один из семи исторических камней Алмазного фонда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692360" y="692280"/>
            <a:ext cx="5759280" cy="4265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55640" y="4797360"/>
            <a:ext cx="756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лоский портретный алмаз (около 25 кар.) редкой чистоты и величины. Это самый большой портретный камень мира,  один из семи исторических камней Алмазного фонда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4752720" cy="40006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580000" y="981000"/>
            <a:ext cx="30956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Брас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лмаз, золото, изумруды, эмаль. Вторая четверть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708360" y="620640"/>
            <a:ext cx="4695840" cy="40006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755640" y="765000"/>
            <a:ext cx="287964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Бро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умруд, бриллианты, золото, серебро. Середин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494172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центре броши – колумбийский изумруд ступенчатой огранк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V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V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ека. Вокруг – оправа в виде бриллиантовых виноградных листьев. Изумруд – один из семи исторических камней Алмазного фонда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3616200" cy="45370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755640" y="5229360"/>
            <a:ext cx="374508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Бро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пфир, бриллианты, серебро, золото. Середин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е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00720" y="692280"/>
            <a:ext cx="41036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рошь с цейлонским сапфиром старинной индийской огранки - самым большим и красивым в мире - в ажурной оправе из крупных и мелких бразильских бриллиан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апфир – один из семи исторических камней Алмазного фонда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826920" y="4365720"/>
            <a:ext cx="3673800" cy="12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Звезда ордена Св. Андрея Первозва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Бриллианты, розы, серебро, эмаль. 1795-1800 г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981000"/>
            <a:ext cx="3600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Маршальская звезда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олото, платина, бриллианты (3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реждена 2 сентября 194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Картинка 2 из 117"/>
          <p:cNvPicPr/>
          <p:nvPr/>
        </p:nvPicPr>
        <p:blipFill>
          <a:blip r:embed="rId1"/>
          <a:stretch/>
        </p:blipFill>
        <p:spPr>
          <a:xfrm>
            <a:off x="5435640" y="2276640"/>
            <a:ext cx="2647800" cy="38098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Картинка 43 из 362"/>
          <p:cNvPicPr/>
          <p:nvPr/>
        </p:nvPicPr>
        <p:blipFill>
          <a:blip r:embed="rId2"/>
          <a:stretch/>
        </p:blipFill>
        <p:spPr>
          <a:xfrm>
            <a:off x="1116000" y="1125360"/>
            <a:ext cx="3168720" cy="3129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332000" y="765000"/>
            <a:ext cx="6624720" cy="533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В работе рассматриваются следующие вопрос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остав, строение и происхождение алм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изические и химические свойства алм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спользование алмазов в ювелирной промышленности и для технических ц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интетические алма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окровища Алмазного фонда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635280" y="3789360"/>
            <a:ext cx="1947960" cy="2379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39640" y="2205000"/>
            <a:ext cx="39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42920" y="1013760"/>
            <a:ext cx="7345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. Список литерату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фонькин С. Ю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инералы и драгоценные камни. - СПб.: «БКК»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Буканов В.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Цветные камни. Энциклопедия. С-Пб., Гранит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Корнилов И. Н., Солодова Ю. П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Ювелирные камни.- М.: «Недра»,19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Ферсман А. Е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черки по истории камня. М., 19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d4d4d"/>
                </a:solidFill>
                <a:uFillTx/>
                <a:latin typeface="Times New Roman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4d4d4d"/>
                </a:solidFill>
                <a:uFillTx/>
                <a:latin typeface="Times New Roman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4d4d4d"/>
                </a:solidFill>
                <a:uFillTx/>
                <a:latin typeface="Times New Roman"/>
                <a:hlinkClick r:id="rId3"/>
              </a:rPr>
              <a:t>vokrugsveta.co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татья Царь кам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d4d4d"/>
                </a:solidFill>
                <a:uFillTx/>
                <a:latin typeface="Times New Roman"/>
                <a:hlinkClick r:id="rId4"/>
              </a:rPr>
              <a:t>http</a:t>
            </a:r>
            <a:r>
              <a:rPr b="0" lang="ru-RU" sz="1800" spc="-1" strike="noStrike" u="sng">
                <a:solidFill>
                  <a:srgbClr val="4d4d4d"/>
                </a:solidFill>
                <a:uFillTx/>
                <a:latin typeface="Times New Roman"/>
                <a:hlinkClick r:id="rId5"/>
              </a:rPr>
              <a:t>://</a:t>
            </a:r>
            <a:r>
              <a:rPr b="0" lang="ru-RU" sz="1800" spc="-1" strike="noStrike" u="sng">
                <a:solidFill>
                  <a:srgbClr val="4d4d4d"/>
                </a:solidFill>
                <a:uFillTx/>
                <a:latin typeface="Times New Roman"/>
                <a:hlinkClick r:id="rId6"/>
              </a:rPr>
              <a:t>dic.academic.ru</a:t>
            </a:r>
            <a:r>
              <a:rPr b="0" lang="ru-RU" sz="1800" spc="-1" strike="noStrike" u="sng">
                <a:solidFill>
                  <a:srgbClr val="4d4d4d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ru-RU" sz="1800" spc="-1" strike="noStrike" u="sng">
                <a:solidFill>
                  <a:srgbClr val="4d4d4d"/>
                </a:solidFill>
                <a:uFillTx/>
                <a:latin typeface="Times New Roman"/>
                <a:hlinkClick r:id="rId8"/>
              </a:rPr>
              <a:t>dic.nsf</a:t>
            </a:r>
            <a:r>
              <a:rPr b="0" lang="ru-RU" sz="1800" spc="-1" strike="noStrike" u="sng">
                <a:solidFill>
                  <a:srgbClr val="4d4d4d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ru-RU" sz="1800" spc="-1" strike="noStrike" u="sng">
                <a:solidFill>
                  <a:srgbClr val="4d4d4d"/>
                </a:solidFill>
                <a:uFillTx/>
                <a:latin typeface="Times New Roman"/>
                <a:hlinkClick r:id="rId10"/>
              </a:rPr>
              <a:t>enc_physics</a:t>
            </a:r>
            <a:r>
              <a:rPr b="0" lang="ru-RU" sz="1800" spc="-1" strike="noStrike" u="sng">
                <a:solidFill>
                  <a:srgbClr val="4d4d4d"/>
                </a:solidFill>
                <a:uFillTx/>
                <a:latin typeface="Times New Roman"/>
                <a:hlinkClick r:id="rId11"/>
              </a:rPr>
              <a:t>/2249/ФИАН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d4d4d"/>
                </a:solidFill>
                <a:uFillTx/>
                <a:latin typeface="Times New Roman"/>
                <a:hlinkClick r:id="rId12"/>
              </a:rPr>
              <a:t>http</a:t>
            </a:r>
            <a:r>
              <a:rPr b="0" lang="ru-RU" sz="1800" spc="-1" strike="noStrike" u="sng">
                <a:solidFill>
                  <a:srgbClr val="4d4d4d"/>
                </a:solidFill>
                <a:uFillTx/>
                <a:latin typeface="Times New Roman"/>
                <a:hlinkClick r:id="rId13"/>
              </a:rPr>
              <a:t>://</a:t>
            </a:r>
            <a:r>
              <a:rPr b="0" lang="ru-RU" sz="1800" spc="-1" strike="noStrike" u="sng">
                <a:solidFill>
                  <a:srgbClr val="4d4d4d"/>
                </a:solidFill>
                <a:uFillTx/>
                <a:latin typeface="Times New Roman"/>
                <a:hlinkClick r:id="rId14"/>
              </a:rPr>
              <a:t>almazi.net</a:t>
            </a:r>
            <a:r>
              <a:rPr b="0" lang="ru-RU" sz="1800" spc="-1" strike="noStrike" u="sng">
                <a:solidFill>
                  <a:srgbClr val="4d4d4d"/>
                </a:solidFill>
                <a:uFillTx/>
                <a:latin typeface="Times New Roman"/>
                <a:hlinkClick r:id="rId15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Состав алма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353440" cy="27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маз состоит из чистого углерода, но обычно содержит небольшие примеси различных химических элементов, входящих в кристаллическую структуру или в состав включений других минералов. Для бесцветных прозрачных разновидностей характерна структурная примесь азота (0,3%), хотя встречаются и “безазотные” алмазы. В непрозрачных и окрашенных разновидностях содержание примесей (оксиды алюминия, кремния, магния, кальция, железа, титана и др.) достигает 5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Картинка 25 из 1640"/>
          <p:cNvPicPr/>
          <p:nvPr/>
        </p:nvPicPr>
        <p:blipFill>
          <a:blip r:embed="rId1"/>
          <a:stretch/>
        </p:blipFill>
        <p:spPr>
          <a:xfrm>
            <a:off x="5148360" y="3429000"/>
            <a:ext cx="2808360" cy="2792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Картинка 58 из 1185"/>
          <p:cNvPicPr/>
          <p:nvPr/>
        </p:nvPicPr>
        <p:blipFill>
          <a:blip r:embed="rId2"/>
          <a:stretch/>
        </p:blipFill>
        <p:spPr>
          <a:xfrm>
            <a:off x="1547640" y="3645000"/>
            <a:ext cx="2449800" cy="2449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imes New Roman"/>
              </a:rPr>
              <a:t>Строение алм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исталл алмаза состоит из атомов углерода. Атом углерода С, который содержит два неспаренных р-электрона, превращается в атом углерода С*, где все четыре электрона внешнего валентного уровня расположены на орбиталях поодиночке и способны образовывать химические связи. Химики называют такой атом "возбужденным". В этом случае химических связей оказывается целых четыре, и все очень прочные. Недаром алмаз - самое твердое вещество в природ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580000" y="4292640"/>
            <a:ext cx="2103480" cy="1820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16000" y="4076640"/>
            <a:ext cx="2376360" cy="1884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Происхождение алма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475272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лмазы образуются при кристаллиза-ции магматического расплава на глубинах 150-200 км при очень высоком давл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мещающими алмазы породами являются кимберлиты, которые состоят в основном из оливина, пиропа, ильменита и других минерал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результате взрывных процессов кимберлит выносится к поверхности и образует т.н. «трубки взрыв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акие трубки образуют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первичные месторождения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лмаз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435640" y="1197000"/>
            <a:ext cx="2876400" cy="2030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076720" y="3357720"/>
            <a:ext cx="35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нимок кимберлита под поляризационным микроскопом (увеличено в 40 раз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724360" y="4365720"/>
            <a:ext cx="2592720" cy="1944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68360" y="5805360"/>
            <a:ext cx="30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95640" y="587700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Кимберлитовая пор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1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5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9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3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Происхождение алма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3933720"/>
            <a:ext cx="8280360" cy="14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роме того, алмазы добываются из значительно более широко распрост-раненных и обычно более богатых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россыпных месторождени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представ-ленных морскими и речными песками и галечниками, в которых алмазы накапливаются благодаря механическому разрушению первичных вмещающих их п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3022560" cy="2266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003640" y="1197000"/>
            <a:ext cx="3241800" cy="2214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0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3816360" cy="3233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84360" y="558972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арисовки кристаллов алма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148360" y="692280"/>
            <a:ext cx="3378240" cy="2533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92200" y="425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69228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Форма кристалл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гигантские полимерные молекулы, имеющие форму октаэдров, ромбододекаэдров, реже — кубов или тетраэд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3280" y="3645000"/>
            <a:ext cx="39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блюдаются также радиально-лучистые, волокнистые  или тонко-зернистые кристаллические агрега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3116520" cy="2336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867280" y="1557360"/>
            <a:ext cx="2716200" cy="4113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39640" y="443700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ес алмазов оценивается в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каратах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дольной единице массы, применяемой в ювелирном деле. Обозначается «кар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етрический карат  равен  200 мг - 2·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к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47628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Размеры кристаллов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арьируют от микроскопических до очень крупных. Масса самого крупного алмаза «Куллинан», найденного в 1905 в Южной Африке составлял 3106 кар.  (0,621 кг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04:48:22Z</dcterms:created>
  <dc:creator>Марина</dc:creator>
  <dc:description/>
  <dc:language>en-US</dc:language>
  <cp:lastModifiedBy>Серёга</cp:lastModifiedBy>
  <dcterms:modified xsi:type="dcterms:W3CDTF">2010-04-29T18:32:59Z</dcterms:modified>
  <cp:revision>47</cp:revision>
  <dc:subject>Приложение-презентация</dc:subject>
  <dc:title>Алмаз</dc:title>
</cp:coreProperties>
</file>