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5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0.jpeg" ContentType="image/jpeg"/>
  <Override PartName="/ppt/media/image44.png" ContentType="image/png"/>
  <Override PartName="/ppt/media/image42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ABF-B497-4E91-AA34-27BD9127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BC7-7448-4CB3-94E0-958742BB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4AA-EE9D-463E-8215-493A0704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C5E-9CAA-4BF3-9337-9ACA58CD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56E4-91BD-4D97-9B08-CEE64090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2215-9B3D-4F17-8B50-226C1D4D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163C-0F3F-48C1-994E-F1294CBC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EDBF-D7F0-4507-881B-B9933F2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75CF-5331-40AE-9CE5-8FFCCDF0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EBB8-812E-4F3C-95E2-5956139D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CDDC-47C6-4199-AC35-D73DF243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04A-84AB-4C4B-B283-77B1E671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D5BF-B07D-4632-8B36-8EE316B9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E386-FE73-4E7F-8374-33B7FDB9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2BDD-ECA9-46E1-A133-8AC8EFC3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CB83-34C5-41DE-B09F-42ECBB52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7511-3E82-4736-AD4C-7F8D1BB9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BA4-005A-4932-9C11-605B985D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DB8-B392-48DF-99CB-C505F47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595-CDAC-40D0-A7C3-F8255088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C80-E042-44D8-98AA-CF3C2382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1F2-DD96-4CDF-AB58-F1C7C04D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397-D704-4CC4-B0AC-7C3C28C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56D-E00D-4DAB-800A-893CEA33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87360" y="311040"/>
              <a:ext cx="8445600" cy="615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304920"/>
              <a:ext cx="42840" cy="6172200"/>
            </a:xfrm>
            <a:prstGeom prst="rect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80880" y="304920"/>
              <a:ext cx="8458200" cy="42840"/>
            </a:xfrm>
            <a:prstGeom prst="rect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A100-945A-4A03-B91F-74C1DAB93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7360" y="920880"/>
              <a:ext cx="8445600" cy="524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80880" y="914400"/>
              <a:ext cx="8458200" cy="5257800"/>
              <a:chOff x="380880" y="914400"/>
              <a:chExt cx="8458200" cy="5257800"/>
            </a:xfrm>
          </p:grpSpPr>
          <p:sp>
            <p:nvSpPr>
              <p:cNvPr id="50" name=""/>
              <p:cNvSpPr/>
              <p:nvPr/>
            </p:nvSpPr>
            <p:spPr>
              <a:xfrm>
                <a:off x="380880" y="914400"/>
                <a:ext cx="42840" cy="5257800"/>
              </a:xfrm>
              <a:prstGeom prst="rect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880" y="914400"/>
                <a:ext cx="8458200" cy="36360"/>
              </a:xfrm>
              <a:prstGeom prst="rect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6F9D-CA5B-4A71-B2EA-C5EBA171B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vokrugsveta.com/" TargetMode="External"/><Relationship Id="rId2" Type="http://schemas.openxmlformats.org/officeDocument/2006/relationships/hyperlink" Target="http://vokrugsveta.com/" TargetMode="External"/><Relationship Id="rId3" Type="http://schemas.openxmlformats.org/officeDocument/2006/relationships/hyperlink" Target="http://vokrugsveta.com/" TargetMode="External"/><Relationship Id="rId4" Type="http://schemas.openxmlformats.org/officeDocument/2006/relationships/hyperlink" Target="http://dic.academic.ru/dic.nsf/enc_physics/2249/&#1060;&#1048;&#1040;&#1053;&#1048;&#1058;&#1067;" TargetMode="External"/><Relationship Id="rId5" Type="http://schemas.openxmlformats.org/officeDocument/2006/relationships/hyperlink" Target="http://dic.academic.ru/dic.nsf/enc_physics/2249/&#1060;&#1048;&#1040;&#1053;&#1048;&#1058;&#1067;" TargetMode="External"/><Relationship Id="rId6" Type="http://schemas.openxmlformats.org/officeDocument/2006/relationships/hyperlink" Target="http://dic.academic.ru/dic.nsf/enc_physics/2249/&#1060;&#1048;&#1040;&#1053;&#1048;&#1058;&#1067;" TargetMode="External"/><Relationship Id="rId7" Type="http://schemas.openxmlformats.org/officeDocument/2006/relationships/hyperlink" Target="http://dic.academic.ru/dic.nsf/enc_physics/2249/&#1060;&#1048;&#1040;&#1053;&#1048;&#1058;&#1067;" TargetMode="External"/><Relationship Id="rId8" Type="http://schemas.openxmlformats.org/officeDocument/2006/relationships/hyperlink" Target="http://dic.academic.ru/dic.nsf/enc_physics/2249/&#1060;&#1048;&#1040;&#1053;&#1048;&#1058;&#1067;" TargetMode="External"/><Relationship Id="rId9" Type="http://schemas.openxmlformats.org/officeDocument/2006/relationships/hyperlink" Target="http://dic.academic.ru/dic.nsf/enc_physics/2249/&#1060;&#1048;&#1040;&#1053;&#1048;&#1058;&#1067;" TargetMode="External"/><Relationship Id="rId10" Type="http://schemas.openxmlformats.org/officeDocument/2006/relationships/hyperlink" Target="http://dic.academic.ru/dic.nsf/enc_physics/2249/&#1060;&#1048;&#1040;&#1053;&#1048;&#1058;&#1067;" TargetMode="External"/><Relationship Id="rId11" Type="http://schemas.openxmlformats.org/officeDocument/2006/relationships/hyperlink" Target="http://dic.academic.ru/dic.nsf/enc_physics/2249/&#1060;&#1048;&#1040;&#1053;&#1048;&#1058;&#1067;" TargetMode="External"/><Relationship Id="rId12" Type="http://schemas.openxmlformats.org/officeDocument/2006/relationships/hyperlink" Target="http://almazi.net/" TargetMode="External"/><Relationship Id="rId13" Type="http://schemas.openxmlformats.org/officeDocument/2006/relationships/hyperlink" Target="http://almazi.net/" TargetMode="External"/><Relationship Id="rId14" Type="http://schemas.openxmlformats.org/officeDocument/2006/relationships/hyperlink" Target="http://almazi.net/" TargetMode="External"/><Relationship Id="rId15" Type="http://schemas.openxmlformats.org/officeDocument/2006/relationships/hyperlink" Target="http://almazi.net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4360" y="234936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8000">
                    <a:alpha val="99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Алмаз - легенды и действительность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008000">
                  <a:alpha val="99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052640"/>
            <a:ext cx="770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имназия № 8 г. Рыбинска имени Л. М. Марасинов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3716280"/>
            <a:ext cx="396072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боту выполнила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ченица 9 «А»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машних Елиза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учный 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ебедева Ири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042920" y="3645000"/>
            <a:ext cx="2952720" cy="220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Физические свойства алм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06112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Цве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от бесцветного или с едва заметными оттенками (нацветом), до ясно окрашенного розовато-лилового, жёлтого, зелёного, голубого, синего, молочно-белого, серого и чёрного. Ярко окрашенные камни называютс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фантазийными алмазами. Жёлт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анареечн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ли капск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лмаз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ЮАР, жёлтые низкого качества 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лмазы химберл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ёлто-коричневые 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лмазы шампань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ёлто-зелёные из Бразилии 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баия-изумруд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ёмно-бурые до чёрных 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войские алмазы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наличии сероватого нацвета 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идерит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на Руси их называл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бакан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гда как в США стально-серые алмазы получили назва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тиффанит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ни часто фосфоресцируют из-за наличия углеводородных включений. У некоторых алмазов окраска может изменяться от нагрева или характера освещения из-за чего они называютс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хамельонными алма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87640" y="4437000"/>
            <a:ext cx="2736720" cy="182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16000" y="4437000"/>
            <a:ext cx="1351080" cy="174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00720" y="4365720"/>
            <a:ext cx="1798560" cy="179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Примеры цветных алма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00360" y="1989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резденский Зеленый Брилл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71640" y="3573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лтый алмаз Тифф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1513080" cy="1452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43280" y="4869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тер Родс (голуб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Химические свойства алм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89840" cy="41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воздухе алмаз сгорает при 850—1000°С. Особенно эффектно сжигание солнечными лучами с помощью фокусирующих линз. Пользуясь этим способом, X. Дэви установил в 1807 г. идентичность состава алмаза и уг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 + 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С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3500280"/>
            <a:ext cx="4926240" cy="252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Использование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00720" y="2492280"/>
            <a:ext cx="4167000" cy="3125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1844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Драгоценные кам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это минералы с особыми свойствами, используемые для ювелирных целей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1197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Ювелирная обраб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141720"/>
            <a:ext cx="3671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словно они делятся на 4 класса. Алмаз относится к первому классу, наряду с рубином, сапфиром и  изум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Использование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105264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Ювелирная обраб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3333600" cy="2495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9640" y="1628640"/>
            <a:ext cx="799308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долю ювелирных алмазов обычно приходится 20-25% добываемых алмазов. Ювелирные алмазы прозрачны, без трещин и включений. При их огранке выявляются наибольший блеск и игра камня, устраняются природные дефекты, при этом теряется около 50% первоначальной мас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ювелирной обработки алмазов специалисты используют специальный камнерезный и шлифовальный инструмен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4076640"/>
            <a:ext cx="302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Использование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35344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сокий показатель преломления и сильная дисперсия  обуславливают яркий блеск и разноцветную «игру» ограненных ювелирных алмазов, называемых бриллиан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Бриллиан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от франц. brillant, букв. — блестящий), бездефектный ювелирный алмаз, особая искусственная огранка которого максимально выявляет его бле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11280" y="112536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Ювелирная обраб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2837160" cy="2187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427640" y="3716280"/>
            <a:ext cx="4032000" cy="214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92000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Виды огранки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4046400" cy="489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049640" cy="432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92000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Виды огранки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Элементы бриллианта"/>
          <p:cNvPicPr/>
          <p:nvPr/>
        </p:nvPicPr>
        <p:blipFill>
          <a:blip r:embed="rId1"/>
          <a:stretch/>
        </p:blipFill>
        <p:spPr>
          <a:xfrm>
            <a:off x="971640" y="198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1600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н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Элементы бриллианта"/>
          <p:cNvPicPr/>
          <p:nvPr/>
        </p:nvPicPr>
        <p:blipFill>
          <a:blip r:embed="rId2"/>
          <a:stretch/>
        </p:blipFill>
        <p:spPr>
          <a:xfrm>
            <a:off x="900000" y="450864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1600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ум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Элементы бриллианта"/>
          <p:cNvPicPr/>
          <p:nvPr/>
        </p:nvPicPr>
        <p:blipFill>
          <a:blip r:embed="rId3"/>
          <a:stretch/>
        </p:blipFill>
        <p:spPr>
          <a:xfrm>
            <a:off x="2843280" y="2060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91636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ш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Элементы бриллианта"/>
          <p:cNvPicPr/>
          <p:nvPr/>
        </p:nvPicPr>
        <p:blipFill>
          <a:blip r:embed="rId4"/>
          <a:stretch/>
        </p:blipFill>
        <p:spPr>
          <a:xfrm>
            <a:off x="2700360" y="4522680"/>
            <a:ext cx="1942920" cy="1600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8764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Элементы бриллианта"/>
          <p:cNvPicPr/>
          <p:nvPr/>
        </p:nvPicPr>
        <p:blipFill>
          <a:blip r:embed="rId5"/>
          <a:stretch/>
        </p:blipFill>
        <p:spPr>
          <a:xfrm>
            <a:off x="4572000" y="2133720"/>
            <a:ext cx="1657440" cy="1498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71636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рк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Элементы бриллианта"/>
          <p:cNvPicPr/>
          <p:nvPr/>
        </p:nvPicPr>
        <p:blipFill>
          <a:blip r:embed="rId6"/>
          <a:stretch/>
        </p:blipFill>
        <p:spPr>
          <a:xfrm>
            <a:off x="4716360" y="443700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3236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р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Элементы бриллианта"/>
          <p:cNvPicPr/>
          <p:nvPr/>
        </p:nvPicPr>
        <p:blipFill>
          <a:blip r:embed="rId7"/>
          <a:stretch/>
        </p:blipFill>
        <p:spPr>
          <a:xfrm>
            <a:off x="6443640" y="206064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51672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д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6732720" y="4437000"/>
            <a:ext cx="1641240" cy="1641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80400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Использование алма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669456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хнические алмазы использ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лмазных буровых коронках для глубокого бур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пилах, резцах, фильерах для вытягивания проволо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оптической и электронной промышленности как полупроводники, датчики в счетчиках ядерных части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изготовления шлифующих и режущих инструмент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изготовления полировальных порошков и паст шлифующе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1197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Использование в технических цел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Синтетические алм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6800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42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требность в дешевых искусствен-ных алмазах  привела  к созданию первых  искусственных алмазов сначала  в Швеции в 1953 г.,  затем в СССР и США – в 195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ехнология производства искусствен-ных алмазов довольно сложна, поэтому полученные искусственным путем ювелирные алмазы значительно дороже природ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помощью  метода химического  синтеза  для получения абразивных порошков ежегодно производится до 40 т дешевых мелкокристаллических алма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156120" cy="349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435640" y="508464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меняя различные режимы синтеза,  можно получать алмазы разных цв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3860640"/>
            <a:ext cx="78483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маз! Это название известно кажд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маз занимает особое место среди драгоценных камней. Он сочетает в себе исключительную твердость, высокое светопреломление, сильную дисперсию и яркий блеск. Название происходит от греческого слова «адамас» - непреодолимый, непреодолимый – так называли в Древней Греции минерал, который превосходил по своим качествам прочие камни, или от арабского «алмас», что означает «твердейш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4248000" cy="308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Синтетические алм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5640" y="1413000"/>
            <a:ext cx="460872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России находятся два центра производства искусственных алмазов  в Москве и Новосибир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современных лабораториях выращиваются материалы, которых нет в природе, но которые при огранке выглядят как драгоценные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их числу относится имитация бриллианта 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фиани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впервые полученный в России в 1972. в Физическом институте АН СССР (сокращенно - ФИАН, отсюда назва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367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120920" y="1577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5445000"/>
            <a:ext cx="35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аниты – синтетические бриллиа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Алмазный фонд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9128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АЛМАЗНЫЙ ФОНД Российской Федер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 государственное собрание драгоценных камней и ювелирных изделий, имеющих историческую, художественную и материальную ценность, а также уникальных золотых и платиновых самородков. Основан в 192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1967 в Московском Кремле открыта постоянная выставка Алмазного фон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реди семи исторических камней Алмазного фонда есть разные драгоценные камни, но в их ювелирном обрамлении обязательно присут-ствуют  бриллиа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26920" y="5157720"/>
            <a:ext cx="75614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ольшая императорская к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риллианты (4936), рубин, серебро, жемчуг (75). 1762 г. Ювелир И. Поз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сса: 1993,8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5079960" cy="3810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Алмазный фонд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000840" cy="4000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9640" y="404640"/>
            <a:ext cx="77774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кипетр императ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лото, алмаз «Орлов», бриллианты (196), серебро, эмаль. 1770-е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ина: 59,5 см (с навершием). Ювелиры: Л. Пфистерер, И. Леоно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5445000"/>
            <a:ext cx="777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граненный кабошоном бриллиант «Орлов» (199,6 кар.) был  привезен  из Индии и подарен  графом Г. Орловым императрице Екатерине II. Он - один из семи исторических камней Алмазного фон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Держава императорская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олото, серебро, бриллианты (1370), алмазы огранки «роза» (25), сапф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аметр 48 см, высота – 24 см (с крестом). Ювелир Г.- Ф. Э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Картинка 3 из 231"/>
          <p:cNvPicPr/>
          <p:nvPr/>
        </p:nvPicPr>
        <p:blipFill>
          <a:blip r:embed="rId1"/>
          <a:stretch/>
        </p:blipFill>
        <p:spPr>
          <a:xfrm>
            <a:off x="3059280" y="1557360"/>
            <a:ext cx="2990520" cy="3809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5157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дийский алмаз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«Шах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88 кар.)  был подарен императору Николаю I иранским шахом после убийства в Тегеране русского посла и поэта Александра Грибоедова. Один из семи исторических камней Алмазного фон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59280" cy="4265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55640" y="4797360"/>
            <a:ext cx="756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оский портретный алмаз (около 25 кар.) редкой чистоты и величины. Это самый большой портретный камень мира,  один из семи исторических камней Алмазного фонд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4752720" cy="4000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580000" y="981000"/>
            <a:ext cx="3095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рас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маз, золото, изумруды, эмаль. Вторая четверт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4695840" cy="40006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765000"/>
            <a:ext cx="28796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ро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мруд, бриллианты, золото, серебро. Середин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494172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нтре броши – колумбийский изумруд ступенчатой огран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. Вокруг – оправа в виде бриллиантовых виноградных листьев. Изумруд – один из семи исторических камней Алмазного фон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616200" cy="4537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55640" y="5229360"/>
            <a:ext cx="37450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ро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пфир, бриллианты, серебро, золото. Середин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692280"/>
            <a:ext cx="4103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рошь с цейлонским сапфиром старинной индийской огранки - самым большим и красивым в мире - в ажурной оправе из крупных и мелких бразильских бриллиа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апфир – один из семи исторических камней Алмазного фон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4365720"/>
            <a:ext cx="36738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Звезда ордена Св. Андрея Первозв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риллианты, розы, серебро, эмаль. 1795-1800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981000"/>
            <a:ext cx="360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аршальская звезда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лото, платина, бриллианты (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реждена 2 сентября 19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Картинка 2 из 117"/>
          <p:cNvPicPr/>
          <p:nvPr/>
        </p:nvPicPr>
        <p:blipFill>
          <a:blip r:embed="rId1"/>
          <a:stretch/>
        </p:blipFill>
        <p:spPr>
          <a:xfrm>
            <a:off x="5435640" y="2276640"/>
            <a:ext cx="2647800" cy="3809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Картинка 43 из 362"/>
          <p:cNvPicPr/>
          <p:nvPr/>
        </p:nvPicPr>
        <p:blipFill>
          <a:blip r:embed="rId2"/>
          <a:stretch/>
        </p:blipFill>
        <p:spPr>
          <a:xfrm>
            <a:off x="1116000" y="1125360"/>
            <a:ext cx="3168720" cy="312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662472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 работе рассматриваются следующие вопрос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, строение и происхождение алм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изические и химические свойства алм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пользование алмазов в ювелирной промышленности и для технических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нтетические алм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кровища Алмазного фон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5280" y="3789360"/>
            <a:ext cx="1947960" cy="2379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220500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1013760"/>
            <a:ext cx="734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Список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фонькин С. Ю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ералы и драгоценные камни. - СПб.: «БКК»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Буканов В.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Цветные камни. Энциклопедия. С-Пб., Гранит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рнилов И. Н., Солодова Ю. 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Ювелирные камни.- М.: «Недра»,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ерсман А. 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черки по истории камня. М., 19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3"/>
              </a:rPr>
              <a:t>vokrugsveta.c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атья Царь кам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6"/>
              </a:rPr>
              <a:t>dic.academic.ru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8"/>
              </a:rPr>
              <a:t>dic.nsf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0"/>
              </a:rPr>
              <a:t>enc_physics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1"/>
              </a:rPr>
              <a:t>/2249/ФИАН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2"/>
              </a:rPr>
              <a:t>http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3"/>
              </a:rPr>
              <a:t>://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4"/>
              </a:rPr>
              <a:t>almazi.net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Состав алм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44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маз состоит из чистого углерода, но обычно содержит небольшие примеси различных химических элементов, входящих в кристаллическую структуру или в состав включений других минералов. Для бесцветных прозрачных разновидностей характерна структурная примесь азота (0,3%), хотя встречаются и “безазотные” алмазы. В непрозрачных и окрашенных разновидностях содержание примесей (оксиды алюминия, кремния, магния, кальция, железа, титана и др.) достигает 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а 25 из 1640"/>
          <p:cNvPicPr/>
          <p:nvPr/>
        </p:nvPicPr>
        <p:blipFill>
          <a:blip r:embed="rId1"/>
          <a:stretch/>
        </p:blipFill>
        <p:spPr>
          <a:xfrm>
            <a:off x="5148360" y="3429000"/>
            <a:ext cx="2808360" cy="2792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58 из 1185"/>
          <p:cNvPicPr/>
          <p:nvPr/>
        </p:nvPicPr>
        <p:blipFill>
          <a:blip r:embed="rId2"/>
          <a:stretch/>
        </p:blipFill>
        <p:spPr>
          <a:xfrm>
            <a:off x="1547640" y="3645000"/>
            <a:ext cx="2449800" cy="244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Строение алм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сталл алмаза состоит из атомов углерода. Атом углерода С, который содержит два неспаренных р-электрона, превращается в атом углерода С*, где все четыре электрона внешнего валентного уровня расположены на орбиталях поодиночке и способны образовывать химические связи. Химики называют такой атом "возбужденным". В этом случае химических связей оказывается целых четыре, и все очень прочные. Недаром алмаз - самое твердое вещество в прир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80000" y="4292640"/>
            <a:ext cx="2103480" cy="1820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2376360" cy="1884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Происхождение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47527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лмазы образуются при кристаллиза-ции магматического расплава на глубинах 150-200 км при очень высоком дав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мещающими алмазы породами являются кимберлиты, которые состоят в основном из оливина, пиропа, ильменита и других минер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результате взрывных процессов кимберлит выносится к поверхности и образует т.н. «трубки взрыв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кие трубки образуют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первичные месторождения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лмаз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35640" y="1197000"/>
            <a:ext cx="2876400" cy="2030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76720" y="335772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нимок кимберлита под поляризационным микроскопом (увеличено в 40 раз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24360" y="4365720"/>
            <a:ext cx="2592720" cy="1944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68360" y="580536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58770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имберлитовая по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Происхождение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393372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оме того, алмазы добываются из значительно более широко распрост-раненных и обычно более богатых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россыпных месторожде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представ-ленных морскими и речными песками и галечниками, в которых алмазы накапливаются благодаря механическому разрушению первичных вмещающих их п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241800" cy="221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816360" cy="3233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4360" y="558972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рисовки кристаллов алм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378240" cy="2533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2200" y="42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692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Форма кристалл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гигантские полимерные молекулы, имеющие форму октаэдров, ромбододекаэдров, реже — кубов или тетраэд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3280" y="364500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блюдаются также радиально-лучистые, волокнистые  или тонко-зернистые кристаллические агрег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3116520" cy="2336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716200" cy="411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9640" y="4437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ес алмазов оценивается в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карата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дольной единице массы, применяемой в ювелирном деле. Обозначается «ка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трический карат  равен  200 мг - 2·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476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Размеры кристаллов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арьируют от микроскопических до очень крупных. Масса самого крупного алмаза «Куллинан», найденного в 1905 в Южной Африке составлял 3106 кар.  (0,621 к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48:22Z</dcterms:created>
  <dc:creator>Марина</dc:creator>
  <dc:description/>
  <dc:language>en-US</dc:language>
  <cp:lastModifiedBy>Серёга</cp:lastModifiedBy>
  <dcterms:modified xsi:type="dcterms:W3CDTF">2010-04-29T18:32:59Z</dcterms:modified>
  <cp:revision>47</cp:revision>
  <dc:subject>Приложение-презентация</dc:subject>
  <dc:title>Алмаз</dc:title>
</cp:coreProperties>
</file>