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193-051C-4521-99F5-96BD68DB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F66-0286-43FC-B12E-06D1E462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8FF-87D3-405C-AC84-0CD456C5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F7A-9B91-4C58-B12A-B8682041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9E1-A59D-4CC0-B5E5-77AA8DB9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7A9-6A3B-409B-AD84-9FE33AD4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B50-B3D3-445E-9579-6670203C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274-27F7-4196-94CC-3B318B2D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70D-A8DD-4BFC-8113-D2800E35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3A7-ACFB-4461-ACC1-38B7C0FE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FC3-099F-4A5E-967D-589E21AB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66A-F6B8-4914-BB5D-B792DB03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0A60-342E-4DA2-99B3-89CE39AEA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Курочка Ряб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4969080" cy="3652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Художник Сергий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98560" y="333360"/>
            <a:ext cx="7345440" cy="541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00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Жили-были дед да баба. И была у них курочка Ря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17080" y="7029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13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5559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609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несла курочка яичко, не простое, а золот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1708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155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609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722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д бил-бил – не разб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ба била-била – не разб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7200720" cy="5308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8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56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87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ышка бежала, хвостиком махну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яичко упало и разби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73800" cy="536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459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94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640480"/>
            <a:ext cx="914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ед плачет, баба плачет, а курочка кудахч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- Не плачь, дед, не плачь, баба, снесу вам яичко другое – не золотое, а просто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549" b="0"/>
          <a:stretch/>
        </p:blipFill>
        <p:spPr>
          <a:xfrm>
            <a:off x="1116000" y="333360"/>
            <a:ext cx="7018200" cy="5202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956720" y="7174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95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08000" y="3357720"/>
            <a:ext cx="5410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ОНЕЦ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4516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719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1:10Z</dcterms:created>
  <dc:creator>Interbaby </dc:creator>
  <dc:description/>
  <dc:language>en-US</dc:language>
  <cp:lastModifiedBy>Interbaby </cp:lastModifiedBy>
  <dcterms:modified xsi:type="dcterms:W3CDTF">2006-09-18T10:26:49Z</dcterms:modified>
  <cp:revision>11</cp:revision>
  <dc:subject/>
  <dc:title>Курочка Ряба</dc:title>
</cp:coreProperties>
</file>