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7462-6B01-469C-88E2-BAC512D27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D42E-4E32-42D2-A9C8-A91666888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9C38-0CAF-47F5-87B9-FAB93440F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C897-9BC2-4AF0-A49B-373326FDD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B4B6-4440-4E12-B5DF-F64AF718D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8893-2D75-4EC8-81AF-AAFE82AE3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CB6D-8DAD-4470-A266-2A0DFAC9B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7ABB-4932-4B3B-8EFD-D18358DA4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6674-4B68-4436-9F20-CCB0D637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8EE4-E590-4C54-AE58-12409664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9352-89DF-4DE7-8CB4-0A48FD96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AAF9-7FDF-48BC-935F-6F8152DF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A075F-8C56-4395-88D4-7E92C49A3E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72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Курочка Ряб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050920" y="692280"/>
            <a:ext cx="4969080" cy="36525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02800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6491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Художник Сергий Е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74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98560" y="333360"/>
            <a:ext cx="7345440" cy="5415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6005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Жили-были дед да баба. И была у них курочка Ряб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17080" y="7029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613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561440" cy="5559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609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Снесла курочка яичко, не простое, а золот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317080" y="7101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5155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258920" y="6093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57229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Дед бил-бил – не разби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Баба била-била – не разби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71640" y="260280"/>
            <a:ext cx="7200720" cy="5308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800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567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58770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Мышка бежала, хвостиком махнул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яичко упало и разбило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71640" y="404640"/>
            <a:ext cx="7273800" cy="5362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845964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7944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5640480"/>
            <a:ext cx="91440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Дед плачет, баба плачет, а курочка кудахче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- Не плачь, дед, не плачь, баба, снесу вам яичко другое – не золотое, а просто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549" b="0"/>
          <a:stretch/>
        </p:blipFill>
        <p:spPr>
          <a:xfrm>
            <a:off x="1116000" y="333360"/>
            <a:ext cx="7018200" cy="5202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956720" y="7174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3956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449600" y="32439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908000" y="3357720"/>
            <a:ext cx="5410440" cy="1066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КОНЕЦ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45164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719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3T18:21:10Z</dcterms:created>
  <dc:creator>Interbaby </dc:creator>
  <dc:description/>
  <dc:language>en-US</dc:language>
  <cp:lastModifiedBy>Interbaby </cp:lastModifiedBy>
  <dcterms:modified xsi:type="dcterms:W3CDTF">2006-09-18T10:26:49Z</dcterms:modified>
  <cp:revision>11</cp:revision>
  <dc:subject/>
  <dc:title>Курочка Ряба</dc:title>
</cp:coreProperties>
</file>