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3D13-22EF-4F57-8B32-8D8B7572B7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4FFF-4129-42C9-A5AD-92F1A83E9D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4D8E-478D-4ADE-B717-4F1189B7DD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D4BA-E71E-4C10-AFE2-FA0BEC58F5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6FDA-FCE9-467B-99AD-C136E1446D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579C-A806-4827-87D6-2E5AF7AEC9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DF9D-F614-4BEB-82E1-CA2E4E18A5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0E94-8840-49BF-B74B-707C960B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715E-3214-451B-87BA-A25916F8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1C2BF-22A2-455F-978B-82F8AA41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6EA22-B79E-4AF0-8411-7DD6F613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E529D-FF43-47DE-8B6D-00368DFF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E44B9-6390-4B7F-B84D-ADB128C1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7C804-4BC6-424A-A51C-D3A41DDA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61B3E-D279-4FED-99C6-2F4A6637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0B645-4DDB-4F97-9790-780025B7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C32A1-7B37-4967-9070-865D4C05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CA02E-C740-4938-BC98-33FAE0E8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C22702-3DD9-4D51-90FC-45E0F521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547D-AA73-4CC7-986B-E52C603E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BFF0EB-B607-4739-A1A5-B26A6FC3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27A1E5-E395-4434-A144-9653B3CF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E59D0D-14BC-4C2F-B44E-60E6BFE7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104AC7-7DDA-4DC3-BC3E-62DF4A0E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26B4EE-D7A4-4D30-8A91-0B4C1E9F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C9F34C-85CC-4A8B-AE90-FB36F9DE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8EC32F-7FE2-494D-804A-9EA4BD35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4BDF20-EF76-4099-BD02-ECE85DF8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36F217-FF5E-44A9-83D1-B6CB9745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070FBB-AE51-4C82-89A1-0CABC26E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E66E-6FD1-42F7-A88A-6ED9D7DA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659B18-A909-4920-BE86-74FEEBA5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7EB7C-41DB-4EA5-A2F2-7BF4E969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C7CC2-2336-4B7C-A52E-2ACC4E04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AC192-CD0C-4D2A-905E-141E4F56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4F80B-BD74-4002-85CE-ADCF4109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F890D-FF6D-47CA-83D2-445673A8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73ECD-C79A-4889-AAD6-3B9627AE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BFCD9-0772-46E9-97C6-5E40E360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B8180-0155-49EB-AD0A-FCA17100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9B835-3AA9-42A3-B037-76651907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5BF3-83F0-422D-9445-5A4C7407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43EC8-B40D-418C-AC15-E245D0E7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8D207-219D-4983-BDF2-6CDADEAD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EC828-8E33-4EE3-98B1-C2E5AFF7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1FD7B-5438-4065-89DC-36C15AC7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CA01A-8CE2-4E2A-8A29-50A48DB5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91141-A5FD-4BDC-AD10-FB886AD1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FDB6E-B1F3-4C68-8D50-28042B70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FA772-C2CF-41DC-B832-0104E0A6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0200E-6245-4C83-ACD3-7419E4FD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FCF8B-D4FA-44EC-9064-FE846DEA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CFB7-385E-4CD5-8181-7A74032C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02FEC-84EB-4D43-8053-B59766B1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732C9-E7FC-4DCA-B1A9-B7D9EAFD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42738-C29F-4B39-B0E0-E6D3D31F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2BB76-88B9-422A-81C7-7317EB8D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E1330-96D0-4090-A743-46413E48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77BB-A7D0-4995-B0BF-9DC46A22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BDCD-2D7B-4429-9558-310E2485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2443-792F-49C0-99BE-56AC25C0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33C7-7CC1-432C-A0C1-059F5D9B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43E9-3B6B-48AF-A99D-FB14ED10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7DF3-C174-4072-8F87-9858C0D9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23E5-6AFB-4B06-AB03-83E09E7A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EDE4-2231-4209-A845-6FC7DA1A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F957-2AD3-47CD-93E7-93424B9D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DFB2-4CD2-4D14-B4D9-5E48B90B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02F8-E948-45A6-B837-79151DB0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B3E04-9D11-4F84-B1DA-5E6D8681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65485-0832-439D-829E-E5DA7C35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DAA97-0678-48B2-8BBC-D0ED24C6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B77E0-9139-4CD1-8DFA-D8B82CEE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6A58B-26B2-4A9E-AFD7-3EBDEE96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79EB-D689-4620-A819-ABB53E68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ABC29-E1A1-4B9C-A3DC-12F01DD5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DB684-4511-4AF2-B713-D5FE3273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6F4B9-AE5A-4899-93E2-2C6C5B06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937BB-36B1-4FCF-BB2E-15F598E7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102AA-7D11-4B4D-A3C5-747C110A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4F5C6-9E3A-44BF-8265-2270F765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6534A-758B-424F-89BA-97EA219D3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D4630F-9B69-46B0-85B2-D66AAC04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2B5820-DC59-4001-97EF-3F990052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596613-53AF-461D-B214-CF176EE2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53E2-3829-43AE-8477-562352DC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DE81BC-B921-4E1C-91C3-FD65905A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4A8B6F-EA19-413D-BEE9-963E1A3A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FC7703-D799-4B3C-BBDD-7A41C19A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F442BE-2C1E-4EE0-A544-640335E3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2281A8-DD4B-49B5-B361-1F79CAAB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005521-F733-4A64-A0D6-470ABC87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BCF281-5C2A-4D3A-909B-CECE4015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A10E6F-E0BD-4C0E-A94C-CC704E64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912D03-75BD-444C-ADBE-5E897398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4DDC26-8A2D-43D0-B191-A795082B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CBEA-9199-4238-98C2-E8554017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E79DC9-48E8-4F3E-9DA5-57BB717D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0E1E26-0943-404D-933E-BDECE8CE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0A09D3-A5EC-4FD1-A32A-B5210F1C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083120-0D76-440B-A5C7-2B1CEA4E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6CA1A5-8B8A-483E-A5E1-16B52BD9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813546-A3E7-457A-BEA5-B85F8AFB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FB4F0C-828E-4816-B4F6-C5768944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93B120-8D36-417F-A90B-72F8EE7A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EDE2E9-DE20-436F-98E3-0FEAB6F1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E95DBF-252F-4F43-B3F6-030022AC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B997-5BFB-4340-BA8A-82B923D7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5AF1B5-84AF-42F3-9FE3-6AB2A3E1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0AC1B5-D772-405E-A5CA-E7471EBC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B403E4-447F-4D5E-99DB-37EA0CF1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70B481-CE77-431B-860B-7B23CB0D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41CC37-BBC4-4A2E-8514-0A5C46D5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8252DD-BB93-4454-9C74-82DD802F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7D2CAD-6F40-49BA-AE47-63ADF93C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6111BA-FC91-4725-99CD-9384500F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42F8C1-E5B3-4BF3-8743-0A920706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C1F64E-831B-4A46-99DB-0E0D44D7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103B-BB8C-4272-B411-97C7AEE9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BD988D-0AE1-45A8-A7C5-D598BBC3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10E0E8-38D0-45D7-888E-34ABBD65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9B1599-2465-4591-8908-63884FDB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65F76-795F-4A7C-ABF7-2340765E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F9A2F-87D7-47DF-90A7-A3DAAFF6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3C67D-B516-4502-A3BB-FDAF638A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0649C-8B20-4AAC-B119-5B07C9EB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66970-0893-4A29-B152-5D792638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18032-AB71-43C8-86E2-3BB46595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D5F20-B1C7-452B-BDE1-B5A0000D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81E-3E62-4AB7-A199-7C49AA5B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1D3EE-8BDE-49F8-ABFB-0AF30A0F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AC317-6293-4997-BEB0-BB898308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6997C-CA9A-4635-9679-E83250FB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67445-7888-4901-A93B-E7C3E85B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D86EE-1E9A-4B32-96F1-AB79317F8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B5F19-73A0-4B35-99C6-A089C1A0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0D4D2-6A3D-4B0D-A555-9E68B2E9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576B7-CC63-47F5-B0CB-8B8D2857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F2468-EE39-45FC-BE8B-04FE64E2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DF53D-7BAF-40AC-AA36-C46E68E4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93BB-84D8-459D-88DA-D21B74A8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72F8D-6E9B-4736-B2AB-E5BA6C2F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C70CD-A10C-46D2-846B-0D597F8E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C3377-D192-467B-9CEF-057CA8E7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0D759-9C04-482B-BC5A-EDCC753C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F456F-32D5-40AF-ABB6-CC7F967A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C25D8-FB79-490D-8536-8F68128D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14980-FE2B-471B-9D0D-575454E9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77D63-A169-4145-96B7-CE2D2848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86B05-4077-49D1-9D46-CBEF43C1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A6302-F2FE-433C-B193-5130E7B1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E757-9B8E-4FF0-87E8-D8C35A6DB0B2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0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86DA359B-69E2-4C92-9D78-4B4DFDEC6CD3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20:1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4E08-B316-4C8B-BCE5-2EB356E756B1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3B84-E15D-4D47-99BA-FAC332987549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0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63667701-5B93-4DB8-BC75-7F05F98640F5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20:1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2F73-2E90-490F-91A4-1B7859AF6B24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5404-F176-4DAF-89A6-387941D9E880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0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EF9F1817-A5F9-43AF-8065-D9E5DC43BC9A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20:1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E84B-14C3-4DED-A6C7-D500565D4A45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444F-43CE-431E-9BCA-19CCC6CBA0CA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0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14EC0CA3-BC02-4FF3-BC23-4F579A2D7C40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20:1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10D9-E96C-4554-B6FC-9C0B87C255EE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7367-438D-4875-8AB2-33A74284ECEE}" type="datetime">
              <a:rPr b="0" lang="ru-RU" sz="2000" spc="-1" strike="noStrike">
                <a:solidFill>
                  <a:srgbClr val="ffffff"/>
                </a:solidFill>
                <a:latin typeface="Calibri"/>
              </a:rPr>
              <a:t>30.07.26</a:t>
            </a:fld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fld id="{751278BD-6FC1-4CE2-8668-0909AEAA8D8E}" type="datetime10">
              <a:rPr b="0" lang="ru-RU" sz="2000" spc="-1" strike="noStrike">
                <a:solidFill>
                  <a:srgbClr val="ffffff"/>
                </a:solidFill>
                <a:latin typeface="Calibri"/>
              </a:rPr>
              <a:t>20:19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F608-C61B-4C2B-B3D8-7D4DC1F17B58}" type="slidenum">
              <a:rPr b="1" lang="ru-RU" sz="14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0F7D-31E0-4B41-BB1C-691E58949B4B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0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E707B702-18AE-49B3-848A-9A94CD20A6C8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20:1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A3D8-E271-4E6A-975C-4A84563DADF6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ABFD-D609-4109-B5FA-BFB54409C603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0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2A2C31B4-A059-4506-B1A6-CFA6B3D4E111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20:1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85BC-273B-4CE2-B182-67B64D3DFBA7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9DCC-9C56-478C-875F-BCBB2393D80A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0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BC13A8AB-748C-4034-8183-496ED14BF2FE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20:1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5BE3-BD68-4E95-BA3D-5EA70B74975E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1325-91A2-43D2-9DF5-CF8AC76EBAA6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0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069F5587-190B-41F7-87B1-09518CB45AFF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20:1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D675-67DB-4BA9-AB8A-6DB47C61A721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6945-6809-4E7C-BF9A-731446C84105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0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A2034617-FB95-4C8B-95CC-15436079E064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20:1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95DC-7EB0-40E5-91F4-5A84A46A7C58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4234-4F7A-47AB-BBE6-50EA388C7AF8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0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CBFB4921-9C53-4CA1-8618-876BB6E8C10B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20:1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E6FC-0B05-4B91-90DA-0C3C503D6319}" type="slidenum">
              <a:rPr b="1" lang="ru-RU" sz="14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7" descr="sm_pencil.png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2144880"/>
          </a:xfrm>
          <a:prstGeom prst="rect">
            <a:avLst/>
          </a:prstGeom>
          <a:ln cap="sq" w="50760">
            <a:solidFill>
              <a:srgbClr val="feb80a"/>
            </a:solidFill>
            <a:miter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2382-4254-4801-AB3B-6E39A30BB914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0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ACD780EB-2E60-4DBC-AC14-27F703CB91C3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20:1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1D68-D5ED-4733-AEDC-2130F84A335A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42960" y="4343400"/>
            <a:ext cx="812016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a6d7d"/>
                </a:solidFill>
                <a:latin typeface="Times New Roman"/>
                <a:ea typeface="Times New Roman"/>
              </a:rPr>
              <a:t>МЕТОДЫ РЕШЕНИЯ СИСТЕМЫ ТРЁХ ЛИНЕЙНЫХ УРАВНЕНИЙ С ТРЕМЯ НЕИЗВЕСТНЫМИ</a:t>
            </a:r>
            <a:endParaRPr b="0" lang="en-US" sz="4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подаватель ГБОУ СПО «ВТЭТ»  Назаренко Анжела Францевн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циплина «Математика» (2 курс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2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Решите систему методом Гаусса: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прямой ход метода Гаусса закончен, начинаем обратный хо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следнего уравнения полученной системы уравнений находим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второго уравнения получаем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ервого уравнения находим оставшуюся неизвестную переменную и этим завершаем обратный ход метода Гаусса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2"/>
              <p:cNvSpPr txBox="1"/>
              <p:nvPr/>
            </p:nvSpPr>
            <p:spPr>
              <a:xfrm>
                <a:off x="6143760" y="142920"/>
                <a:ext cx="18572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Object 3"/>
              <p:cNvSpPr txBox="1"/>
              <p:nvPr/>
            </p:nvSpPr>
            <p:spPr>
              <a:xfrm>
                <a:off x="1411200" y="2357280"/>
                <a:ext cx="14652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r>
                          <m:t xml:space="preserve">8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Object 5"/>
              <p:cNvSpPr txBox="1"/>
              <p:nvPr/>
            </p:nvSpPr>
            <p:spPr>
              <a:xfrm>
                <a:off x="3929040" y="3429000"/>
                <a:ext cx="29289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Object 7"/>
              <p:cNvSpPr txBox="1"/>
              <p:nvPr/>
            </p:nvSpPr>
            <p:spPr>
              <a:xfrm>
                <a:off x="3564000" y="4714920"/>
                <a:ext cx="33732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Object 10"/>
              <p:cNvSpPr txBox="1"/>
              <p:nvPr/>
            </p:nvSpPr>
            <p:spPr>
              <a:xfrm>
                <a:off x="1539720" y="5500800"/>
                <a:ext cx="24228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Object 7"/>
              <p:cNvSpPr txBox="1"/>
              <p:nvPr/>
            </p:nvSpPr>
            <p:spPr>
              <a:xfrm>
                <a:off x="6143760" y="142920"/>
                <a:ext cx="18572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10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6" dur="10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9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" dur="1000"/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2" dur="1000"/>
                                        <p:tgtEl>
                                          <p:spTgt spid="6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0" dur="1000"/>
                                        <p:tgtEl>
                                          <p:spTgt spid="6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3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Матричный метод</a:t>
            </a:r>
            <a:br>
              <a:rPr sz="4400"/>
            </a:br>
            <a:r>
              <a:rPr b="1" lang="ru-RU" sz="4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(с помощью обратной матрицы)</a:t>
            </a:r>
            <a:br>
              <a:rPr sz="4400"/>
            </a:b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2362320" y="1752120"/>
            <a:ext cx="64008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систему трёх линейных уравнений с тремя неизвестным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тричной форме записи эта система уравнений имеет вид                , гд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5520" indent="-24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           . Тогда существует обратная матрица       . Если умножить обе части равенства        на    слева, то получим формулу для нахождения матрицы-столбца неизвестных переменных, т.е.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5520" indent="-24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5520" indent="-24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мы получили решение системы трёх линейных уравнений с тремя неизвестными матричным методо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Object 1"/>
              <p:cNvSpPr txBox="1"/>
              <p:nvPr/>
            </p:nvSpPr>
            <p:spPr>
              <a:xfrm>
                <a:off x="3429000" y="2143080"/>
                <a:ext cx="23572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1" name="Object 3"/>
              <p:cNvSpPr txBox="1"/>
              <p:nvPr/>
            </p:nvSpPr>
            <p:spPr>
              <a:xfrm>
                <a:off x="7786800" y="3429000"/>
                <a:ext cx="78588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Object 5"/>
              <p:cNvSpPr txBox="1"/>
              <p:nvPr/>
            </p:nvSpPr>
            <p:spPr>
              <a:xfrm>
                <a:off x="2835360" y="3857760"/>
                <a:ext cx="490356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6"/>
              <p:cNvSpPr txBox="1"/>
              <p:nvPr/>
            </p:nvSpPr>
            <p:spPr>
              <a:xfrm>
                <a:off x="3000240" y="5000760"/>
                <a:ext cx="64296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8"/>
              <p:cNvSpPr txBox="1"/>
              <p:nvPr/>
            </p:nvSpPr>
            <p:spPr>
              <a:xfrm>
                <a:off x="6858000" y="5000760"/>
                <a:ext cx="30960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5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Object 10"/>
              <p:cNvSpPr txBox="1"/>
              <p:nvPr/>
            </p:nvSpPr>
            <p:spPr>
              <a:xfrm>
                <a:off x="4286160" y="5286240"/>
                <a:ext cx="71460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Object 12"/>
              <p:cNvSpPr txBox="1"/>
              <p:nvPr/>
            </p:nvSpPr>
            <p:spPr>
              <a:xfrm>
                <a:off x="5357880" y="5214960"/>
                <a:ext cx="30960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6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Object 14"/>
              <p:cNvSpPr txBox="1"/>
              <p:nvPr/>
            </p:nvSpPr>
            <p:spPr>
              <a:xfrm>
                <a:off x="7715160" y="5500800"/>
                <a:ext cx="119088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16"/>
              <p:cNvSpPr txBox="1"/>
              <p:nvPr/>
            </p:nvSpPr>
            <p:spPr>
              <a:xfrm>
                <a:off x="2857680" y="5786280"/>
                <a:ext cx="85716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0" dur="10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3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" dur="1000"/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1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6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1" dur="1000"/>
                                        <p:tgtEl>
                                          <p:spTgt spid="6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" dur="1000"/>
                                        <p:tgtEl>
                                          <p:spTgt spid="6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7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0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3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6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9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2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7" dur="1000"/>
                                        <p:tgtEl>
                                          <p:spTgt spid="6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Решите систему матричным методом:</a:t>
            </a:r>
            <a:br>
              <a:rPr sz="2800"/>
            </a:b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ишем систему уравнений в матричной форм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систему трёх линейных уравнений с тремя неизвестными можно решить матричным методом. С помощью обратной матрицы решение этой системы может быть найдено как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2"/>
              <p:cNvSpPr txBox="1"/>
              <p:nvPr/>
            </p:nvSpPr>
            <p:spPr>
              <a:xfrm>
                <a:off x="6929280" y="142920"/>
                <a:ext cx="15717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4"/>
              <p:cNvSpPr txBox="1"/>
              <p:nvPr/>
            </p:nvSpPr>
            <p:spPr>
              <a:xfrm>
                <a:off x="1285920" y="2500200"/>
                <a:ext cx="121428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2" name="Прямоугольник 8"/>
          <p:cNvSpPr/>
          <p:nvPr/>
        </p:nvSpPr>
        <p:spPr>
          <a:xfrm>
            <a:off x="2643120" y="24289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6"/>
              <p:cNvSpPr txBox="1"/>
              <p:nvPr/>
            </p:nvSpPr>
            <p:spPr>
              <a:xfrm>
                <a:off x="3203640" y="2286000"/>
                <a:ext cx="25938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Object 10"/>
              <p:cNvSpPr txBox="1"/>
              <p:nvPr/>
            </p:nvSpPr>
            <p:spPr>
              <a:xfrm>
                <a:off x="1577880" y="3571920"/>
                <a:ext cx="57009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Object 11"/>
              <p:cNvSpPr txBox="1"/>
              <p:nvPr/>
            </p:nvSpPr>
            <p:spPr>
              <a:xfrm>
                <a:off x="1357200" y="5429160"/>
                <a:ext cx="12146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0" name="Прямоугольник 15"/>
          <p:cNvSpPr/>
          <p:nvPr/>
        </p:nvSpPr>
        <p:spPr>
          <a:xfrm>
            <a:off x="2714760" y="55008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Object 13"/>
              <p:cNvSpPr txBox="1"/>
              <p:nvPr/>
            </p:nvSpPr>
            <p:spPr>
              <a:xfrm>
                <a:off x="3178080" y="5214960"/>
                <a:ext cx="2430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10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" dur="100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5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9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4" dur="1000"/>
                                        <p:tgtEl>
                                          <p:spTgt spid="6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7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2" dur="1000"/>
                                        <p:tgtEl>
                                          <p:spTgt spid="6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7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1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4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Решите систему матричным методом:</a:t>
            </a:r>
            <a:br>
              <a:rPr sz="2800"/>
            </a:b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612720" y="1600200"/>
            <a:ext cx="81532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м обратную матрицу          с помощью матрицы из алгебраических дополнений элементов матрицы         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Object 1"/>
              <p:cNvSpPr txBox="1"/>
              <p:nvPr/>
            </p:nvSpPr>
            <p:spPr>
              <a:xfrm>
                <a:off x="3500280" y="1571760"/>
                <a:ext cx="4287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Object 3"/>
              <p:cNvSpPr txBox="1"/>
              <p:nvPr/>
            </p:nvSpPr>
            <p:spPr>
              <a:xfrm>
                <a:off x="2643120" y="1857240"/>
                <a:ext cx="35712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0" name="Object 5"/>
              <p:cNvSpPr txBox="1"/>
              <p:nvPr/>
            </p:nvSpPr>
            <p:spPr>
              <a:xfrm>
                <a:off x="160200" y="2143080"/>
                <a:ext cx="8896320" cy="21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Object 7"/>
              <p:cNvSpPr txBox="1"/>
              <p:nvPr/>
            </p:nvSpPr>
            <p:spPr>
              <a:xfrm>
                <a:off x="6929280" y="142920"/>
                <a:ext cx="1857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Object 8"/>
              <p:cNvSpPr txBox="1"/>
              <p:nvPr/>
            </p:nvSpPr>
            <p:spPr>
              <a:xfrm>
                <a:off x="1143000" y="4429080"/>
                <a:ext cx="18572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10"/>
              <p:cNvSpPr txBox="1"/>
              <p:nvPr/>
            </p:nvSpPr>
            <p:spPr>
              <a:xfrm>
                <a:off x="3071880" y="4429080"/>
                <a:ext cx="18572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Object 12"/>
              <p:cNvSpPr txBox="1"/>
              <p:nvPr/>
            </p:nvSpPr>
            <p:spPr>
              <a:xfrm>
                <a:off x="5000760" y="4429080"/>
                <a:ext cx="17859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Object 14"/>
              <p:cNvSpPr txBox="1"/>
              <p:nvPr/>
            </p:nvSpPr>
            <p:spPr>
              <a:xfrm>
                <a:off x="1143000" y="5072040"/>
                <a:ext cx="17859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Object 16"/>
              <p:cNvSpPr txBox="1"/>
              <p:nvPr/>
            </p:nvSpPr>
            <p:spPr>
              <a:xfrm>
                <a:off x="3143160" y="5072040"/>
                <a:ext cx="17146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3" name="Object 18"/>
              <p:cNvSpPr txBox="1"/>
              <p:nvPr/>
            </p:nvSpPr>
            <p:spPr>
              <a:xfrm>
                <a:off x="5072040" y="5072040"/>
                <a:ext cx="18572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4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20"/>
              <p:cNvSpPr txBox="1"/>
              <p:nvPr/>
            </p:nvSpPr>
            <p:spPr>
              <a:xfrm>
                <a:off x="1143000" y="5786280"/>
                <a:ext cx="17859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6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Object 22"/>
              <p:cNvSpPr txBox="1"/>
              <p:nvPr/>
            </p:nvSpPr>
            <p:spPr>
              <a:xfrm>
                <a:off x="3143160" y="5786280"/>
                <a:ext cx="19288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8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Object 26"/>
              <p:cNvSpPr txBox="1"/>
              <p:nvPr/>
            </p:nvSpPr>
            <p:spPr>
              <a:xfrm>
                <a:off x="5143680" y="5786280"/>
                <a:ext cx="20001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Object 15"/>
              <p:cNvSpPr txBox="1"/>
              <p:nvPr/>
            </p:nvSpPr>
            <p:spPr>
              <a:xfrm>
                <a:off x="6929280" y="142920"/>
                <a:ext cx="1857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1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7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2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" dur="1000"/>
                                        <p:tgtEl>
                                          <p:spTgt spid="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0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4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8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000"/>
                            </p:stCondLst>
                            <p:childTnLst>
                              <p:par>
                                <p:cTn id="4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2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4000"/>
                            </p:stCondLst>
                            <p:childTnLst>
                              <p:par>
                                <p:cTn id="4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6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0"/>
                            </p:stCondLst>
                            <p:childTnLst>
                              <p:par>
                                <p:cTn id="4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0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6000"/>
                            </p:stCondLst>
                            <p:childTnLst>
                              <p:par>
                                <p:cTn id="5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7000"/>
                            </p:stCondLst>
                            <p:childTnLst>
                              <p:par>
                                <p:cTn id="5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8000"/>
                            </p:stCondLst>
                            <p:childTnLst>
                              <p:par>
                                <p:cTn id="5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Решите систему матричным методом: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612720" y="1600200"/>
            <a:ext cx="81532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ось вычислить матрицу неизвестных переменных, умножив обратную матрицу на матрицу-столбец свободных членов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                                          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Object 1"/>
              <p:cNvSpPr txBox="1"/>
              <p:nvPr/>
            </p:nvSpPr>
            <p:spPr>
              <a:xfrm>
                <a:off x="866880" y="2357280"/>
                <a:ext cx="7840440" cy="250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6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den>
                            </m:f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den>
                            </m:f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Object 7"/>
              <p:cNvSpPr txBox="1"/>
              <p:nvPr/>
            </p:nvSpPr>
            <p:spPr>
              <a:xfrm>
                <a:off x="6929280" y="142920"/>
                <a:ext cx="1857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Object 4"/>
              <p:cNvSpPr txBox="1"/>
              <p:nvPr/>
            </p:nvSpPr>
            <p:spPr>
              <a:xfrm>
                <a:off x="3462480" y="4857840"/>
                <a:ext cx="229068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Object 6"/>
              <p:cNvSpPr txBox="1"/>
              <p:nvPr/>
            </p:nvSpPr>
            <p:spPr>
              <a:xfrm>
                <a:off x="1785960" y="6143760"/>
                <a:ext cx="22147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9" dur="10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4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9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1000"/>
                                        <p:tgtEl>
                                          <p:spTgt spid="7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Для решения систем трёх линейных уравнений с тремя неизвестными Вы можете воспользоваться сайтом </a:t>
            </a:r>
            <a:r>
              <a:rPr b="1" lang="en-US" sz="2800" spc="-1" strike="noStrike" u="sng">
                <a:solidFill>
                  <a:srgbClr val="4f271c"/>
                </a:solidFill>
                <a:uFillTx/>
                <a:latin typeface="Times New Roman"/>
                <a:ea typeface="Times New Roman"/>
              </a:rPr>
              <a:t>http</a:t>
            </a:r>
            <a:r>
              <a:rPr b="1" lang="ru-RU" sz="2800" spc="-1" strike="noStrike" u="sng">
                <a:solidFill>
                  <a:srgbClr val="4f271c"/>
                </a:solidFill>
                <a:uFillTx/>
                <a:latin typeface="Times New Roman"/>
                <a:ea typeface="Times New Roman"/>
              </a:rPr>
              <a:t>://</a:t>
            </a:r>
            <a:r>
              <a:rPr b="1" lang="en-US" sz="2800" spc="-1" strike="noStrike" u="sng">
                <a:solidFill>
                  <a:srgbClr val="4f271c"/>
                </a:solidFill>
                <a:uFillTx/>
                <a:latin typeface="Times New Roman"/>
                <a:ea typeface="Times New Roman"/>
              </a:rPr>
              <a:t>ru</a:t>
            </a:r>
            <a:r>
              <a:rPr b="1" lang="ru-RU" sz="2800" spc="-1" strike="noStrike" u="sng">
                <a:solidFill>
                  <a:srgbClr val="4f271c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1" lang="en-US" sz="2800" spc="-1" strike="noStrike" u="sng">
                <a:solidFill>
                  <a:srgbClr val="4f271c"/>
                </a:solidFill>
                <a:uFillTx/>
                <a:latin typeface="Times New Roman"/>
                <a:ea typeface="Times New Roman"/>
              </a:rPr>
              <a:t>onlinemschool</a:t>
            </a:r>
            <a:r>
              <a:rPr b="1" lang="ru-RU" sz="2800" spc="-1" strike="noStrike" u="sng">
                <a:solidFill>
                  <a:srgbClr val="4f271c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1" lang="en-US" sz="2800" spc="-1" strike="noStrike" u="sng">
                <a:solidFill>
                  <a:srgbClr val="4f271c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1" lang="ru-RU" sz="2800" spc="-1" strike="noStrike" u="sng">
                <a:solidFill>
                  <a:srgbClr val="4f271c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ru-RU" sz="2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омощь студентам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4" dur="2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9" dur="2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Содержание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сновные понят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Метод Крамер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Решение системы методом Крамер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Метод Гаусс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Решение системы методом Гаусс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Матричный метод (с помощью обратной матрицы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Решение системы матричным метод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В помощь студента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20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сновные понятия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285480" y="1600200"/>
            <a:ext cx="86439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систему трёх линейных уравнений с тремя неизвестным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2760" indent="-302760" algn="just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2760" indent="-302760" algn="just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2760" indent="-3027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2760" indent="-3027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 -                      неизвестные,          - коэффициенты (                             )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2760" indent="-3027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ободные чле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2760" indent="-302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2760" indent="-3027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ойка чисел                     называется решением системы трёх линейных уравнений с тремя неизвестным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при подстановке их в уравнения системы вместо             получают верные числовые равенст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2760" indent="-3027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истема трёх линейных уравнений имеет хотя бы одно решение, то она называется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вместно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2760" indent="-3027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истема трёх линейных уравнений решений не имеет, то она называется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совместно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2760" indent="-3027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истема трёх линейных уравнений имеет единственное решение, то ее называют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ределенно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если решений больше одного, то –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определенно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2760" indent="-3027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вободные члены всех уравнений системы равны нулю , то система называется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нородно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противном случае –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однородно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Object 14"/>
              <p:cNvSpPr txBox="1"/>
              <p:nvPr/>
            </p:nvSpPr>
            <p:spPr>
              <a:xfrm>
                <a:off x="6500880" y="1571760"/>
                <a:ext cx="242892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15"/>
              <p:cNvSpPr txBox="1"/>
              <p:nvPr/>
            </p:nvSpPr>
            <p:spPr>
              <a:xfrm>
                <a:off x="928800" y="2857680"/>
                <a:ext cx="928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Object 19"/>
              <p:cNvSpPr txBox="1"/>
              <p:nvPr/>
            </p:nvSpPr>
            <p:spPr>
              <a:xfrm>
                <a:off x="3071880" y="2786040"/>
                <a:ext cx="447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21"/>
              <p:cNvSpPr txBox="1"/>
              <p:nvPr/>
            </p:nvSpPr>
            <p:spPr>
              <a:xfrm>
                <a:off x="5143680" y="3000240"/>
                <a:ext cx="14284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,3</m:t>
                    </m:r>
                    <m:r>
                      <m:t xml:space="preserve">;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,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3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23"/>
              <p:cNvSpPr txBox="1"/>
              <p:nvPr/>
            </p:nvSpPr>
            <p:spPr>
              <a:xfrm>
                <a:off x="447840" y="3257640"/>
                <a:ext cx="10713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5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11"/>
              <p:cNvSpPr txBox="1"/>
              <p:nvPr/>
            </p:nvSpPr>
            <p:spPr>
              <a:xfrm>
                <a:off x="1714680" y="3929040"/>
                <a:ext cx="92844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7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25"/>
              <p:cNvSpPr txBox="1"/>
              <p:nvPr/>
            </p:nvSpPr>
            <p:spPr>
              <a:xfrm>
                <a:off x="6572160" y="4143240"/>
                <a:ext cx="71460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100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1000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1000"/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1000"/>
                                        <p:tgtEl>
                                          <p:spTgt spid="5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1000"/>
                                        <p:tgtEl>
                                          <p:spTgt spid="5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1000"/>
                                        <p:tgtEl>
                                          <p:spTgt spid="5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1000"/>
                                        <p:tgtEl>
                                          <p:spTgt spid="5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Метод Крамера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нам требуется решить систему трёх линейных уравнений с тремя неизвестными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ой определитель системы (он составлен из коэффициентов при неизвестных) ∆≠0, а определители                             получаются из определителя системы ∆ посредством замены свободными членами элементов соответственно первого, второго и третьего столбц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ма (правило Крамера)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ли определитель системы </a:t>
            </a:r>
            <a:r>
              <a:rPr b="0" lang="ru-RU" sz="1600" spc="-1" strike="noStrike">
                <a:solidFill>
                  <a:srgbClr val="32322e"/>
                </a:solidFill>
                <a:latin typeface="Times New Roman"/>
                <a:ea typeface="Times New Roman"/>
              </a:rPr>
              <a:t>∆≠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рассматриваемая система (1) имеет одно и только одно решение, причё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1"/>
              <p:cNvSpPr txBox="1"/>
              <p:nvPr/>
            </p:nvSpPr>
            <p:spPr>
              <a:xfrm>
                <a:off x="1071720" y="1928880"/>
                <a:ext cx="23572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Object 3"/>
              <p:cNvSpPr txBox="1"/>
              <p:nvPr/>
            </p:nvSpPr>
            <p:spPr>
              <a:xfrm>
                <a:off x="2000160" y="3214800"/>
                <a:ext cx="128592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Object 5"/>
              <p:cNvSpPr txBox="1"/>
              <p:nvPr/>
            </p:nvSpPr>
            <p:spPr>
              <a:xfrm>
                <a:off x="735120" y="3857760"/>
                <a:ext cx="1674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9"/>
              <p:cNvSpPr txBox="1"/>
              <p:nvPr/>
            </p:nvSpPr>
            <p:spPr>
              <a:xfrm>
                <a:off x="2519280" y="3857760"/>
                <a:ext cx="1749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Object 11"/>
              <p:cNvSpPr txBox="1"/>
              <p:nvPr/>
            </p:nvSpPr>
            <p:spPr>
              <a:xfrm>
                <a:off x="4387680" y="3857760"/>
                <a:ext cx="1797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13"/>
              <p:cNvSpPr txBox="1"/>
              <p:nvPr/>
            </p:nvSpPr>
            <p:spPr>
              <a:xfrm>
                <a:off x="6316560" y="3857760"/>
                <a:ext cx="1797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Object 15"/>
              <p:cNvSpPr txBox="1"/>
              <p:nvPr/>
            </p:nvSpPr>
            <p:spPr>
              <a:xfrm>
                <a:off x="3214800" y="5786280"/>
                <a:ext cx="3214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Rectangle 19"/>
          <p:cNvSpPr/>
          <p:nvPr/>
        </p:nvSpPr>
        <p:spPr>
          <a:xfrm>
            <a:off x="447984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10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10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1000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2560" y="142560"/>
            <a:ext cx="90010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5280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Решите систему методом Крамера: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609480" y="1589040"/>
            <a:ext cx="6462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м определитель систем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определитель системы отличен от нуля, то система имеет единственное решение, которое может быть найдено методом Краме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м и вычислим необходимые определители 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Content Placeholder 4" descr="compassPencilRuler_bg.png"/>
          <p:cNvPicPr/>
          <p:nvPr/>
        </p:nvPicPr>
        <p:blipFill>
          <a:blip r:embed="rId2"/>
          <a:stretch/>
        </p:blipFill>
        <p:spPr>
          <a:xfrm>
            <a:off x="7143840" y="1600200"/>
            <a:ext cx="1847880" cy="2185920"/>
          </a:xfrm>
          <a:prstGeom prst="rect">
            <a:avLst/>
          </a:prstGeom>
          <a:ln w="50760">
            <a:solidFill>
              <a:srgbClr val="feb80a"/>
            </a:solidFill>
            <a:miter/>
          </a:ln>
        </p:spPr>
      </p:pic>
      <p:sp>
        <p:nvSpPr>
          <p:cNvPr id="57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5"/>
              <p:cNvSpPr txBox="1"/>
              <p:nvPr/>
            </p:nvSpPr>
            <p:spPr>
              <a:xfrm>
                <a:off x="6072120" y="142920"/>
                <a:ext cx="214308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Object 7"/>
              <p:cNvSpPr txBox="1"/>
              <p:nvPr/>
            </p:nvSpPr>
            <p:spPr>
              <a:xfrm>
                <a:off x="714240" y="2428920"/>
                <a:ext cx="62866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Object 11"/>
              <p:cNvSpPr txBox="1"/>
              <p:nvPr/>
            </p:nvSpPr>
            <p:spPr>
              <a:xfrm>
                <a:off x="822240" y="4143240"/>
                <a:ext cx="58564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9</m:t>
                            </m:r>
                            <m:r>
                              <m:t xml:space="preserve"> </m:t>
                            </m:r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Object 13"/>
              <p:cNvSpPr txBox="1"/>
              <p:nvPr/>
            </p:nvSpPr>
            <p:spPr>
              <a:xfrm>
                <a:off x="714240" y="5000760"/>
                <a:ext cx="57769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9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15"/>
              <p:cNvSpPr txBox="1"/>
              <p:nvPr/>
            </p:nvSpPr>
            <p:spPr>
              <a:xfrm>
                <a:off x="762120" y="5857920"/>
                <a:ext cx="58338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r>
                              <m:t xml:space="preserve">9</m:t>
                            </m:r>
                          </m:e>
                          <m:e/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10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10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100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" dur="1000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Решите систему методом Крамера: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м неизвестные по формулам Крамер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2"/>
              <p:cNvSpPr txBox="1"/>
              <p:nvPr/>
            </p:nvSpPr>
            <p:spPr>
              <a:xfrm>
                <a:off x="6429240" y="142920"/>
                <a:ext cx="214344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Object 3"/>
              <p:cNvSpPr txBox="1"/>
              <p:nvPr/>
            </p:nvSpPr>
            <p:spPr>
              <a:xfrm>
                <a:off x="3633840" y="2143080"/>
                <a:ext cx="30211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5"/>
              <p:cNvSpPr txBox="1"/>
              <p:nvPr/>
            </p:nvSpPr>
            <p:spPr>
              <a:xfrm>
                <a:off x="3917880" y="3071880"/>
                <a:ext cx="22366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Object 7"/>
              <p:cNvSpPr txBox="1"/>
              <p:nvPr/>
            </p:nvSpPr>
            <p:spPr>
              <a:xfrm>
                <a:off x="3905280" y="3857760"/>
                <a:ext cx="23335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Object 9"/>
              <p:cNvSpPr txBox="1"/>
              <p:nvPr/>
            </p:nvSpPr>
            <p:spPr>
              <a:xfrm>
                <a:off x="3906720" y="4714920"/>
                <a:ext cx="23306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17"/>
              <p:cNvSpPr txBox="1"/>
              <p:nvPr/>
            </p:nvSpPr>
            <p:spPr>
              <a:xfrm>
                <a:off x="3152880" y="5757840"/>
                <a:ext cx="24033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" dur="10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1000"/>
                                        <p:tgtEl>
                                          <p:spTgt spid="5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Метод Гаусса</a:t>
            </a:r>
            <a:br>
              <a:rPr sz="4400"/>
            </a:b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ее рассмотренный метод можно применять при решении только тех систем, в которых число уравнений совпадает с числом неизвестных, причём определитель системы должен быть отличен от нуля. Метод Гаусса является более универсальным и пригоден для систем с любым числом уравнений. Он заключается в последовательном исключении неизвестных из уравнений систем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овь рассмотрим систему трёх линейных уравнений с тремя неизвестным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уравнение оставим без изменения, а из 2-го и 3-го исключим слагаемые, содержащие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ля этого второе уравнение разделим на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умножим на –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затем сложим с 1-ым уравнением. Аналогично третье уравнение разделим на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умножим на  –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затем сложим с первым. В результате исходная система примет вид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Object 1"/>
              <p:cNvSpPr txBox="1"/>
              <p:nvPr/>
            </p:nvSpPr>
            <p:spPr>
              <a:xfrm>
                <a:off x="3143160" y="3286080"/>
                <a:ext cx="2357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Object 3"/>
              <p:cNvSpPr txBox="1"/>
              <p:nvPr/>
            </p:nvSpPr>
            <p:spPr>
              <a:xfrm>
                <a:off x="3214800" y="5643720"/>
                <a:ext cx="228600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1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10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8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1000"/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Метод Гаусса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571680" y="164304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из последнего уравнения исключим слагаемое, содержащее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ля этого третье уравнение разделим на         , умножим на           и сложим со вторым. Тогда будем иметь систему уравнений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юда из последнего уравнения легко найти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тем из 2-го уравнения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, наконец, из 1-го –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Object 1"/>
              <p:cNvSpPr txBox="1"/>
              <p:nvPr/>
            </p:nvSpPr>
            <p:spPr>
              <a:xfrm>
                <a:off x="2786040" y="1928880"/>
                <a:ext cx="21924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1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5"/>
              <p:cNvSpPr txBox="1"/>
              <p:nvPr/>
            </p:nvSpPr>
            <p:spPr>
              <a:xfrm>
                <a:off x="4357800" y="1928880"/>
                <a:ext cx="33336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1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Object 7"/>
              <p:cNvSpPr txBox="1"/>
              <p:nvPr/>
            </p:nvSpPr>
            <p:spPr>
              <a:xfrm>
                <a:off x="2500200" y="2428920"/>
                <a:ext cx="250056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10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1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" dur="1000"/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Решите систему методом Гаусса: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85840" y="1714680"/>
            <a:ext cx="8858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уравнение оставим без изменения, а из 2-го и 3-го исключим слагаемые, содержащие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ля этого второе уравнение умножим на                  , а затем сложим с 1-ым уравнение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ично третье уравнение умножим на                , а затем сложим с первы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исходная система примет вид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из последнего уравнения исключим слагаемое, содержащее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ля этого третье уравнение умножим на               , и сложим со вторым. Тогда будем иметь систему уравнений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Object 1"/>
              <p:cNvSpPr txBox="1"/>
              <p:nvPr/>
            </p:nvSpPr>
            <p:spPr>
              <a:xfrm>
                <a:off x="6143760" y="142920"/>
                <a:ext cx="18572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8"/>
              <p:cNvSpPr txBox="1"/>
              <p:nvPr/>
            </p:nvSpPr>
            <p:spPr>
              <a:xfrm>
                <a:off x="4214880" y="2357280"/>
                <a:ext cx="676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10"/>
              <p:cNvSpPr txBox="1"/>
              <p:nvPr/>
            </p:nvSpPr>
            <p:spPr>
              <a:xfrm>
                <a:off x="4357800" y="2928960"/>
                <a:ext cx="6429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Object 12"/>
              <p:cNvSpPr txBox="1"/>
              <p:nvPr/>
            </p:nvSpPr>
            <p:spPr>
              <a:xfrm>
                <a:off x="3643200" y="3643200"/>
                <a:ext cx="17859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7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Object 14"/>
              <p:cNvSpPr txBox="1"/>
              <p:nvPr/>
            </p:nvSpPr>
            <p:spPr>
              <a:xfrm>
                <a:off x="2571840" y="4857840"/>
                <a:ext cx="7333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16"/>
              <p:cNvSpPr txBox="1"/>
              <p:nvPr/>
            </p:nvSpPr>
            <p:spPr>
              <a:xfrm>
                <a:off x="3714840" y="5286240"/>
                <a:ext cx="171432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7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1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" dur="100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100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" dur="100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1000"/>
                                        <p:tgtEl>
                                          <p:spTgt spid="6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9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09:32:40Z</dcterms:created>
  <dc:creator/>
  <dc:description/>
  <cp:keywords/>
  <dc:language>en-US</dc:language>
  <cp:lastModifiedBy/>
  <dcterms:modified xsi:type="dcterms:W3CDTF">2013-02-26T21:28:3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51049</vt:lpwstr>
  </property>
</Properties>
</file>