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CFD-A13D-4927-9FC6-A50324F8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187-4B52-41B9-AD27-3F4212B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5AD-5ADA-47E4-A41A-336FC2AE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4A1-A3E9-407E-93B3-73FB78D5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14B-A1AE-4CC8-911D-21D470D9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6FE-925B-41E5-9DB2-05A31AC5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4A6-7552-4010-B5CC-4CC1F62E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CEB-9F97-4CFE-8E1C-432167F0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DCE-B499-4E6F-81C5-2083036A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575-1D3A-462E-A141-6EB0D012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E5B-204F-4260-90F0-398EDE1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016-95A1-4FFA-BF4F-7886526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03AD-1740-442D-9339-FD2B79C52A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189000"/>
            <a:ext cx="62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1403280" y="189000"/>
            <a:ext cx="62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ксическое цар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8" name="Picture 8" descr="i4a393ef340126"/>
          <p:cNvPicPr/>
          <p:nvPr/>
        </p:nvPicPr>
        <p:blipFill>
          <a:blip r:embed="rId1"/>
          <a:stretch/>
        </p:blipFill>
        <p:spPr>
          <a:xfrm>
            <a:off x="468360" y="1557360"/>
            <a:ext cx="8219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298440" y="-208080"/>
            <a:ext cx="8589960" cy="197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8" descr="i4a393ef340126"/>
          <p:cNvPicPr/>
          <p:nvPr/>
        </p:nvPicPr>
        <p:blipFill>
          <a:blip r:embed="rId2"/>
          <a:stretch/>
        </p:blipFill>
        <p:spPr>
          <a:xfrm>
            <a:off x="468360" y="1557360"/>
            <a:ext cx="8219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3142800"/>
            <a:ext cx="8856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ЛОВА ОДИНАКОВЫЕ ПО НАПИСАНИЮ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ahoma"/>
              </a:rPr>
              <a:t>АБСОЛЮТНО  РАЗНЫЕ П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ahoma"/>
              </a:rPr>
              <a:t>ЛЕКСИЧЕСКОМУ ЗНАЧЕНИ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042920" y="333360"/>
            <a:ext cx="741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НИМЫ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.И.Ожегов. Толковый словарь русского языка</a:t>
            </a:r>
            <a:br>
              <a:rPr sz="2800"/>
            </a:br>
            <a:br>
              <a:rPr sz="2800"/>
            </a:br>
            <a:r>
              <a:rPr b="0" lang="ru-RU" sz="2400" spc="-1" strike="noStrike" u="sng">
                <a:solidFill>
                  <a:srgbClr val="cc0000"/>
                </a:solidFill>
                <a:uFillTx/>
                <a:latin typeface="Tahoma"/>
              </a:rPr>
              <a:t>ВАЛ-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линная земляная насыпь. В старое время служила для защиты местности от неприятеля. Крепостной вал.</a:t>
            </a: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cc0000"/>
                </a:solidFill>
                <a:uFillTx/>
                <a:latin typeface="Tahoma"/>
              </a:rPr>
              <a:t>ВАЛ-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В механизмах: стержень, вращающийся на опорах и  передающий движение другим частям механизма. Вращающийся вал.</a:t>
            </a: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cc0000"/>
                </a:solidFill>
                <a:uFillTx/>
                <a:latin typeface="Tahoma"/>
              </a:rPr>
              <a:t>ВАЛ-3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чень высокая волна. Девятый вал. (Самая сильная и бурная волна, по старинным представлениям, роковая для мореплавателей).Пенятся вал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Задание №1. Найдите омонимы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рький лук – лук охотника;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земный ключ – ключ от входной двер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исть рябины – кисть для рис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уба из норки – мышиные нор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ая пара лишняя? Почему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Сходства-отличия омонимов и многозначных слов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СХОДСТ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шу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ако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03280" y="1981080"/>
            <a:ext cx="59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ОТЛИЧ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ногозначны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мони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ют              абсолют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обще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ЛЗ          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раз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Л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о форме, цвет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у, дейст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ю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763640" y="2421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6012000" y="2421000"/>
            <a:ext cx="504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9"/>
          <p:cNvSpPr/>
          <p:nvPr/>
        </p:nvSpPr>
        <p:spPr>
          <a:xfrm>
            <a:off x="6877080" y="2421000"/>
            <a:ext cx="503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Задание №2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апишите предложения. Определите, есть ли в них омонимы.</a:t>
            </a:r>
            <a:br>
              <a:rPr sz="2800"/>
            </a:br>
            <a:br>
              <a:rPr sz="2800"/>
            </a:br>
            <a:r>
              <a:rPr b="0" lang="ru-RU" sz="1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пельсин – плод цитрусового дерева. По реке </a:t>
            </a:r>
            <a:br>
              <a:rPr sz="1000"/>
            </a:br>
            <a:br>
              <a:rPr sz="10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лывал плот. Я люблю печь пироги.  В доме перекладывали печь. </a:t>
            </a:r>
            <a:br>
              <a:rPr sz="12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  л…чу горло.  Я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…чу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сам…лет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…пить к…рабль не нужно. Печ(?)ку нужно т…пить. 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Blackadder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о, я прическа – чуд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лести меня не худ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лугу с шипеньем остр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яюсь с сенокос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воду я вдаюсь полоской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кой, серенькой и плоск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1187280" y="189000"/>
            <a:ext cx="712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ая загад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ставь </a:t>
            </a: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синквейн </a:t>
            </a:r>
            <a:br>
              <a:rPr sz="66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з данных омоним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714760"/>
            <a:ext cx="822960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1 колонка: </a:t>
            </a:r>
            <a:r>
              <a:rPr b="0" lang="ru-RU" sz="4800" spc="-1" strike="noStrike">
                <a:solidFill>
                  <a:srgbClr val="cc0066"/>
                </a:solidFill>
                <a:latin typeface="Tahoma"/>
              </a:rPr>
              <a:t>тройка - трой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2 колонка: </a:t>
            </a:r>
            <a:r>
              <a:rPr b="0" lang="ru-RU" sz="4800" spc="-1" strike="noStrike">
                <a:solidFill>
                  <a:srgbClr val="cc0066"/>
                </a:solidFill>
                <a:latin typeface="Tahoma"/>
              </a:rPr>
              <a:t>ключ – клю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3 колонка: </a:t>
            </a:r>
            <a:r>
              <a:rPr b="0" lang="ru-RU" sz="4800" spc="-1" strike="noStrike">
                <a:solidFill>
                  <a:srgbClr val="cc0066"/>
                </a:solidFill>
                <a:latin typeface="Tahoma"/>
              </a:rPr>
              <a:t>язык - язы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5:05:48Z</dcterms:created>
  <dc:creator>1</dc:creator>
  <dc:description/>
  <dc:language>en-US</dc:language>
  <cp:lastModifiedBy>Пользователь</cp:lastModifiedBy>
  <dcterms:modified xsi:type="dcterms:W3CDTF">2012-12-11T17:50:09Z</dcterms:modified>
  <cp:revision>25</cp:revision>
  <dc:subject/>
  <dc:title>Слайд 1</dc:title>
</cp:coreProperties>
</file>