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EB4-28E7-4350-85A6-57A4D138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27B-F980-45EA-B842-A2D6FC31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66B-4E2F-404A-90E5-6C84132F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967-2450-49FA-8C5A-8F8EAFB8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1088-56C0-4D61-BA83-6CEA347D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FB4-6102-4D5C-A571-28C9FC64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8F0-FCB7-4DC0-8EA2-FCF9EA98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69C-4ED2-4896-B6B0-9C10ADBC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F4A-9A84-4524-AF26-EB9B0E9B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FE1-B160-4319-9D9D-DBA500AB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168-032F-4141-80F2-F24893F6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D72-5B54-46AE-A432-0A07B0CA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6D21-9A8A-4661-85E1-4E721B77EA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189000"/>
            <a:ext cx="626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1403280" y="189000"/>
            <a:ext cx="626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ксическое цар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8" name="Picture 8" descr="i4a393ef340126"/>
          <p:cNvPicPr/>
          <p:nvPr/>
        </p:nvPicPr>
        <p:blipFill>
          <a:blip r:embed="rId1"/>
          <a:stretch/>
        </p:blipFill>
        <p:spPr>
          <a:xfrm>
            <a:off x="468360" y="1557360"/>
            <a:ext cx="8219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298440" y="-208080"/>
            <a:ext cx="8589960" cy="1970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8" descr="i4a393ef340126"/>
          <p:cNvPicPr/>
          <p:nvPr/>
        </p:nvPicPr>
        <p:blipFill>
          <a:blip r:embed="rId2"/>
          <a:stretch/>
        </p:blipFill>
        <p:spPr>
          <a:xfrm>
            <a:off x="468360" y="1557360"/>
            <a:ext cx="8219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3142800"/>
            <a:ext cx="8856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ЛОВА ОДИНАКОВЫЕ ПО НАПИСАНИЮ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ahoma"/>
              </a:rPr>
              <a:t>АБСОЛЮТНО  РАЗНЫЕ П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ahoma"/>
              </a:rPr>
              <a:t>ЛЕКСИЧЕСКОМУ ЗНАЧЕНИ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042920" y="333360"/>
            <a:ext cx="741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МОНИМЫ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.И.Ожегов. Толковый словарь русского языка</a:t>
            </a:r>
            <a:br>
              <a:rPr sz="2800"/>
            </a:br>
            <a:br>
              <a:rPr sz="2800"/>
            </a:br>
            <a:r>
              <a:rPr b="0" lang="ru-RU" sz="2400" spc="-1" strike="noStrike" u="sng">
                <a:solidFill>
                  <a:srgbClr val="cc0000"/>
                </a:solidFill>
                <a:uFillTx/>
                <a:latin typeface="Tahoma"/>
              </a:rPr>
              <a:t>ВАЛ-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Длинная земляная насыпь. В старое время служила для защиты местности от неприятеля. Крепостной вал.</a:t>
            </a:r>
            <a:br>
              <a:rPr sz="2400"/>
            </a:br>
            <a:br>
              <a:rPr sz="2400"/>
            </a:br>
            <a:r>
              <a:rPr b="0" lang="ru-RU" sz="2400" spc="-1" strike="noStrike" u="sng">
                <a:solidFill>
                  <a:srgbClr val="cc0000"/>
                </a:solidFill>
                <a:uFillTx/>
                <a:latin typeface="Tahoma"/>
              </a:rPr>
              <a:t>ВАЛ-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В механизмах: стержень, вращающийся на опорах и  передающий движение другим частям механизма. Вращающийся вал.</a:t>
            </a:r>
            <a:br>
              <a:rPr sz="2400"/>
            </a:br>
            <a:br>
              <a:rPr sz="2400"/>
            </a:br>
            <a:r>
              <a:rPr b="0" lang="ru-RU" sz="2400" spc="-1" strike="noStrike" u="sng">
                <a:solidFill>
                  <a:srgbClr val="cc0000"/>
                </a:solidFill>
                <a:uFillTx/>
                <a:latin typeface="Tahoma"/>
              </a:rPr>
              <a:t>ВАЛ-3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чень высокая волна. Девятый вал. (Самая сильная и бурная волна, по старинным представлениям, роковая для мореплавателей).Пенятся валы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Задание №1. Найдите омонимы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рький лук – лук охотника;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земный ключ – ключ от входной двер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исть рябины – кисть для рисо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уба из норки – мышиные нор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ая пара лишняя? Почему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ahoma"/>
              </a:rPr>
              <a:t>Сходства-отличия омонимов и многозначных слов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6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СХОДСТ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шу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ако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03280" y="1981080"/>
            <a:ext cx="59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</a:rPr>
              <a:t>ОТЛИЧ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Многозначны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мони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еют              абсолют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обще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ЛЗ          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раз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Л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о форме, цвет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актеру, дейст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ю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7"/>
          <p:cNvSpPr/>
          <p:nvPr/>
        </p:nvSpPr>
        <p:spPr>
          <a:xfrm>
            <a:off x="1763640" y="2421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6012000" y="2421000"/>
            <a:ext cx="5047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9"/>
          <p:cNvSpPr/>
          <p:nvPr/>
        </p:nvSpPr>
        <p:spPr>
          <a:xfrm>
            <a:off x="6877080" y="2421000"/>
            <a:ext cx="503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Задание №2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апишите предложения. Определите, есть ли в них омонимы.</a:t>
            </a:r>
            <a:br>
              <a:rPr sz="2800"/>
            </a:br>
            <a:br>
              <a:rPr sz="2800"/>
            </a:br>
            <a:r>
              <a:rPr b="0" lang="ru-RU" sz="1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пельсин – плод цитрусового дерева. По реке </a:t>
            </a:r>
            <a:br>
              <a:rPr sz="1000"/>
            </a:br>
            <a:br>
              <a:rPr sz="10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плывал плот. Я люблю печь пироги.  В доме перекладывали печь. </a:t>
            </a:r>
            <a:br>
              <a:rPr sz="1200"/>
            </a:b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  л…чу горло.  Я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…чу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сам…лет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…пить к…рабль не нужно. Печ(?)ку нужно т…пить. </a:t>
            </a:r>
            <a:br>
              <a:rPr sz="12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Blackadder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7120" y="185688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о, я прическа – чуд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плести меня не худ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лугу с шипеньем остр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равляюсь с сенокос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воду я вдаюсь полоской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кой, серенькой и плоск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1187280" y="189000"/>
            <a:ext cx="7129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ая загад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оставь </a:t>
            </a: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синквейн </a:t>
            </a:r>
            <a:br>
              <a:rPr sz="66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з данных омоним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714760"/>
            <a:ext cx="8229600" cy="33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ahoma"/>
              </a:rPr>
              <a:t>1 колонка: </a:t>
            </a:r>
            <a:r>
              <a:rPr b="0" lang="ru-RU" sz="4800" spc="-1" strike="noStrike">
                <a:solidFill>
                  <a:srgbClr val="cc0066"/>
                </a:solidFill>
                <a:latin typeface="Tahoma"/>
              </a:rPr>
              <a:t>тройка - трой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ahoma"/>
              </a:rPr>
              <a:t>2 колонка: </a:t>
            </a:r>
            <a:r>
              <a:rPr b="0" lang="ru-RU" sz="4800" spc="-1" strike="noStrike">
                <a:solidFill>
                  <a:srgbClr val="cc0066"/>
                </a:solidFill>
                <a:latin typeface="Tahoma"/>
              </a:rPr>
              <a:t>ключ – клю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ahoma"/>
              </a:rPr>
              <a:t>3 колонка: </a:t>
            </a:r>
            <a:r>
              <a:rPr b="0" lang="ru-RU" sz="4800" spc="-1" strike="noStrike">
                <a:solidFill>
                  <a:srgbClr val="cc0066"/>
                </a:solidFill>
                <a:latin typeface="Tahoma"/>
              </a:rPr>
              <a:t>язык - язы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5:05:48Z</dcterms:created>
  <dc:creator>1</dc:creator>
  <dc:description/>
  <dc:language>en-US</dc:language>
  <cp:lastModifiedBy>Пользователь</cp:lastModifiedBy>
  <dcterms:modified xsi:type="dcterms:W3CDTF">2012-12-11T17:50:09Z</dcterms:modified>
  <cp:revision>25</cp:revision>
  <dc:subject/>
  <dc:title>Слайд 1</dc:title>
</cp:coreProperties>
</file>