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7D9-6925-47EF-9689-0F8D18AA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EF7-5D84-4B53-933F-FCB424DC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CF1-4924-4257-8973-24BD905C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647-E39F-4D30-8CF3-3AFAF5EA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BCB-5450-4DE3-9EB3-1F613799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39F-C83E-4336-98D0-F66B932A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EB7-DDF8-44DE-BDB0-DF9AC50A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6F7-16A4-47D1-B8CE-7A1CD6BF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C08-3883-41CB-9A57-A1605F93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5E9-4493-473A-9EC6-385DB493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D0C-F6E1-4F23-B0EB-CCF2CBC5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E6B-62A9-44FB-8D46-7EDA5557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FF07-D0C2-4212-A4CF-7AEB2C7E2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инской  школы</a:t>
            </a:r>
            <a:br>
              <a:rPr sz="2800"/>
            </a:br>
            <a:br>
              <a:rPr sz="40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Луга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видел мир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обытный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89000"/>
            <a:ext cx="8569080" cy="72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менный век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леол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(2 млн. лет до н. э. -10 тыс лет до н. э.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зол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(10 тыс. лет до н. э. – 8 тыс. лет до н. э.)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ол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(7 тыс. лет до н. э. – 2 тыс. лет до н. э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о как осознание действительности человеком появилось  уже в палеолите и развивалось по трём направлениям: наскальная живопись в пещерах, скульптура малых форм и украшение предметов быта.                   Через рисунок человек познаёт себя и природу. Происходит накопление знаний и формирование мировоззрения. Божеством для человека был зверь. Поэтому религиозным верованием бы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темизм.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ым направлением было изображение женских фигурок. В них нет индивидуальных черт и даже лица.                                                                                                                      В период мезолита человек изобретает лук и стрелы, начинает заниматься рыболовством, создаёт лодку, одомашнивает животных. Человек наделил всё, что его окружало, душой. Появилась новая форма верования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им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ух, душа). Он поклоняется неодушевлённым предметам ,оберегам. Это явление получило назв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тишизм.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иод неолита во времена таяние ледников, происходит поиск новых земель, войны за территорию. Переход к земледелию и скотоводству изменил образ жизни людей. Появилась потребность в сооружении простейших жилищ. В  эпоху неолита появились и мегалитические сооружения, не имеющие бытового на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5805360"/>
            <a:ext cx="5472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ол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тильон. Испания. Сражающиеся лучн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78400" y="620640"/>
            <a:ext cx="3633840" cy="604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11640" y="26028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89000"/>
            <a:ext cx="86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обытное изобразительное искусство это и первобытн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149720"/>
            <a:ext cx="49690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леол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ки на известняковых плитах, найденны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щер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ррас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5112000" cy="338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67280" y="602136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47640" y="4076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311640" cy="194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716360" cy="4681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476280"/>
            <a:ext cx="331308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56536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ины. Живопись на скале. 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5516640"/>
            <a:ext cx="309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хота. Живопись на скале. 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76280"/>
            <a:ext cx="482436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2525760" cy="475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4000" y="260280"/>
            <a:ext cx="381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поха палеолита, мадленск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ремя, связана с находка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средняя величина 5- 1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31912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35640" y="479736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е женщины, собирающей мёд. Арана. Исп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549360"/>
            <a:ext cx="2735280" cy="395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628640"/>
            <a:ext cx="3095640" cy="489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6093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омле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оунхендж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нглия.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ыс. До н. 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681800" cy="3504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83600" y="314172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ги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 Кар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еолит.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Бретань.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ран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932360" y="189000"/>
            <a:ext cx="4032360" cy="270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8560" y="4653000"/>
            <a:ext cx="410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ольмены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несколько врытых в землю вертикальных камней, покрытых одной или нескольким пли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9640" y="1989000"/>
            <a:ext cx="44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льм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еоли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Корсика, Фра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0200" y="386064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енги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вертикально стоящие камни, высотой более 2-х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0360" y="5661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омлех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сложные постройки в виде круговых оград диаметром до 100 м из огромных каменных глы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4:59:22Z</dcterms:created>
  <dc:creator>дикий КОТ</dc:creator>
  <dc:description/>
  <dc:language>en-US</dc:language>
  <cp:lastModifiedBy>дикий КОТ</cp:lastModifiedBy>
  <dcterms:modified xsi:type="dcterms:W3CDTF">2011-01-26T17:38:22Z</dcterms:modified>
  <cp:revision>52</cp:revision>
  <dc:subject/>
  <dc:title>Слайд 1</dc:title>
</cp:coreProperties>
</file>