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C109-8C95-40FC-B48E-8606F314D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8306-BD64-43DD-8FEF-7669B6C0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F5DB-1C11-47C8-ADC3-E25E8D8CE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9C39-A97E-4DA8-BB91-1EE6F9D1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B38B-BACB-40EA-A4DE-3C36747A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ABA7-FC96-462E-9C30-2CD90588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A367-0152-4FC2-97C5-32D11C20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493F-3B61-4E3A-87DD-8A00FF63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E697-F43D-472F-AA1E-55DEFF3F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FC79-7D6D-473E-BC3B-5A32DBB7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CF6D-BCF0-4C40-97DE-3DC6B7AE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311D-9193-4957-8E60-BDE354EE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41E7-C885-476C-994C-9C38CED12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kukushka.ru/map.gif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лудово боло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Картинка 2 из 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628640"/>
            <a:ext cx="5616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олотная мест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Картинка 11 из 445"/>
          <p:cNvPicPr/>
          <p:nvPr/>
        </p:nvPicPr>
        <p:blipFill>
          <a:blip r:embed="rId1"/>
          <a:stretch/>
        </p:blipFill>
        <p:spPr>
          <a:xfrm>
            <a:off x="971640" y="1628640"/>
            <a:ext cx="56530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иблые болота. Слепая Ела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Картинка 17 из 445"/>
          <p:cNvPicPr/>
          <p:nvPr/>
        </p:nvPicPr>
        <p:blipFill>
          <a:blip r:embed="rId1"/>
          <a:stretch/>
        </p:blipFill>
        <p:spPr>
          <a:xfrm>
            <a:off x="1187280" y="1628640"/>
            <a:ext cx="58438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олото в лес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Картинка 25 из 445"/>
          <p:cNvPicPr/>
          <p:nvPr/>
        </p:nvPicPr>
        <p:blipFill>
          <a:blip r:embed="rId1"/>
          <a:stretch/>
        </p:blipFill>
        <p:spPr>
          <a:xfrm>
            <a:off x="1332000" y="1916280"/>
            <a:ext cx="547200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лан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ж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оск. ряз. тамб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бширная прогалина, луговая или полевая равнина;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иб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о же, возвышенная, голая и открытая равнина; лысина, плешина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Елан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ли еланок умалит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Елан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 елани относящ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Еланщ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. крестьянин, у которого пашня в лесу, на елани, куда и он иногда самовольно выселяет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09:39:13Z</dcterms:created>
  <dc:creator>Пользователь</dc:creator>
  <dc:description/>
  <dc:language>en-US</dc:language>
  <cp:lastModifiedBy>Пользователь</cp:lastModifiedBy>
  <dcterms:modified xsi:type="dcterms:W3CDTF">2011-04-10T10:00:01Z</dcterms:modified>
  <cp:revision>6</cp:revision>
  <dc:subject/>
  <dc:title>Слайд 1</dc:title>
</cp:coreProperties>
</file>