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3F4A-E8D1-4A07-A32C-639CB202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CAA9-E6E3-49B2-84C8-50D44BF2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A9E-26D6-40FE-B43A-3D8B1F9D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E5E2-2346-4E67-B677-D4222EF1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99BF-F630-4412-B444-C9B56EF3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FE0-B9DD-4BBC-A146-AC866D8B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C51-A33A-451E-AE90-A6DA2E27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CA4-7A1C-4903-9544-7EDCB85A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210-3368-408D-9C63-CAB38B82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2E2-3ACC-4B3E-9A75-55716F81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502-BE64-489A-AC3A-FF54BD1C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7D1F-8A53-4D68-AB47-CABB7FA2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8996-E563-40F9-95CD-0D0D6DD74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ukushka.ru/map.gif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удово бо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2 из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628640"/>
            <a:ext cx="5616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лотная мес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артинка 11 из 445"/>
          <p:cNvPicPr/>
          <p:nvPr/>
        </p:nvPicPr>
        <p:blipFill>
          <a:blip r:embed="rId1"/>
          <a:stretch/>
        </p:blipFill>
        <p:spPr>
          <a:xfrm>
            <a:off x="971640" y="1628640"/>
            <a:ext cx="5653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блые болота. Слепая Ел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17 из 445"/>
          <p:cNvPicPr/>
          <p:nvPr/>
        </p:nvPicPr>
        <p:blipFill>
          <a:blip r:embed="rId1"/>
          <a:stretch/>
        </p:blipFill>
        <p:spPr>
          <a:xfrm>
            <a:off x="1187280" y="1628640"/>
            <a:ext cx="58438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лото в ле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Картинка 25 из 445"/>
          <p:cNvPicPr/>
          <p:nvPr/>
        </p:nvPicPr>
        <p:blipFill>
          <a:blip r:embed="rId1"/>
          <a:stretch/>
        </p:blipFill>
        <p:spPr>
          <a:xfrm>
            <a:off x="1332000" y="1916280"/>
            <a:ext cx="54720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ла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ж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ск. ряз. тамб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бширная прогалина, луговая или полевая равнина;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иб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 же, возвышенная, голая и открытая равнина; лысина, плешина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лан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ли еланок умалит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лан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 елани относящ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ланщ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. крестьянин, у которого пашня в лесу, на елани, куда и он иногда самовольно выселяет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9:39:13Z</dcterms:created>
  <dc:creator>Пользователь</dc:creator>
  <dc:description/>
  <dc:language>en-US</dc:language>
  <cp:lastModifiedBy>Пользователь</cp:lastModifiedBy>
  <dcterms:modified xsi:type="dcterms:W3CDTF">2011-04-10T10:00:01Z</dcterms:modified>
  <cp:revision>6</cp:revision>
  <dc:subject/>
  <dc:title>Слайд 1</dc:title>
</cp:coreProperties>
</file>