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5.gif" ContentType="image/gif"/>
  <Override PartName="/ppt/media/image3.jpeg" ContentType="image/jpeg"/>
  <Override PartName="/ppt/media/image14.wmf" ContentType="image/x-wmf"/>
  <Override PartName="/ppt/media/image2.jpeg" ContentType="image/jpeg"/>
  <Override PartName="/ppt/media/image1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16.wmf" ContentType="image/x-wmf"/>
  <Override PartName="/ppt/media/image5.gif" ContentType="image/gif"/>
  <Override PartName="/ppt/media/image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8019-4194-45C8-BA11-2E1A069171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22E6-D23B-4340-BF14-38031A294A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91A5-642A-47AF-B604-720AF652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1158-9081-476E-AEEA-DC6F0362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88B1-12FF-45F0-9CD6-CB7A995E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6EE2-E98B-4605-A3CF-4183FBBE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65FC-AE2B-46E9-A98B-18813E9C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586E-509A-4077-B077-39E33078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A9CD-1E82-4813-92BA-3F437336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243C-F84A-407F-A756-937F031D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EE51-D2D5-4150-BFDC-597F5109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4A7C-1653-4F9B-808E-297A49B3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FB5E-CC79-4C3E-8BAB-34C38D0B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119A-1790-4DD0-91DC-675E1B92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4544-23C1-4C05-B907-1DDFD0FE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7AA4-F7A4-4DAD-AF18-F3712CB4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B37B-1B3E-4466-A58C-6BC8AA7E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498F-B9EE-406B-B80B-94327052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F6E9-A5AA-4946-A855-FB19E706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83F4-3734-4826-A28B-ED7C4418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28FD-A0D1-47E8-AD8C-00D4CADE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ABE-2960-4BDB-ACF3-E5E960BD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DC6B-4FDB-4E78-84C7-3BC2CAF3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80BF-1442-4DB5-8E47-8AF87365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DFC4-E2BC-470A-9B77-EE07C341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EBB7-831C-47AC-B85A-1431AFA4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4FCC-D114-4D4E-BBBC-3EC02929BF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E73A-B3F2-4CEF-BCC7-0F129C464C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eganom.org/out/program/college/30.html" TargetMode="External"/><Relationship Id="rId2" Type="http://schemas.openxmlformats.org/officeDocument/2006/relationships/hyperlink" Target="http://www.meganom.org/out/program/college/30.html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895760"/>
            <a:ext cx="6400800" cy="2219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4680" rIns="94680" tIns="51480" bIns="51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190760"/>
            <a:ext cx="6032520" cy="19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ыполнено ученицей 7 «В» класса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У СОШ №152 г. Челябинск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Ходас Евгение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учный руководитель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итель английского языка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У СОШ № 152 г. Челябинск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урманова А.Р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WordArt 7"/>
          <p:cNvSpPr txBox="1"/>
          <p:nvPr/>
        </p:nvSpPr>
        <p:spPr>
          <a:xfrm>
            <a:off x="1447920" y="2057400"/>
            <a:ext cx="63244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Arial"/>
              </a:rPr>
              <a:t>СИСТЕМА ШКОЛЬНО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Arial"/>
              </a:rPr>
              <a:t>ОБРАЗОВАНИЯ В ВЕЛИКОБРИТАН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ипы школ в Англ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447920"/>
            <a:ext cx="7696080" cy="441936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общеобразовательны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comprehensive schools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)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углубленным изучением предметов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grammar schools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средние специальны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secondary modern schools)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98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98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ипы школ в Англ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447920"/>
            <a:ext cx="7696080" cy="41148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Дневные школы - Day Schools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Школы-пансионы-Boarding School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частны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-Private Boarding Schools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государственны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-State Boarding Schoo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9" descr="dv01-4179"/>
          <p:cNvPicPr/>
          <p:nvPr/>
        </p:nvPicPr>
        <p:blipFill>
          <a:blip r:embed="rId1"/>
          <a:stretch/>
        </p:blipFill>
        <p:spPr>
          <a:xfrm>
            <a:off x="1295280" y="609480"/>
            <a:ext cx="6407280" cy="5334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Экзамен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294920"/>
            <a:ext cx="7696080" cy="48006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ерия экзамено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о основным предмета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-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алльной шкал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среднем 70 национальных тесто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16 лет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6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кзаменов 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британский сертификат о среднем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образовании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GCSE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General Certificate of Secondary Educatio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18 лет 3-5 экзаменов 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Свидетельство о среднем образовании продвинутого уровн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  </a:t>
            </a:r>
            <a:r>
              <a:rPr b="1" i="1" lang="ru-RU" sz="2800" spc="-1" strike="noStrike">
                <a:solidFill>
                  <a:srgbClr val="00b200"/>
                </a:solidFill>
                <a:latin typeface="Comic Sans MS"/>
              </a:rPr>
              <a:t>GCE A-level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(General Certificate of Education Advanced Level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)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истема оцено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42640"/>
            <a:ext cx="7772400" cy="533412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щая оценка за экзамены GCSE: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письменный экзамен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успеваемость за все годы учебы,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дипломный проек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Оценки ставятся буквам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*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(наша оценка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+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+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,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 (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ниверситеты принимают с оценками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*, А, В, С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Школьная форм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для девоче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828440"/>
            <a:ext cx="7696080" cy="441972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белая  блузка ( иногда галстук)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мная жилетка с тёмной юбкой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огда холодно - береты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уфли - тёмные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а каблуках ходить запрещено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Школьная форм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для мальчи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371600"/>
            <a:ext cx="7696080" cy="50292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убашка и галстук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ёмные брюки и тёмная жилетка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место береток бейсболки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портивные куртки с эмблемой своей школ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сновные цвета школьной формы: синий, жёлтый, серый, тёмно-коричневый  и др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E:\Disk\Марина\Германия.jpg1.jpg"/>
          <p:cNvPicPr/>
          <p:nvPr/>
        </p:nvPicPr>
        <p:blipFill>
          <a:blip r:embed="rId1"/>
          <a:stretch/>
        </p:blipFill>
        <p:spPr>
          <a:xfrm>
            <a:off x="5410080" y="304920"/>
            <a:ext cx="2590920" cy="3733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96" name="Picture 8" descr="2499_big"/>
          <p:cNvPicPr/>
          <p:nvPr/>
        </p:nvPicPr>
        <p:blipFill>
          <a:blip r:embed="rId2"/>
          <a:stretch/>
        </p:blipFill>
        <p:spPr>
          <a:xfrm>
            <a:off x="1143000" y="380880"/>
            <a:ext cx="4038480" cy="2549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005"/>
          <p:cNvPicPr/>
          <p:nvPr/>
        </p:nvPicPr>
        <p:blipFill>
          <a:blip r:embed="rId3"/>
          <a:stretch/>
        </p:blipFill>
        <p:spPr>
          <a:xfrm>
            <a:off x="1143000" y="3124080"/>
            <a:ext cx="4038480" cy="3353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crow1"/>
          <p:cNvPicPr/>
          <p:nvPr/>
        </p:nvPicPr>
        <p:blipFill>
          <a:blip r:embed="rId4"/>
          <a:stretch/>
        </p:blipFill>
        <p:spPr>
          <a:xfrm>
            <a:off x="5715000" y="4648320"/>
            <a:ext cx="2533680" cy="1600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365760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ll Tim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7" descr="69"/>
          <p:cNvPicPr/>
          <p:nvPr/>
        </p:nvPicPr>
        <p:blipFill>
          <a:blip r:embed="rId1"/>
          <a:stretch/>
        </p:blipFill>
        <p:spPr>
          <a:xfrm>
            <a:off x="228600" y="914400"/>
            <a:ext cx="3352680" cy="28954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9880" y="533160"/>
            <a:ext cx="4572000" cy="563868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.40 a.m. – School begi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.45 a.m. – Registr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.50 a.m. – Assembly be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00 a.m. – Pupils move to less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05 a.m. – Lesson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45 a.m. – Lesson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.25 a.m. – Lesson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.05 a.m. – Brea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.25 a.m. – Pupils move to less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.30 a.m. – Lesson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.10 p.m. – Lesson 5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.50 p.m. - Lunch 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40 p.m –Afternoon school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begi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45 p.m. – Registr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50 p.m. – Lesson  6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30 p.m. - Lesson 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10 p.m. – End of normal less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10 p.m. – Start of additional lessons, clubs, societies, team practice, detentions, etc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8" descr="Рисунок2"/>
          <p:cNvPicPr/>
          <p:nvPr/>
        </p:nvPicPr>
        <p:blipFill>
          <a:blip r:embed="rId2"/>
          <a:stretch/>
        </p:blipFill>
        <p:spPr>
          <a:xfrm>
            <a:off x="685800" y="3886200"/>
            <a:ext cx="261612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6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98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98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98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98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98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98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98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98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98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898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898" fill="hold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898" fill="hold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98" fill="hold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98" fill="hold"/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98" fill="hold"/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98" fill="hold"/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86200" y="1218960"/>
            <a:ext cx="403848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6" descr="380"/>
          <p:cNvPicPr/>
          <p:nvPr/>
        </p:nvPicPr>
        <p:blipFill>
          <a:blip r:embed="rId1"/>
          <a:stretch/>
        </p:blipFill>
        <p:spPr>
          <a:xfrm>
            <a:off x="4024440" y="3238560"/>
            <a:ext cx="1019160" cy="838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C41-32"/>
          <p:cNvPicPr/>
          <p:nvPr/>
        </p:nvPicPr>
        <p:blipFill>
          <a:blip r:embed="rId2"/>
          <a:stretch/>
        </p:blipFill>
        <p:spPr>
          <a:xfrm>
            <a:off x="685800" y="152280"/>
            <a:ext cx="3029040" cy="541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b8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b800"/>
                </a:solidFill>
                <a:latin typeface="Comic Sans MS"/>
              </a:rPr>
              <a:t>Особенности образова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294920"/>
            <a:ext cx="7696080" cy="487692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кольное обучение  в Англии длится 13 л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ногие  школы организованы по системе раздельного обучения  мальчиков и девоче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школах Англии ученики обязательно должны носить форм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частных школах Англии очень строгая дисципли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разование в Англии обязательно для всех граждан в возрасте от 5 до 16 ле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467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British scho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1143000"/>
          <a:ext cx="7467480" cy="5370480"/>
        </p:xfrm>
        <a:graphic>
          <a:graphicData uri="http://schemas.openxmlformats.org/drawingml/2006/table">
            <a:tbl>
              <a:tblPr/>
              <a:tblGrid>
                <a:gridCol w="2093760"/>
                <a:gridCol w="4606920"/>
                <a:gridCol w="766800"/>
              </a:tblGrid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rsery school playgroup or kindergar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-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ception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a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ar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a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ar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ar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imary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nior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ar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ar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ar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ar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ar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condar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85800" y="304920"/>
          <a:ext cx="7391520" cy="3809880"/>
        </p:xfrm>
        <a:graphic>
          <a:graphicData uri="http://schemas.openxmlformats.org/drawingml/2006/table">
            <a:tbl>
              <a:tblPr/>
              <a:tblGrid>
                <a:gridCol w="2697120"/>
                <a:gridCol w="3735360"/>
                <a:gridCol w="959040"/>
              </a:tblGrid>
              <a:tr h="11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ar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ar 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xth form colle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rst year ( fresh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cond 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rd/fina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versity or Polytech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stgradu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vers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</a:tr>
            </a:tbl>
          </a:graphicData>
        </a:graphic>
      </p:graphicFrame>
      <p:pic>
        <p:nvPicPr>
          <p:cNvPr id="167" name="Picture 54" descr="Рисунок1"/>
          <p:cNvPicPr/>
          <p:nvPr/>
        </p:nvPicPr>
        <p:blipFill>
          <a:blip r:embed="rId1"/>
          <a:stretch/>
        </p:blipFill>
        <p:spPr>
          <a:xfrm>
            <a:off x="2819520" y="4114800"/>
            <a:ext cx="3276360" cy="2133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b8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b800"/>
                </a:solidFill>
                <a:latin typeface="Comic Sans MS"/>
              </a:rPr>
              <a:t>Primary School</a:t>
            </a:r>
            <a:r>
              <a:rPr b="0" lang="ru-RU" sz="2800" spc="-1" strike="noStrike">
                <a:solidFill>
                  <a:srgbClr val="ffb800"/>
                </a:solidFill>
                <a:latin typeface="Comic Sans MS"/>
              </a:rPr>
              <a:t> – </a:t>
            </a:r>
            <a:r>
              <a:rPr b="1" i="1" lang="ru-RU" sz="2800" spc="-1" strike="noStrike">
                <a:solidFill>
                  <a:srgbClr val="ffb800"/>
                </a:solidFill>
                <a:latin typeface="Comic Sans MS"/>
              </a:rPr>
              <a:t>начальная школ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620120" cy="304776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два обязательных предмет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нглийский язык и математик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по выбору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стория, география, музыка, искусство, естественные науки, информационные технологии, дизайн, религ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5" descr="b1330"/>
          <p:cNvPicPr/>
          <p:nvPr/>
        </p:nvPicPr>
        <p:blipFill>
          <a:blip r:embed="rId1"/>
          <a:stretch/>
        </p:blipFill>
        <p:spPr>
          <a:xfrm>
            <a:off x="609480" y="4419720"/>
            <a:ext cx="3353040" cy="2133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68a56b23_h"/>
          <p:cNvPicPr/>
          <p:nvPr/>
        </p:nvPicPr>
        <p:blipFill>
          <a:blip r:embed="rId2"/>
          <a:stretch/>
        </p:blipFill>
        <p:spPr>
          <a:xfrm>
            <a:off x="5334120" y="4419720"/>
            <a:ext cx="304776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b8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f66"/>
                </a:solidFill>
                <a:latin typeface="Comic Sans MS"/>
              </a:rPr>
              <a:t>Secondary School  – средняя школ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3200400" cy="4572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57240" y="990720"/>
            <a:ext cx="4724280" cy="533376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3 главных предмет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нглийский язык, математика и нау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ых предметов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история, технология, география, музыка, искусство,религия, современный иностранный язы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в возрасте 14-16 лет должны изучать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3 главных предмета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, технологию, современный иностранный язык и физкультуру, плюс историю или географи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8" descr="teacher"/>
          <p:cNvPicPr/>
          <p:nvPr/>
        </p:nvPicPr>
        <p:blipFill>
          <a:blip r:embed="rId2"/>
          <a:stretch/>
        </p:blipFill>
        <p:spPr>
          <a:xfrm>
            <a:off x="609480" y="1066680"/>
            <a:ext cx="304812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620120" cy="761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b8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ef66"/>
                </a:solidFill>
                <a:latin typeface="Comic Sans MS"/>
              </a:rPr>
              <a:t>Further education</a:t>
            </a:r>
            <a:r>
              <a:rPr b="0" lang="ru-RU" sz="2800" spc="-1" strike="noStrike">
                <a:solidFill>
                  <a:srgbClr val="ffef66"/>
                </a:solidFill>
                <a:latin typeface="Comic Sans MS"/>
              </a:rPr>
              <a:t>  (</a:t>
            </a:r>
            <a:r>
              <a:rPr b="1" lang="en-US" sz="2800" spc="-1" strike="noStrike">
                <a:solidFill>
                  <a:srgbClr val="ffef66"/>
                </a:solidFill>
                <a:latin typeface="Comic Sans MS"/>
              </a:rPr>
              <a:t>Sixth Form College</a:t>
            </a: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218960"/>
            <a:ext cx="7696080" cy="472428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учащихся в возрасте 16-18 ле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учение 3-4 предметов на продвинутом уровне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evel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дают экзамены и получаю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Свидетельство о среднем образовании продвинутого уровн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 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GCE A -level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General Certificate of Education Advanced Level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, с которым можно без экзаменов поступать в британские и некоторые другие зарубежные университет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index_new_03"/>
          <p:cNvPicPr/>
          <p:nvPr/>
        </p:nvPicPr>
        <p:blipFill>
          <a:blip r:embed="rId1"/>
          <a:stretch/>
        </p:blipFill>
        <p:spPr>
          <a:xfrm>
            <a:off x="3429000" y="1795320"/>
            <a:ext cx="2209680" cy="2048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C41-06"/>
          <p:cNvPicPr/>
          <p:nvPr/>
        </p:nvPicPr>
        <p:blipFill>
          <a:blip r:embed="rId2"/>
          <a:stretch/>
        </p:blipFill>
        <p:spPr>
          <a:xfrm>
            <a:off x="914400" y="533520"/>
            <a:ext cx="3105000" cy="5200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b800"/>
                </a:solidFill>
                <a:latin typeface="Comic Sans MS"/>
              </a:rPr>
              <a:t>Учебный го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94920"/>
            <a:ext cx="7696080" cy="487692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школьный год с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ентября по ию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и триместра по 13 недель каждый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осенний триместр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 с сентября до середины декабр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весенний триместр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 с января до середины или конца март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летний триместр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 с начала или середины апреля до середины июл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манов</cp:lastModifiedBy>
  <dcterms:modified xsi:type="dcterms:W3CDTF">2013-01-28T12:25:5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