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gif" ContentType="image/gif"/>
  <Override PartName="/ppt/media/image3.jpeg" ContentType="image/jpeg"/>
  <Override PartName="/ppt/media/image14.wmf" ContentType="image/x-wmf"/>
  <Override PartName="/ppt/media/image2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6.wmf" ContentType="image/x-wmf"/>
  <Override PartName="/ppt/media/image5.gif" ContentType="image/gif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7F7D-80C4-409B-A70E-507B619987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700A-6E38-431D-BA40-76C0E522CA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41D-4C28-4489-98DF-6F7D8884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0C1-DA43-4F07-8770-B28D4550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89D-EB74-45D1-B2DC-8601B9E4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AE9-002E-4D09-B7AC-825126F1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1A2D-9A94-4A21-AC6B-744A11C6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2614-564B-4CE2-A8AE-9D5E1938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1C7A-B99E-4639-9ED5-3532692F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2470-FBA2-4751-96C1-54CBB61F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2579-1C53-4ADE-BE27-FBD5FB04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D84B-722C-487E-9441-0BB4E1A1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2669-0D4E-487B-8999-73D64CB2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905-3F37-4F7C-B04E-382B46E4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5AB5-7295-4CB1-AD70-DBC7A72F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919D-7FF3-4914-9B63-FC68098F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176D-9638-43A4-9500-3C441784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1337-E300-4B75-AC34-0478BB3F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AAE3-16E0-4C4C-A054-AF0D042E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21F-16D7-44C1-BEBD-C3C6C9FD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63E6-4F80-425F-AA73-687E32FA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B16-D7D5-4ED4-A14A-F1C30758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EF0-311A-40EE-B360-7FB748BF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2BC-290D-4BF5-8C3C-715D11F2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95F-F5D2-436E-A120-C3F57EA1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421-DCA8-4E9A-B7FF-E2938E2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2698-9B30-4B96-BF1A-4ABDE7455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D958-B87D-4D94-903A-E540BD90C1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eganom.org/out/program/college/30.html" TargetMode="External"/><Relationship Id="rId2" Type="http://schemas.openxmlformats.org/officeDocument/2006/relationships/hyperlink" Target="http://www.meganom.org/out/program/college/30.html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895760"/>
            <a:ext cx="6400800" cy="2219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190760"/>
            <a:ext cx="603252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полнено ученицей 7 «В» класс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СОШ №152 г. Челябинс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Ходас Евгение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учный руководитель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английского языка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СОШ № 152 г. Челябинс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рманова А.Р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WordArt 7"/>
          <p:cNvSpPr txBox="1"/>
          <p:nvPr/>
        </p:nvSpPr>
        <p:spPr>
          <a:xfrm>
            <a:off x="1447920" y="205740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СИСТЕМА ШКОЛЬН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latin typeface="Arial"/>
              </a:rPr>
              <a:t>ОБРАЗОВАНИЯ В ВЕЛИКОБРИТ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ипы школ в Англ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447920"/>
            <a:ext cx="7696080" cy="441936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общеобразовательны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comprehensive schools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)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углубленным изучением предметов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grammar schools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средние специальны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secondary modern schools)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ипы школ в Англ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447920"/>
            <a:ext cx="7696080" cy="41148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невные школы - Day Schools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Школы-пансионы-Boarding School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частны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-Private Boarding Schools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государственны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-State Boarding Schoo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9" descr="dv01-4179"/>
          <p:cNvPicPr/>
          <p:nvPr/>
        </p:nvPicPr>
        <p:blipFill>
          <a:blip r:embed="rId1"/>
          <a:stretch/>
        </p:blipFill>
        <p:spPr>
          <a:xfrm>
            <a:off x="1295280" y="609480"/>
            <a:ext cx="6407280" cy="5334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Экзамен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294920"/>
            <a:ext cx="7696080" cy="48006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ерия экзамено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 основным предмета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-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алльной шкал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реднем 70 национальных тесто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6 лет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6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кзаменов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британский сертификат о средне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образовании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GCSE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General Certificate of Secondary Educati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18 лет 3-5 экзаменов н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видетельство о среднем образовании продвинутого уровн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i="1" lang="ru-RU" sz="2800" spc="-1" strike="noStrike">
                <a:solidFill>
                  <a:srgbClr val="00b200"/>
                </a:solidFill>
                <a:latin typeface="Comic Sans MS"/>
              </a:rPr>
              <a:t>GCE A-level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 (General Certificate of Education Advanced Level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)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истема оцено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42640"/>
            <a:ext cx="7772400" cy="53341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бщая оценка за экзамены GCSE: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исьменный экзамен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успеваемость за все годы учебы,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ипломный проек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Оценки ставятся буквам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*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наша оценка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+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+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 (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ниверситеты принимают с оценками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*, А, В, С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Школьная форм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ля девоч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828440"/>
            <a:ext cx="7696080" cy="44197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елая  блузка ( иногда галстук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мная жилетка с тёмной юбкой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огда холодно - береты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уфли - тёмные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 каблуках ходить запрещено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Школьная форм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ля мальчик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371600"/>
            <a:ext cx="7696080" cy="50292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убашка и галстук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ёмные брюки и тёмная жилетка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место береток бейсболки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портивные куртки с эмблемой своей школ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сновные цвета школьной формы: синий, жёлтый, серый, тёмно-коричневый  и др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E:\Disk\Марина\Германия.jpg1.jpg"/>
          <p:cNvPicPr/>
          <p:nvPr/>
        </p:nvPicPr>
        <p:blipFill>
          <a:blip r:embed="rId1"/>
          <a:stretch/>
        </p:blipFill>
        <p:spPr>
          <a:xfrm>
            <a:off x="5410080" y="304920"/>
            <a:ext cx="2590920" cy="3733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96" name="Picture 8" descr="2499_big"/>
          <p:cNvPicPr/>
          <p:nvPr/>
        </p:nvPicPr>
        <p:blipFill>
          <a:blip r:embed="rId2"/>
          <a:stretch/>
        </p:blipFill>
        <p:spPr>
          <a:xfrm>
            <a:off x="1143000" y="380880"/>
            <a:ext cx="4038480" cy="2549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005"/>
          <p:cNvPicPr/>
          <p:nvPr/>
        </p:nvPicPr>
        <p:blipFill>
          <a:blip r:embed="rId3"/>
          <a:stretch/>
        </p:blipFill>
        <p:spPr>
          <a:xfrm>
            <a:off x="1143000" y="3124080"/>
            <a:ext cx="4038480" cy="3353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crow1"/>
          <p:cNvPicPr/>
          <p:nvPr/>
        </p:nvPicPr>
        <p:blipFill>
          <a:blip r:embed="rId4"/>
          <a:stretch/>
        </p:blipFill>
        <p:spPr>
          <a:xfrm>
            <a:off x="5715000" y="4648320"/>
            <a:ext cx="2533680" cy="1600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365760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ll Tim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7" descr="69"/>
          <p:cNvPicPr/>
          <p:nvPr/>
        </p:nvPicPr>
        <p:blipFill>
          <a:blip r:embed="rId1"/>
          <a:stretch/>
        </p:blipFill>
        <p:spPr>
          <a:xfrm>
            <a:off x="228600" y="914400"/>
            <a:ext cx="3352680" cy="28954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9880" y="533160"/>
            <a:ext cx="4572000" cy="56386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.40 a.m. – School begi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.45 a.m. – Regist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.50 a.m. – Assembly bel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00 a.m. – Pupils move to less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05 a.m. – Lesson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.45 a.m. – Lesson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.25 a.m. – Lesson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.05 a.m. – Brea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.25 a.m. – Pupils move to less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.30 a.m. – Lesson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.10 p.m. – Lesson 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.50 p.m. - Lunch 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40 p.m –Afternoon school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begi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45 p.m. – Regist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50 p.m. – Lesson  6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.30 p.m. - Lesson 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10 p.m. – End of normal less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.10 p.m. – Start of additional lessons, clubs, societies, team practice, detentions, et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8" descr="Рисунок2"/>
          <p:cNvPicPr/>
          <p:nvPr/>
        </p:nvPicPr>
        <p:blipFill>
          <a:blip r:embed="rId2"/>
          <a:stretch/>
        </p:blipFill>
        <p:spPr>
          <a:xfrm>
            <a:off x="685800" y="3886200"/>
            <a:ext cx="26161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98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98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98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98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98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98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98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98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98" fill="hold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98" fill="hold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98" fill="hold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98" fill="hold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98" fill="hold"/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98" fill="hold"/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98" fill="hold"/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86200" y="1218960"/>
            <a:ext cx="403848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6" descr="380"/>
          <p:cNvPicPr/>
          <p:nvPr/>
        </p:nvPicPr>
        <p:blipFill>
          <a:blip r:embed="rId1"/>
          <a:stretch/>
        </p:blipFill>
        <p:spPr>
          <a:xfrm>
            <a:off x="4024440" y="3238560"/>
            <a:ext cx="1019160" cy="838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41-32"/>
          <p:cNvPicPr/>
          <p:nvPr/>
        </p:nvPicPr>
        <p:blipFill>
          <a:blip r:embed="rId2"/>
          <a:stretch/>
        </p:blipFill>
        <p:spPr>
          <a:xfrm>
            <a:off x="685800" y="152280"/>
            <a:ext cx="3029040" cy="54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b8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b800"/>
                </a:solidFill>
                <a:latin typeface="Comic Sans MS"/>
              </a:rPr>
              <a:t>Особенности образова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294920"/>
            <a:ext cx="7696080" cy="48769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кольное обучение  в Англии длится 13 л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ногие  школы организованы по системе раздельного обучения  мальчиков и девоч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школах Англии ученики обязательно должны носить фор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частных школах Англии очень строгая дисципл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разование в Англии обязательно для всех граждан в возрасте от 5 до 16 ле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British scho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143000"/>
          <a:ext cx="7467480" cy="5370480"/>
        </p:xfrm>
        <a:graphic>
          <a:graphicData uri="http://schemas.openxmlformats.org/drawingml/2006/table">
            <a:tbl>
              <a:tblPr/>
              <a:tblGrid>
                <a:gridCol w="2093760"/>
                <a:gridCol w="4606920"/>
                <a:gridCol w="766800"/>
              </a:tblGrid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rsery school playgroup or kindergar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-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ception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ary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nior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ondar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304920"/>
          <a:ext cx="7391520" cy="3809880"/>
        </p:xfrm>
        <a:graphic>
          <a:graphicData uri="http://schemas.openxmlformats.org/drawingml/2006/table">
            <a:tbl>
              <a:tblPr/>
              <a:tblGrid>
                <a:gridCol w="2697120"/>
                <a:gridCol w="3735360"/>
                <a:gridCol w="95904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ar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xth form colle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17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rst year ( fresh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ond 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rd/fin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ersity or Polytech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stgradu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er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</a:tbl>
          </a:graphicData>
        </a:graphic>
      </p:graphicFrame>
      <p:pic>
        <p:nvPicPr>
          <p:cNvPr id="167" name="Picture 54" descr="Рисунок1"/>
          <p:cNvPicPr/>
          <p:nvPr/>
        </p:nvPicPr>
        <p:blipFill>
          <a:blip r:embed="rId1"/>
          <a:stretch/>
        </p:blipFill>
        <p:spPr>
          <a:xfrm>
            <a:off x="2819520" y="4114800"/>
            <a:ext cx="3276360" cy="2133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b8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b800"/>
                </a:solidFill>
                <a:latin typeface="Comic Sans MS"/>
              </a:rPr>
              <a:t>Primary School</a:t>
            </a:r>
            <a:r>
              <a:rPr b="0" lang="ru-RU" sz="2800" spc="-1" strike="noStrike">
                <a:solidFill>
                  <a:srgbClr val="ffb800"/>
                </a:solidFill>
                <a:latin typeface="Comic Sans MS"/>
              </a:rPr>
              <a:t> – </a:t>
            </a:r>
            <a:r>
              <a:rPr b="1" i="1" lang="ru-RU" sz="2800" spc="-1" strike="noStrike">
                <a:solidFill>
                  <a:srgbClr val="ffb800"/>
                </a:solidFill>
                <a:latin typeface="Comic Sans MS"/>
              </a:rPr>
              <a:t>начальная шко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620120" cy="304776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ва обязательных предмет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глийский язык и математик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 выбору: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стория, география, музыка, искусство, естественные науки, информационные технологии, дизайн, религ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b1330"/>
          <p:cNvPicPr/>
          <p:nvPr/>
        </p:nvPicPr>
        <p:blipFill>
          <a:blip r:embed="rId1"/>
          <a:stretch/>
        </p:blipFill>
        <p:spPr>
          <a:xfrm>
            <a:off x="609480" y="4419720"/>
            <a:ext cx="3353040" cy="2133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68a56b23_h"/>
          <p:cNvPicPr/>
          <p:nvPr/>
        </p:nvPicPr>
        <p:blipFill>
          <a:blip r:embed="rId2"/>
          <a:stretch/>
        </p:blipFill>
        <p:spPr>
          <a:xfrm>
            <a:off x="5334120" y="4419720"/>
            <a:ext cx="304776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b8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ef66"/>
                </a:solidFill>
                <a:latin typeface="Comic Sans MS"/>
              </a:rPr>
              <a:t>Secondary School  – средняя школ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3200400" cy="4572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240" y="990720"/>
            <a:ext cx="4724280" cy="533376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3 главных предмет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нглийский язык, математика и наук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х предметов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история, технология, география, музыка, искусство,религия, современный иностранный язы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 возрасте 14-16 лет должны изучать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3 главных предмета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, технологию, современный иностранный язык и физкультуру, плюс историю или географи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8" descr="teacher"/>
          <p:cNvPicPr/>
          <p:nvPr/>
        </p:nvPicPr>
        <p:blipFill>
          <a:blip r:embed="rId2"/>
          <a:stretch/>
        </p:blipFill>
        <p:spPr>
          <a:xfrm>
            <a:off x="609480" y="1066680"/>
            <a:ext cx="304812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62012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b8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ef66"/>
                </a:solidFill>
                <a:latin typeface="Comic Sans MS"/>
              </a:rPr>
              <a:t>Further education</a:t>
            </a:r>
            <a:r>
              <a:rPr b="0" lang="ru-RU" sz="2800" spc="-1" strike="noStrike">
                <a:solidFill>
                  <a:srgbClr val="ffef66"/>
                </a:solidFill>
                <a:latin typeface="Comic Sans MS"/>
              </a:rPr>
              <a:t>  (</a:t>
            </a:r>
            <a:r>
              <a:rPr b="1" lang="en-US" sz="2800" spc="-1" strike="noStrike">
                <a:solidFill>
                  <a:srgbClr val="ffef66"/>
                </a:solidFill>
                <a:latin typeface="Comic Sans MS"/>
              </a:rPr>
              <a:t>Sixth Form College</a:t>
            </a:r>
            <a:r>
              <a:rPr b="1" lang="ru-RU" sz="2800" spc="-1" strike="noStrike">
                <a:solidFill>
                  <a:srgbClr val="ffef66"/>
                </a:solidFill>
                <a:latin typeface="Comic Sans MS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1218960"/>
            <a:ext cx="7696080" cy="47242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учащихся в возрасте 16-18 ле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учение 3-4 предметов на продвинутом уровне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evel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дают экзамены и получаю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видетельство о среднем образовании продвинутого уровн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 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GCE A -level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General Certificate of Education Advanced Level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, с которым можно без экзаменов поступать в британские и некоторые другие зарубежные университет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index_new_03"/>
          <p:cNvPicPr/>
          <p:nvPr/>
        </p:nvPicPr>
        <p:blipFill>
          <a:blip r:embed="rId1"/>
          <a:stretch/>
        </p:blipFill>
        <p:spPr>
          <a:xfrm>
            <a:off x="3429000" y="1795320"/>
            <a:ext cx="2209680" cy="2048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41-06"/>
          <p:cNvPicPr/>
          <p:nvPr/>
        </p:nvPicPr>
        <p:blipFill>
          <a:blip r:embed="rId2"/>
          <a:stretch/>
        </p:blipFill>
        <p:spPr>
          <a:xfrm>
            <a:off x="914400" y="533520"/>
            <a:ext cx="3105000" cy="5200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b800"/>
                </a:solidFill>
                <a:latin typeface="Comic Sans MS"/>
              </a:rPr>
              <a:t>Учебный го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94920"/>
            <a:ext cx="7696080" cy="487692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кольный год с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ентября по ию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и триместра по 13 недель кажды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осенний тримест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с сентября до середины декабр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весенний тримест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с января до середины или конца март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летний триместр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с начала или середины апреля до середины июл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манов</cp:lastModifiedBy>
  <dcterms:modified xsi:type="dcterms:W3CDTF">2013-01-28T12:25:5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