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EE5C-7E00-4ADA-8A69-658A4E041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063D-CE2C-42EC-9AC8-8300FEF8B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9ABF-F0C4-4F60-B4E0-086FBAAAB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A549-9E91-4355-AFB9-8831E6A03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5238-EBA5-46EC-A1D1-4B02ABB5A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6A9C-407D-4E10-9175-23BA34C664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9FD9-A711-4C1F-93E6-63650E55AC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1B73-FA1A-4F28-9A85-A572DBC2F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C53-4ADC-45E0-9E91-3873B30E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CD4-14C3-4486-B1D2-59B8419A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BC7-328E-40FC-8017-79ABDD09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345-7A61-4D2F-A2A8-D73E9703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3CF-96F3-428D-9EF9-E9EB696F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656-D2CE-4374-8C00-76367D2F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F96-CCE4-480E-B298-54BEE097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0E6-AB20-4AF3-AC93-60B0A2AA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737-D84C-462B-BE8C-17A200F5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030-A20A-41CF-BB84-F44E178D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BE0-86FB-4274-843B-9E80ADE1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F23-5CDD-430D-B3A3-CB0B0CA4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B767-D7F7-4084-8697-30FC95DD4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rubtsov.id.ru/photo/photo1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rubtsov.id.ru/photo/photo54.jpg"/>
          <p:cNvPicPr/>
          <p:nvPr/>
        </p:nvPicPr>
        <p:blipFill>
          <a:blip r:embed="rId1"/>
          <a:stretch/>
        </p:blipFill>
        <p:spPr>
          <a:xfrm>
            <a:off x="4267080" y="0"/>
            <a:ext cx="47246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rubtsov.id.ru/photo/photo34.jpg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477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тературном семинаре В.Лид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hoto33.jpg (6053 bytes)"/>
          <p:cNvPicPr/>
          <p:nvPr/>
        </p:nvPicPr>
        <p:blipFill>
          <a:blip r:embed="rId1"/>
          <a:stretch/>
        </p:blipFill>
        <p:spPr>
          <a:xfrm>
            <a:off x="0" y="0"/>
            <a:ext cx="510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Лидин вручает диплом об окончании литературного института Н. Рубцову 1969 г. Моск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rubtsov.id.ru/photo/photo17.jpg"/>
          <p:cNvPicPr/>
          <p:nvPr/>
        </p:nvPicPr>
        <p:blipFill>
          <a:blip r:embed="rId1"/>
          <a:stretch/>
        </p:blipFill>
        <p:spPr>
          <a:xfrm>
            <a:off x="1676520" y="152280"/>
            <a:ext cx="59436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hoto138"/>
          <p:cNvPicPr/>
          <p:nvPr/>
        </p:nvPicPr>
        <p:blipFill>
          <a:blip r:embed="rId1"/>
          <a:stretch/>
        </p:blipFill>
        <p:spPr>
          <a:xfrm>
            <a:off x="19810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hoto119"/>
          <p:cNvPicPr/>
          <p:nvPr/>
        </p:nvPicPr>
        <p:blipFill>
          <a:blip r:embed="rId1"/>
          <a:stretch/>
        </p:blipFill>
        <p:spPr>
          <a:xfrm>
            <a:off x="1219320" y="0"/>
            <a:ext cx="6400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photo190"/>
          <p:cNvPicPr/>
          <p:nvPr/>
        </p:nvPicPr>
        <p:blipFill>
          <a:blip r:embed="rId1"/>
          <a:stretch/>
        </p:blipFill>
        <p:spPr>
          <a:xfrm>
            <a:off x="205740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9-01-23T08:25:1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