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64DF-4BA6-432E-8EA7-2A9C0382B5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8FCB-A28F-4DB2-B793-E67858B809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43EB-DA78-471F-8B8D-665E2BA63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801B-42CE-4063-81D1-DEED9A229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6807-68BD-4D34-AB75-6F7D9315D0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2252-94A6-4629-96AB-DC96EA5C38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648B-3379-4A80-9219-1A8EF4C47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6147-4F84-474D-AC68-C6D68DF1C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8DB-93A2-4254-9AF2-B5612749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676-5EF4-472C-84F5-AD284825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476-8DEB-4F45-B678-E5A5BF4D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B01-A173-4B5E-A756-173A1242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B92-7968-4ADC-93A6-B3A8A9F9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E78-5B89-4E02-85AE-46A054E8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444-0C03-4AE5-AB5D-244FF0DD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11E-E4E6-4CB0-BB9B-FC114EFC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987-5570-4C53-93DE-DB432657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377-6A7A-4899-8E11-3DE676C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89A-3D0D-4821-AC55-7F27BA49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B6C-F271-421D-B36D-4569B695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8B8B-D3D0-4929-AA14-01EA7C735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rubtsov.id.ru/photo/photo1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rubtsov.id.ru/photo/photo54.jpg"/>
          <p:cNvPicPr/>
          <p:nvPr/>
        </p:nvPicPr>
        <p:blipFill>
          <a:blip r:embed="rId1"/>
          <a:stretch/>
        </p:blipFill>
        <p:spPr>
          <a:xfrm>
            <a:off x="4267080" y="0"/>
            <a:ext cx="47246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ttp://rubtsov.id.ru/photo/photo34.jpg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477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тературном семинаре В.Лид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hoto33.jpg (6053 bytes)"/>
          <p:cNvPicPr/>
          <p:nvPr/>
        </p:nvPicPr>
        <p:blipFill>
          <a:blip r:embed="rId1"/>
          <a:stretch/>
        </p:blipFill>
        <p:spPr>
          <a:xfrm>
            <a:off x="0" y="0"/>
            <a:ext cx="510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Лидин вручает диплом об окончании литературного института Н. Рубцову 1969 г. Моск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rubtsov.id.ru/photo/photo17.jpg"/>
          <p:cNvPicPr/>
          <p:nvPr/>
        </p:nvPicPr>
        <p:blipFill>
          <a:blip r:embed="rId1"/>
          <a:stretch/>
        </p:blipFill>
        <p:spPr>
          <a:xfrm>
            <a:off x="1676520" y="152280"/>
            <a:ext cx="59436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photo138"/>
          <p:cNvPicPr/>
          <p:nvPr/>
        </p:nvPicPr>
        <p:blipFill>
          <a:blip r:embed="rId1"/>
          <a:stretch/>
        </p:blipFill>
        <p:spPr>
          <a:xfrm>
            <a:off x="198108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hoto119"/>
          <p:cNvPicPr/>
          <p:nvPr/>
        </p:nvPicPr>
        <p:blipFill>
          <a:blip r:embed="rId1"/>
          <a:stretch/>
        </p:blipFill>
        <p:spPr>
          <a:xfrm>
            <a:off x="1219320" y="0"/>
            <a:ext cx="6400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photo190"/>
          <p:cNvPicPr/>
          <p:nvPr/>
        </p:nvPicPr>
        <p:blipFill>
          <a:blip r:embed="rId1"/>
          <a:stretch/>
        </p:blipFill>
        <p:spPr>
          <a:xfrm>
            <a:off x="205740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9-01-23T08:25:1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