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3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FECF-F5C5-40A8-8760-2F2A69BE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A0E-5D44-4ECD-93B9-EA325B44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239-9B70-4390-9DE7-55E2B211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B6DE-26F9-4DFD-839E-88A05517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F593-3085-4095-BF1A-E5E41EEF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EED7-9C10-43BE-A564-D0CC0041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3C2A-9536-4DBA-B7DF-62D0D0AA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0393-04B5-4D81-A0F6-51D287C1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8A08-F222-4344-838E-3974A383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DCED-B84D-40F0-BE25-31A05CE3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F6C8-0DB5-4D90-8AC6-7E0DF667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CD8-0822-4ADB-A8FD-4EDDDA00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ECF4-11ED-4279-A434-A982FD25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6728-55F0-44D7-A83C-886B0016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7F2A-74E0-46FC-82C4-DC25207F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4C3E-722D-4135-8D19-5EDA499F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F540-777C-43DC-9621-646A83BD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373DC-6506-4C77-BED8-0F1EC6D0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0AF76-88E5-49B2-A050-D4FB8BA9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C9FDE-E2FB-4F76-BE6A-3A79BCED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7CCDA-A423-417A-9E86-80F95D8F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8F8DD-3252-4C8C-9879-8B88794B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25CA-D0FC-4BB2-92B9-B9EA45EE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ACF73-0AE6-4197-B9A3-0F94DA32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728CA-4EA9-4A0B-A48D-093C1A2C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6B049-C668-422B-8E19-935F3E65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BA86C-543F-4007-A138-A574DC45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F2986-77B2-4F31-9CD6-8A314FE6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2FBBE-54FB-4498-8935-827D0133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A9457-C83D-441D-9490-E2BF6E38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89C8D-1233-4342-AEC1-71968C2E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EA66A-614F-4EA3-BFD4-A4E12F69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20DE5-FC07-404A-A7C0-DFD5B94D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D22D-4ECB-482B-AF58-201473D3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FD923-42CC-4FDD-8435-4BEF1E38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BCB44-8A8A-4F4F-9004-16CCB498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45FCB-E835-4F7B-8F72-FB851820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DCB9F-1E7D-402B-A16B-2E17B2F9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82B1F-CE32-4772-8663-B1621328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546EF-3735-48D6-9C59-FE1E1E26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74ADE-338E-4EDE-A0BA-49835AA8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6663A-E1BA-44B7-B35F-E05B349A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1C3A2-B310-4B2B-9B6F-44F22BDA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D37D0-4A6E-4815-9932-85A8D76D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8BDD-FF8C-49C0-AED5-383803A9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D2A77-7385-48C6-8EBA-8A95DD28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91638-A1DB-43A0-8A85-D95FB68C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FD439-6038-481F-9333-36238A3E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033AA-CBE6-4BB6-9DBF-A9CC7026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C35A3-7A56-44B7-99BD-035BF604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DD427-70BA-4225-9C3E-579CFC40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0BD94-8A44-46E0-A6B5-66BE18E5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90B40-59C0-450A-B244-B27022C6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E3BCF-F128-4DC4-A298-D901F678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E8C15-4A28-4944-B914-54D56473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FFA-B339-4B29-8103-486A76A4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81F0F-6024-4579-83C4-2E06DB78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94F60-2D66-4AC3-809F-71D46259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1B1538-2FE8-4ED0-A530-03B803E9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223BC8-667C-4CA8-85E2-3D1E1468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815901-E93F-4D4D-82D5-7ABA0F5C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A9347A-AC59-4B2C-A05E-229D7507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52C5E-61BC-4967-A452-910E156B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8078AC-BD32-46EF-AE87-14907A54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804F97-F281-4B7A-BF61-77BBF4F3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48ACE4-4A6F-4FDF-814C-37FBAF72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B335-F800-42CE-B92A-99192D14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6FEF4-B769-449C-898E-17CAC3DA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5FAF42-3121-4204-974D-D1C1D06A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ED62DD-41F2-4417-B4D4-A7B4946D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E87-C5CB-4F1F-9D0A-88967E8A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97B-A757-4D22-80A5-7239E846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F717-F8A9-4699-8769-E24999DF9D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4564-576E-420F-A768-A2C570560C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60AB-1A95-43C3-9034-901129ABD8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AC00-2573-41B1-B27E-8C20CD824D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0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BA68-AD0A-489C-81A9-193B21FD4F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4708-E6FE-4A13-8177-FF1703A8EE6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лассный руководитель: Е.В. Медведе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оябрь, 2008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 Black"/>
              </a:rPr>
              <a:t>Домашние любимцы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03" name="Picture 5" descr="j0216724"/>
          <p:cNvPicPr/>
          <p:nvPr/>
        </p:nvPicPr>
        <p:blipFill>
          <a:blip r:embed="rId1"/>
          <a:stretch/>
        </p:blipFill>
        <p:spPr>
          <a:xfrm>
            <a:off x="5076720" y="2708280"/>
            <a:ext cx="367344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КВАРИУ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457200" y="1700280"/>
            <a:ext cx="8229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"/>
          <p:cNvPicPr/>
          <p:nvPr/>
        </p:nvPicPr>
        <p:blipFill>
          <a:blip r:embed="rId1"/>
          <a:stretch/>
        </p:blipFill>
        <p:spPr>
          <a:xfrm>
            <a:off x="257040" y="500040"/>
            <a:ext cx="862812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3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еша и Даш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09" name="Picture 4" descr="IMG_0023"/>
          <p:cNvPicPr/>
          <p:nvPr/>
        </p:nvPicPr>
        <p:blipFill>
          <a:blip r:embed="rId1"/>
          <a:stretch/>
        </p:blipFill>
        <p:spPr>
          <a:xfrm>
            <a:off x="1332000" y="1268280"/>
            <a:ext cx="64087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137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7756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2521080" cy="2017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2"/>
          <a:stretch/>
        </p:blipFill>
        <p:spPr>
          <a:xfrm>
            <a:off x="6372360" y="2060640"/>
            <a:ext cx="2447640" cy="1944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"/>
          <p:cNvPicPr/>
          <p:nvPr/>
        </p:nvPicPr>
        <p:blipFill>
          <a:blip r:embed="rId3"/>
          <a:stretch/>
        </p:blipFill>
        <p:spPr>
          <a:xfrm>
            <a:off x="539640" y="4869000"/>
            <a:ext cx="2232000" cy="1447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0" descr=""/>
          <p:cNvPicPr/>
          <p:nvPr/>
        </p:nvPicPr>
        <p:blipFill>
          <a:blip r:embed="rId4"/>
          <a:stretch/>
        </p:blipFill>
        <p:spPr>
          <a:xfrm>
            <a:off x="6156360" y="4365720"/>
            <a:ext cx="2987640" cy="2084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"/>
          <p:cNvPicPr/>
          <p:nvPr/>
        </p:nvPicPr>
        <p:blipFill>
          <a:blip r:embed="rId5"/>
          <a:stretch/>
        </p:blipFill>
        <p:spPr>
          <a:xfrm>
            <a:off x="3419640" y="2205000"/>
            <a:ext cx="2376360" cy="1762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3" descr=""/>
          <p:cNvPicPr/>
          <p:nvPr/>
        </p:nvPicPr>
        <p:blipFill>
          <a:blip r:embed="rId6"/>
          <a:stretch/>
        </p:blipFill>
        <p:spPr>
          <a:xfrm>
            <a:off x="1403280" y="0"/>
            <a:ext cx="2737080" cy="1628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4" descr=""/>
          <p:cNvPicPr/>
          <p:nvPr/>
        </p:nvPicPr>
        <p:blipFill>
          <a:blip r:embed="rId7"/>
          <a:stretch/>
        </p:blipFill>
        <p:spPr>
          <a:xfrm>
            <a:off x="3203640" y="4581360"/>
            <a:ext cx="2520720" cy="2276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6" descr=""/>
          <p:cNvPicPr/>
          <p:nvPr/>
        </p:nvPicPr>
        <p:blipFill>
          <a:blip r:embed="rId8"/>
          <a:stretch/>
        </p:blipFill>
        <p:spPr>
          <a:xfrm>
            <a:off x="5580000" y="0"/>
            <a:ext cx="280836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9:15:03Z</dcterms:created>
  <dc:creator>Елена</dc:creator>
  <dc:description/>
  <dc:language>en-US</dc:language>
  <cp:lastModifiedBy>Пользователь</cp:lastModifiedBy>
  <dcterms:modified xsi:type="dcterms:W3CDTF">2013-04-02T17:33:58Z</dcterms:modified>
  <cp:revision>16</cp:revision>
  <dc:subject/>
  <dc:title>Слайд 1</dc:title>
</cp:coreProperties>
</file>