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EE3-86CB-403D-8F94-1097A65F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5C9-D4DD-429E-ACC0-E5426EAB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251-5D35-42A3-ACBA-416EE040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A28-A065-4CDB-BCA2-38768C44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4FF3-F242-4B76-B3FD-FCF15865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C11F-987D-499C-A887-69308A16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8A3A-77EF-4D7B-B0F6-6136CF70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D3E5-D4EA-4125-A445-1D1E918D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18E1-541B-45CE-A579-FF9D4C71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F7E3-93DE-4044-8ED8-46B5FE16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5AC8-7D3B-4571-9D94-F1744A57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07B-B66C-4780-8FAD-840944AB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155B-1B13-4BE2-87F0-9E6C951E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FC14-8C55-483B-A907-4A04D8CF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B59A-33CD-46F2-90FA-04D9CEC0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9E88-4128-4E92-AB48-BBB408A9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9C78-EDCC-4FD9-AA86-50CD821D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934C-F693-4458-BAC2-2193A467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4F92A-C17A-47C3-9B03-0BA1E852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F89C6-0CEA-4972-A048-33E955AC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3522D-BE76-437F-BDEB-34CE34C8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0D424-77DA-47A9-B288-508B4278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E8B-A79B-40A1-9DFE-D0AEBBA0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FDFE-78F8-450F-862A-DA79B43D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8FCD-91A4-4FE8-B6E9-05D52BC3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7B98B-D869-4512-881E-CE779C06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FF1D0-7FF9-45A1-B4CF-E9350F06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F13ED-E367-4A1C-8522-E9D54ED7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C483-30CD-4869-9BF6-4DF3887E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CFF09-D226-455A-B7ED-BD554117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C40CD-07F9-4C9C-B614-BBAAAA84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BA41F-D07F-4BC7-9434-0C2FD06C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5D9AA-A783-4B1B-BFF6-F517E016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483-B754-40A2-B00B-97496373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58CBF-AD19-4DC6-94F7-C578B25E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4AF10-8CDB-457F-81C8-52BD6942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499F9-F14A-4235-8352-3A351DCB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42EBB-74B4-41F8-9209-27D12126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CADEB-242A-42FC-911F-96E366D2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975EA-8B0F-42F3-A6EB-7CC6A7ED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12FE5-D8BE-430A-8D73-3F275156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D6F50-4826-4FC0-8CF8-31DE4C99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501AB-FEC1-4612-B39A-24A7200F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56E64-29C0-494B-BB53-AC548551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748-6073-44C8-8724-3D822D72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2CCFB-85DC-482B-ABA0-F6BA734C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92928-ABCD-4287-8C30-55B79D58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A05D9-9DFF-42EF-BD6E-57ECACC1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AC099-014E-4B70-B8A2-467CC2D8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162E1-0EEB-4784-BB4C-4C4EA997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9895B-12F2-45A8-BDEE-970546A4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9FA30-8DFF-469A-8703-C2CC9ECC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BA04C-9F03-456F-8FF4-A50073FC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EC14E-02A9-4995-9D63-F6761262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42E8C-D067-4C7D-975A-F7343D8F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33A-FF9F-480F-B7BC-8A5F9B6E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AF49D-5687-4DE0-B7C9-53AD53DA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E6E28-371B-4B1D-98D0-B1A060C2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8351BB-D3BA-4374-838D-F30174D7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6AB5C-70B1-4D78-8104-E4FAB436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24CC53-9A91-4670-B2A1-366E497E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E46000-1DCA-4CCF-88B1-26CC42B3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E1198-B49F-4949-87C2-E30773D3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D123B2-4A77-4D16-8B74-BBB98C96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768923-5EC2-41E2-B001-3234B692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420F3-3C0E-4BC9-9C9A-61031C0A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A71-160F-4D7D-BFFB-EB20A74B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59DFBA-703C-400B-8058-859F04A2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CF2D10-50CE-4CA0-994F-7ADAB77B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D7BDDF-AAE0-4E97-B38F-1F847E51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6CF-4F68-403D-99CA-36EE62BA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FAAA-8408-429B-B87D-86BEFBE2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D8E8-31D5-4AD4-8946-83B799A30D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19AB-8794-4D59-A7C9-C2159BCC9F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A93A-3713-4C57-BB05-455AD888A6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A4DB-92BE-4321-8A49-F1C51667F0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0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6EC1-100F-44BE-99C5-2DA4FADE71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C098-8E5F-451A-974B-3733245E714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лассный руководитель: Е.В. Медведе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оябрь, 2008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 Black"/>
              </a:rPr>
              <a:t>Домашние любимцы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03" name="Picture 5" descr="j0216724"/>
          <p:cNvPicPr/>
          <p:nvPr/>
        </p:nvPicPr>
        <p:blipFill>
          <a:blip r:embed="rId1"/>
          <a:stretch/>
        </p:blipFill>
        <p:spPr>
          <a:xfrm>
            <a:off x="5076720" y="2708280"/>
            <a:ext cx="367344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КВАРИУ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8229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"/>
          <p:cNvPicPr/>
          <p:nvPr/>
        </p:nvPicPr>
        <p:blipFill>
          <a:blip r:embed="rId1"/>
          <a:stretch/>
        </p:blipFill>
        <p:spPr>
          <a:xfrm>
            <a:off x="257040" y="500040"/>
            <a:ext cx="862812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3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еша и Даш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09" name="Picture 4" descr="IMG_0023"/>
          <p:cNvPicPr/>
          <p:nvPr/>
        </p:nvPicPr>
        <p:blipFill>
          <a:blip r:embed="rId1"/>
          <a:stretch/>
        </p:blipFill>
        <p:spPr>
          <a:xfrm>
            <a:off x="1332000" y="1268280"/>
            <a:ext cx="6408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137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775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2521080" cy="2017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2"/>
          <a:stretch/>
        </p:blipFill>
        <p:spPr>
          <a:xfrm>
            <a:off x="6372360" y="2060640"/>
            <a:ext cx="2447640" cy="1944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"/>
          <p:cNvPicPr/>
          <p:nvPr/>
        </p:nvPicPr>
        <p:blipFill>
          <a:blip r:embed="rId3"/>
          <a:stretch/>
        </p:blipFill>
        <p:spPr>
          <a:xfrm>
            <a:off x="539640" y="4869000"/>
            <a:ext cx="2232000" cy="144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"/>
          <p:cNvPicPr/>
          <p:nvPr/>
        </p:nvPicPr>
        <p:blipFill>
          <a:blip r:embed="rId4"/>
          <a:stretch/>
        </p:blipFill>
        <p:spPr>
          <a:xfrm>
            <a:off x="6156360" y="4365720"/>
            <a:ext cx="2987640" cy="2084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"/>
          <p:cNvPicPr/>
          <p:nvPr/>
        </p:nvPicPr>
        <p:blipFill>
          <a:blip r:embed="rId5"/>
          <a:stretch/>
        </p:blipFill>
        <p:spPr>
          <a:xfrm>
            <a:off x="3419640" y="2205000"/>
            <a:ext cx="2376360" cy="1762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3" descr=""/>
          <p:cNvPicPr/>
          <p:nvPr/>
        </p:nvPicPr>
        <p:blipFill>
          <a:blip r:embed="rId6"/>
          <a:stretch/>
        </p:blipFill>
        <p:spPr>
          <a:xfrm>
            <a:off x="1403280" y="0"/>
            <a:ext cx="2737080" cy="1628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4" descr=""/>
          <p:cNvPicPr/>
          <p:nvPr/>
        </p:nvPicPr>
        <p:blipFill>
          <a:blip r:embed="rId7"/>
          <a:stretch/>
        </p:blipFill>
        <p:spPr>
          <a:xfrm>
            <a:off x="3203640" y="4581360"/>
            <a:ext cx="2520720" cy="2276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6" descr=""/>
          <p:cNvPicPr/>
          <p:nvPr/>
        </p:nvPicPr>
        <p:blipFill>
          <a:blip r:embed="rId8"/>
          <a:stretch/>
        </p:blipFill>
        <p:spPr>
          <a:xfrm>
            <a:off x="5580000" y="0"/>
            <a:ext cx="280836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9:15:03Z</dcterms:created>
  <dc:creator>Елена</dc:creator>
  <dc:description/>
  <dc:language>en-US</dc:language>
  <cp:lastModifiedBy>Пользователь</cp:lastModifiedBy>
  <dcterms:modified xsi:type="dcterms:W3CDTF">2013-04-02T17:33:58Z</dcterms:modified>
  <cp:revision>16</cp:revision>
  <dc:subject/>
  <dc:title>Слайд 1</dc:title>
</cp:coreProperties>
</file>