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9EC-6748-40AF-A167-15F9EDEC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E7E-B0FD-4377-8CD3-9C5015D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EF5-AD08-4523-BF04-1BB2C570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DEC-1FC7-4B87-A2A5-20CD4430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BD19-CE32-40FF-881E-5DF25025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8299-61D6-4951-86A0-C53CDC2B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C26F-1788-4EDF-85AB-9C6828C9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40AA-637D-42D6-9B3B-47EB195A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3985-6C72-40A6-99A6-D32844B8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08FE-6C4B-4950-B5A6-FBDCF9EE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DE07-6342-49E8-9580-47D27BD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49E-7F5F-424C-BC7B-6A4D7A8C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8879-5AFE-48C8-8C1C-4C09AD35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8547-27EC-4151-B81C-3D2052D1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F1CA-FB3D-4D8E-AA90-C0382FAE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EC63-D27C-4954-8565-31111A3A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E2C9-0C3E-45E7-BFC8-7FE1A225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27A-A60E-4181-912A-2A0BD728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AA9-F04C-4749-8B59-C973E06E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DE7-0EA1-4B07-A561-836E2FE3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474-6280-4CF5-8838-01955F34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788-7783-4D93-9F72-069D51E7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319-D2DD-45EB-88D2-44C1BD20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C4B-DC04-40DC-BE8B-26AEAFB6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9D02-C568-4D64-B930-5A748D9EC5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98E5-AA99-425B-99CE-68302F48D8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85228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звитие </a:t>
            </a:r>
            <a:br>
              <a:rPr sz="2800"/>
            </a:b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оптико – пространственных представлений и графо – моторных навы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687060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760" y="214200"/>
            <a:ext cx="7696080" cy="19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воевременное развитие оптико – пространственных представлений и графо – моторных навы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524520" y="2214720"/>
            <a:ext cx="40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1857240" y="2786040"/>
            <a:ext cx="728676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схемы те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элементарных пространственных представл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квазипространственных представл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мелкой моторики ру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4" descr="DSC03559"/>
          <p:cNvPicPr/>
          <p:nvPr/>
        </p:nvPicPr>
        <p:blipFill>
          <a:blip r:embed="rId1"/>
          <a:stretch/>
        </p:blipFill>
        <p:spPr>
          <a:xfrm>
            <a:off x="285840" y="785880"/>
            <a:ext cx="2438280" cy="194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7" name="Picture 15" descr="DSC03555"/>
          <p:cNvPicPr/>
          <p:nvPr/>
        </p:nvPicPr>
        <p:blipFill>
          <a:blip r:embed="rId2"/>
          <a:stretch/>
        </p:blipFill>
        <p:spPr>
          <a:xfrm>
            <a:off x="5000760" y="785880"/>
            <a:ext cx="2388960" cy="207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870600" cy="36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Ориентировка в схеме те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231840" y="307188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Зрительное восприятие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DSC03561"/>
          <p:cNvPicPr/>
          <p:nvPr/>
        </p:nvPicPr>
        <p:blipFill>
          <a:blip r:embed="rId3"/>
          <a:stretch/>
        </p:blipFill>
        <p:spPr>
          <a:xfrm>
            <a:off x="1500120" y="3786120"/>
            <a:ext cx="2406600" cy="171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1" name="Picture 5" descr="DSC03528"/>
          <p:cNvPicPr/>
          <p:nvPr/>
        </p:nvPicPr>
        <p:blipFill>
          <a:blip r:embed="rId4"/>
          <a:stretch/>
        </p:blipFill>
        <p:spPr>
          <a:xfrm>
            <a:off x="4500720" y="3857760"/>
            <a:ext cx="2592360" cy="2385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520" y="428760"/>
            <a:ext cx="6870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Зрительное восприятие фор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DSC03530"/>
          <p:cNvPicPr/>
          <p:nvPr/>
        </p:nvPicPr>
        <p:blipFill>
          <a:blip r:embed="rId1"/>
          <a:stretch/>
        </p:blipFill>
        <p:spPr>
          <a:xfrm>
            <a:off x="785880" y="1285920"/>
            <a:ext cx="2584440" cy="214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4" name="Picture 5" descr="DSC03539"/>
          <p:cNvPicPr/>
          <p:nvPr/>
        </p:nvPicPr>
        <p:blipFill>
          <a:blip r:embed="rId2"/>
          <a:stretch/>
        </p:blipFill>
        <p:spPr>
          <a:xfrm>
            <a:off x="2928960" y="3929040"/>
            <a:ext cx="2284560" cy="2146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5" name="Picture 6" descr="DSC03538"/>
          <p:cNvPicPr/>
          <p:nvPr/>
        </p:nvPicPr>
        <p:blipFill>
          <a:blip r:embed="rId3"/>
          <a:stretch/>
        </p:blipFill>
        <p:spPr>
          <a:xfrm>
            <a:off x="5143680" y="1285920"/>
            <a:ext cx="2381040" cy="207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Развитие пространственной ориентиров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3" descr="DSC03582"/>
          <p:cNvPicPr/>
          <p:nvPr/>
        </p:nvPicPr>
        <p:blipFill>
          <a:blip r:embed="rId1"/>
          <a:stretch/>
        </p:blipFill>
        <p:spPr>
          <a:xfrm>
            <a:off x="857160" y="928800"/>
            <a:ext cx="2594160" cy="235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8" name="Picture 5" descr="DSC03578"/>
          <p:cNvPicPr/>
          <p:nvPr/>
        </p:nvPicPr>
        <p:blipFill>
          <a:blip r:embed="rId2"/>
          <a:stretch/>
        </p:blipFill>
        <p:spPr>
          <a:xfrm>
            <a:off x="4143240" y="928800"/>
            <a:ext cx="2451240" cy="214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9" name="Прямоугольник 5"/>
          <p:cNvSpPr/>
          <p:nvPr/>
        </p:nvSpPr>
        <p:spPr>
          <a:xfrm>
            <a:off x="571680" y="342900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ространственная ориентировка </a:t>
            </a:r>
            <a:br>
              <a:rPr sz="2400"/>
            </a:b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на плоск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" descr="DSC03573"/>
          <p:cNvPicPr/>
          <p:nvPr/>
        </p:nvPicPr>
        <p:blipFill>
          <a:blip r:embed="rId3"/>
          <a:stretch/>
        </p:blipFill>
        <p:spPr>
          <a:xfrm>
            <a:off x="5429160" y="4071960"/>
            <a:ext cx="2808360" cy="2386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1" name="Picture 5" descr="DSC03570"/>
          <p:cNvPicPr/>
          <p:nvPr/>
        </p:nvPicPr>
        <p:blipFill>
          <a:blip r:embed="rId4"/>
          <a:stretch/>
        </p:blipFill>
        <p:spPr>
          <a:xfrm>
            <a:off x="2143080" y="4357800"/>
            <a:ext cx="2595600" cy="214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687060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Развитие пространственного гнози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3" descr="DSC03564"/>
          <p:cNvPicPr/>
          <p:nvPr/>
        </p:nvPicPr>
        <p:blipFill>
          <a:blip r:embed="rId1"/>
          <a:stretch/>
        </p:blipFill>
        <p:spPr>
          <a:xfrm>
            <a:off x="500040" y="857160"/>
            <a:ext cx="3311640" cy="3116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4" name="Picture 4" descr="DSC03554"/>
          <p:cNvPicPr/>
          <p:nvPr/>
        </p:nvPicPr>
        <p:blipFill>
          <a:blip r:embed="rId2"/>
          <a:stretch/>
        </p:blipFill>
        <p:spPr>
          <a:xfrm>
            <a:off x="4357800" y="2357280"/>
            <a:ext cx="3600360" cy="299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3" descr="DSC03399"/>
          <p:cNvPicPr/>
          <p:nvPr/>
        </p:nvPicPr>
        <p:blipFill>
          <a:blip r:embed="rId1"/>
          <a:stretch/>
        </p:blipFill>
        <p:spPr>
          <a:xfrm>
            <a:off x="2857680" y="4143240"/>
            <a:ext cx="2571480" cy="193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7" name="Picture 4" descr="DSC03401"/>
          <p:cNvPicPr/>
          <p:nvPr/>
        </p:nvPicPr>
        <p:blipFill>
          <a:blip r:embed="rId2"/>
          <a:stretch/>
        </p:blipFill>
        <p:spPr>
          <a:xfrm>
            <a:off x="1143000" y="1714680"/>
            <a:ext cx="2793960" cy="178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8" name="Rectangle 5"/>
          <p:cNvSpPr/>
          <p:nvPr/>
        </p:nvSpPr>
        <p:spPr>
          <a:xfrm>
            <a:off x="1476360" y="5083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Оптико – пространственна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ориентировка на прогул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DSC03402"/>
          <p:cNvPicPr/>
          <p:nvPr/>
        </p:nvPicPr>
        <p:blipFill>
          <a:blip r:embed="rId3"/>
          <a:stretch/>
        </p:blipFill>
        <p:spPr>
          <a:xfrm>
            <a:off x="5076720" y="1494000"/>
            <a:ext cx="2664000" cy="199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262080"/>
            <a:ext cx="6870600" cy="92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dff"/>
                </a:solidFill>
                <a:latin typeface="Comic Sans MS"/>
              </a:rPr>
              <a:t>Упражнения для развития </a:t>
            </a:r>
            <a:br>
              <a:rPr sz="3000"/>
            </a:br>
            <a:r>
              <a:rPr b="1" lang="ru-RU" sz="3000" spc="-1" strike="noStrike">
                <a:solidFill>
                  <a:srgbClr val="703dff"/>
                </a:solidFill>
                <a:latin typeface="Comic Sans MS"/>
              </a:rPr>
              <a:t>          мелкой моторики рук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3" descr="DSC03476"/>
          <p:cNvPicPr/>
          <p:nvPr/>
        </p:nvPicPr>
        <p:blipFill>
          <a:blip r:embed="rId1"/>
          <a:stretch/>
        </p:blipFill>
        <p:spPr>
          <a:xfrm>
            <a:off x="611280" y="1268280"/>
            <a:ext cx="2732040" cy="245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2" name="Picture 5" descr="DSC03468"/>
          <p:cNvPicPr/>
          <p:nvPr/>
        </p:nvPicPr>
        <p:blipFill>
          <a:blip r:embed="rId2"/>
          <a:stretch/>
        </p:blipFill>
        <p:spPr>
          <a:xfrm>
            <a:off x="3214800" y="4071960"/>
            <a:ext cx="2808000" cy="217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3" name="Picture 6" descr="DSC03466"/>
          <p:cNvPicPr/>
          <p:nvPr/>
        </p:nvPicPr>
        <p:blipFill>
          <a:blip r:embed="rId3"/>
          <a:stretch/>
        </p:blipFill>
        <p:spPr>
          <a:xfrm>
            <a:off x="4572000" y="1557360"/>
            <a:ext cx="2766960" cy="204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6870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Открытое занятие для учителей начальных классов </a:t>
            </a:r>
            <a:br>
              <a:rPr sz="2000"/>
            </a:b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(2010-2011 учебный год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832120" cy="21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2664000" cy="20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7" name="Picture 5" descr=""/>
          <p:cNvPicPr/>
          <p:nvPr/>
        </p:nvPicPr>
        <p:blipFill>
          <a:blip r:embed="rId3"/>
          <a:stretch/>
        </p:blipFill>
        <p:spPr>
          <a:xfrm>
            <a:off x="2124000" y="4292640"/>
            <a:ext cx="2735280" cy="208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8" name="Picture 6" descr=""/>
          <p:cNvPicPr/>
          <p:nvPr/>
        </p:nvPicPr>
        <p:blipFill>
          <a:blip r:embed="rId4"/>
          <a:stretch/>
        </p:blipFill>
        <p:spPr>
          <a:xfrm>
            <a:off x="5435640" y="4437000"/>
            <a:ext cx="2736720" cy="20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11:02Z</dcterms:created>
  <dc:creator>Пользователь</dc:creator>
  <dc:description/>
  <dc:language>en-US</dc:language>
  <cp:lastModifiedBy>Оксана</cp:lastModifiedBy>
  <dcterms:modified xsi:type="dcterms:W3CDTF">2013-04-05T12:06:19Z</dcterms:modified>
  <cp:revision>14</cp:revision>
  <dc:subject/>
  <dc:title>Слайд 1</dc:title>
</cp:coreProperties>
</file>