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006B-5CE6-4462-AFC3-13BF402E38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A5F2-9AB8-4EAD-8614-31F823406C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2C09-E9F8-47E3-A47E-90B8F92D7C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AC30-7724-4340-8703-77870ED8C2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3635-802F-4727-A841-9F9DE63181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9A56-2173-4D48-B087-5111D0A762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A114-67AA-4066-B915-A94D36B570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2C1B-A321-47DD-B208-3EABA90560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BB24-3C23-4B58-B457-397711A6FC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9D3C-E75C-4ABA-8865-BF573DF3A1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B3AF-1C0E-443F-9061-7B6351E12B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4746-42D1-41FB-8B10-BFFDD67CDA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7CA24-19B6-47BF-BE52-FAD3348A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5A2A2-7FD4-4A4E-84C2-9B0A3B19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55EF2-30CC-4C61-A799-5CC58A75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012BC-FC9E-4AC7-9E65-BA9381CA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CCAC-9B76-4FB6-B21E-B28AA292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45C3-27C9-4544-9AB0-68A2A313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B7E7-77A9-48AF-99A6-7093B4E2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21B2-AEE6-4035-8AB1-B27345CD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E8CD-7A59-45E0-8E24-4966E08D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2E30-9536-4A8A-ACDD-CEA1DDD7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564A-B437-43E7-A1A6-11C473DE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E5485-7143-4C49-99D1-435266BA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C02F-7A5D-4815-90A9-3E5C9982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BB06-4358-48C5-AA72-19162377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6E39-897B-47CF-9A52-1F0FD29A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6C58-4FE0-43C3-8C4A-1D327A37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8F1A-4A8F-4107-B857-D18AF65B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B4183-DA8C-4154-8105-204EFBE4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9BFF6-90BB-42D9-A1BB-E9F15E6E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CBA1E-FA03-4566-9776-DA1E9B9E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C54D3-8EE7-4CBA-B212-251E3F4B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DD35D-7ABC-4872-8699-5F1B6E24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D91B9-651E-48C4-A50E-C6DE48BA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FC8EB-EB93-40D6-9388-FDD5A075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3EA9-2ABC-4A12-945B-166DC14E187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ACC0-AFFF-4723-A813-809E2D3C44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Тестирование как форма учета знаний учащихся при обучении иностранным языкам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полнила: учитель английского языка МАОУ СОШ №15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урманова Альфия Рашидов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0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Подготовка к работе с тестами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Работа должна вестись регулярно и охватывать все виды речевой деятельност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еобходимо добиваться, чтобы учащиеся ясно представляли себе, что от них требуют задания того или иного теста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процессе обучения следует идти от более простых к более сложны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Работа над тестами должна вестись по строгому плану и должна быть мобильным и вариативно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Работу над тестами нужно привязывать к тому виду деятельности, которому отдается предпочтение на каждом конкретном урок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У учащихся должен сформироваться навык видения главного в задании и моментального планирования своей работы в процессе тестирования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Ответы на задания должны содержать запрашиваемую информацию и записываться в краткой форм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адо знакомить с различными речевыми клише и лексикой, помогающими правильно оформлять речь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осле выполнения и проверки тестовых заданий необходимо проводить анализ качества выполнения теста, делать разбор ошибок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5000">
    <p:split dir="in" orient="vert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500"/>
                            </p:stCondLst>
                            <p:childTnLst>
                              <p:par>
                                <p:cTn id="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50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5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500"/>
                            </p:stCondLst>
                            <p:childTnLst>
                              <p:par>
                                <p:cTn id="3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8500"/>
                            </p:stCondLst>
                            <p:childTnLst>
                              <p:par>
                                <p:cTn id="4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Заключ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На современном этапе обучения тестовый контроль поднялся на более высокий качественный уровень:    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он касается всех видов речевой деятельности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он более приближен к жизненным ситуациям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тесты стали разнообразнее и интереснее;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тесты требуют планомерной и регулярной подготовки, наблюдения за результатами тестирования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Тесты развивают аналитические способности учащихся; умение выделять главное, обобщать и делать выводы; дисциплинируют мышление; развивают логику, выявляют качество усвоения языкового материала, помогают прогнозировать будущие учебные результаты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Каждый учитель должен знать требования, предъявляемые к методике контроля и те параметры, по которым оценивается тот или иной вид речевой деятельност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Учитель должен уметь адекватно пользоваться не только вербальными средствами для выражения своего отношения к оценке и соответствующими интонационными структурами, тембром своего голоса, определенными тонами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В работе учителя при оценке учащихся в процессе их деятельности на уроке должно стать умелое применение индивидуальных эталонов, в контролирующих процедурах – использование, по возможности, тестов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Базовым умением в осуществлении оценочной функции учащегося должна стать сформированная готовность к самооценке полученного результата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5000">
    <p:split dir="in" orient="ver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98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98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98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98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6000"/>
                            </p:stCondLst>
                            <p:childTnLst>
                              <p:par>
                                <p:cTn id="4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98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7000"/>
                            </p:stCondLst>
                            <p:childTnLst>
                              <p:par>
                                <p:cTn id="4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98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8000"/>
                            </p:stCondLst>
                            <p:childTnLst>
                              <p:par>
                                <p:cTn id="4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98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9000"/>
                            </p:stCondLst>
                            <p:childTnLst>
                              <p:par>
                                <p:cTn id="4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898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Содержание: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водная часть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держани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яснительная запис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сновная часть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стория вопрос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функции и задачи контрол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иды контрол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формы контрол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языковое тестирование как способ контроля при обучении 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иды тестирован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дготовка к работе с тестам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ложен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ключен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Литература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5000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Цель работы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основание актуальности использования тестирования учащихся в процессе обучения на основе методики коммуникативной компетенци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бота  адресована учителям и учащимся старших классов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зможность познакомиться со всеми типами тестовых задани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лассификация тестов может оказать практическую помощь не только учителям иностранного языка, но и преподавателям других учебных дисципли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5000">
    <p:cover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"/>
                            </p:stCondLst>
                            <p:childTnLst>
                              <p:par>
                                <p:cTn id="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"/>
                            </p:stCondLst>
                            <p:childTnLst>
                              <p:par>
                                <p:cTn id="1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60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60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Функции и задачи контрол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нтроль знаний, умений и навыков выполняет в процессе обучения следующие функци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верочную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учающую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иагностическую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рригирующую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правленческую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отивационно- стимулирующую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ценочную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общающую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оспитательную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вивающую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5000">
    <p:split dir="in" orient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Виды контроля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варительн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кущ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межуточн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тоговы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0000">
    <p:split dir="in" orient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9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98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Формы контроля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104920"/>
                <a:gridCol w="612468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ы контро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ы контро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варите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стирование – а) индивидуальное;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) письменное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еседование – а) индивидуальное или фронтальное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) одноязычное или двуязычн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ущ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 (разные виды, в том числе тестирование), наблю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иче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 (разные виды), контрольные работы, тестир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ог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ные устные и письменные работы, тестирование, экзаме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5000">
    <p:newsflash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Типы тестовых заданий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ерекрестный выбор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tching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льтернативный выбор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ue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lse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ts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)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ножественный выбор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ltiple choice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порядочение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arrangement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вершение/ окончание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pletion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мена / подстановка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bstitution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рансформация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твет на вопрос,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нутриязыковое перефразирование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ежъязыковое перефразирование (перевод)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лоуз-процедура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oze procedure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) и т. 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5000">
    <p:split dir="in" orient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5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5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5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8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9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5e5ff"/>
                </a:solidFill>
                <a:uFillTx/>
                <a:latin typeface="Garamond"/>
              </a:rPr>
              <a:t>Классификация тестов: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I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Garamond"/>
              </a:rPr>
              <a:t> группа – лексико-грамматические тесты:лексические и грамматически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лексические тесты проверяют навыки орфографии, словообразования, различения слов, близких по значению или написанию,т.е. синонимов и омонимов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рамматические тесты проверяют навыки владения различными явлениям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II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Garamond"/>
              </a:rPr>
              <a:t> группа – тесты на проверку письменной речи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сьмо проверяет навыки передачи идей и мыслей на иностранном языке, умение работать с документацией; извлекать информацию из таблиц, графиков, аннотаций, афиш и т.д. и передавать ее в письменном вид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III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Garamond"/>
              </a:rPr>
              <a:t> группа – тесты по чтению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тение проверяет уровень понимания и извлечения информации, представленной в письменной форме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ексты с пропусками (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ose tests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ексты с различными заданиям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5000">
    <p:split dir="in" orient="ver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"/>
                            </p:stCondLst>
                            <p:childTnLst>
                              <p:par>
                                <p:cTn id="2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00"/>
                            </p:stCondLst>
                            <p:childTnLst>
                              <p:par>
                                <p:cTn id="2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600"/>
                            </p:stCondLst>
                            <p:childTnLst>
                              <p:par>
                                <p:cTn id="2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100"/>
                            </p:stCondLst>
                            <p:childTnLst>
                              <p:par>
                                <p:cTn id="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600"/>
                            </p:stCondLst>
                            <p:childTnLst>
                              <p:par>
                                <p:cTn id="2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100"/>
                            </p:stCondLst>
                            <p:childTnLst>
                              <p:par>
                                <p:cTn id="3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3600"/>
                            </p:stCondLst>
                            <p:childTnLst>
                              <p:par>
                                <p:cTn id="3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100"/>
                            </p:stCondLst>
                            <p:childTnLst>
                              <p:par>
                                <p:cTn id="3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600"/>
                            </p:stCondLst>
                            <p:childTnLst>
                              <p:par>
                                <p:cTn id="3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5e5ff"/>
                </a:solidFill>
                <a:uFillTx/>
                <a:latin typeface="Garamond"/>
              </a:rPr>
              <a:t>Классификация тестов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IV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 группа – тесты по аудированию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удирование проверяет уровень понимания и извлечения информации из устного сообщения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V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 группа – тесты по устной реч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эти тесты проверяют коммуникативные умения учащихся, владение лексикой; умение высказывать свое мнение, давать оценку, обобщать, делать выводы, расспрашивать, отвечать на вопросы, реагировать на реплики и замечани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эти тесты проверяют произносительные навыки учащихся и умение грамматически правильно оформлять свою реч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VI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 группа – тематические тест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и тесты проверяют знание культурных, социокультурных, исторических, географических, политических, экономических и других сведений о стране изучаемого языка и своей собственной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5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20:00:45Z</dcterms:created>
  <dc:creator>1</dc:creator>
  <dc:description/>
  <dc:language>en-US</dc:language>
  <cp:lastModifiedBy>Курманов</cp:lastModifiedBy>
  <dcterms:modified xsi:type="dcterms:W3CDTF">2013-03-14T15:30:58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