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7653-2C62-44DC-8356-06B66F1977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1BD1-1C87-4270-8CFE-40B353843C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69D7-F8A7-481A-9C35-108EE6FC35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E8D6-6990-468E-80D0-11F25E1F20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B633-616D-466E-912A-E9951C634A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9BAA-7EEB-4B22-B2DF-4E4B5A1E1F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BA52-9A5E-4276-B7CF-54AAAD79AE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3AF7-4E39-43ED-8F53-87C5BEBBEC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47D1-9046-4041-91FB-626D9304EE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926C-C82B-4ECC-B259-AB4643C172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32E2-BA07-4EDF-ACA3-B336A0165A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1A2-4403-4090-98E4-187BF689BD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24AB-7E7C-4F01-A6C4-76182BDA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7F87-06A7-41B7-A134-7C48C456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D071-7C3A-4525-9638-1585DDF9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2E3A-4DF4-494A-98D5-ED046261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CB24-7410-46EE-BD08-5A329ACA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586E-C83A-49BD-8CC3-EFCDB86E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21DD-EC17-4E91-A040-6B2E2EA2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458F-171C-44EB-9CED-E34581E0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3FD3-EAE2-4FD1-AC9E-B9104CC9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8E5E-9A52-4827-8C9C-BBC87130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6051-7D84-4263-971B-EA87773C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C15C-7434-4FBD-8FB4-09CB909C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901A-A44F-42F0-A5F0-714A71D2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E440-A608-4A03-A7CF-8F3D6D8E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E452-C83F-48FC-98F2-8A3A053B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7663-C930-45E7-B6BB-ABC4E015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65E6-C2FB-459A-9EFA-23176C3D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1FED-0F6F-4FB1-8C9A-474B3497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AB45-AE01-424D-A974-4880DC71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7DEA9-7A12-4B7E-86A0-BBB1E143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3246-8EDA-47B8-A86F-28677768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8AAA-05C2-465D-8E68-025CAD63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AF4F-EB67-4C55-ACD3-64570972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AE55-AE20-4CF5-8499-641D509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FE10-CB2D-492A-B703-1A145F71E7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7B70-842C-4EDC-A4EA-04E8E0105B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Тестирование как форма учета знаний учащихся при обучении иностранным языкам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: учитель английского языка МАОУ СОШ №1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рманова Альфия Рашидов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Подготовка к работе с тестам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абота должна вестись регулярно и охватывать все виды речевой деятельност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обходимо добиваться, чтобы учащиеся ясно представляли себе, что от них требуют задания того или иного тест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процессе обучения следует идти от более простых к более сложны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абота над тестами должна вестись по строгому плану и должна быть мобильным и вариатив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аботу над тестами нужно привязывать к тому виду деятельности, которому отдается предпочтение на каждом конкретном урок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 учащихся должен сформироваться навык видения главного в задании и моментального планирования своей работы в процессе тестировани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тветы на задания должны содержать запрашиваемую информацию и записываться в краткой форм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до знакомить с различными речевыми клише и лексикой, помогающими правильно оформлять реч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ле выполнения и проверки тестовых заданий необходимо проводить анализ качества выполнения теста, делать разбор ошибок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split dir="in" orient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5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5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5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На современном этапе обучения тестовый контроль поднялся на более высокий качественный уровень:    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н касается всех видов речевой деятельности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н более приближен к жизненным ситуациям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есты стали разнообразнее и интереснее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есты требуют планомерной и регулярной подготовки, наблюдения за результатами тестирова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есты развивают аналитические способности учащихся; умение выделять главное, обобщать и делать выводы; дисциплинируют мышление; развивают логику, выявляют качество усвоения языкового материала, помогают прогнозировать будущие учебные результаты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аждый учитель должен знать требования, предъявляемые к методике контроля и те параметры, по которым оценивается тот или иной вид речевой деятельност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Учитель должен уметь адекватно пользоваться не только вербальными средствами для выражения своего отношения к оценке и соответствующими интонационными структурами, тембром своего голоса, определенными тонам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 работе учителя при оценке учащихся в процессе их деятельности на уроке должно стать умелое применение индивидуальных эталонов, в контролирующих процедурах – использование, по возможности, тестов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азовым умением в осуществлении оценочной функции учащегося должна стать сформированная готовность к самооценке полученного результат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split dir="in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4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98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98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9000"/>
                            </p:stCondLst>
                            <p:childTnLst>
                              <p:par>
                                <p:cTn id="4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98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Содержание: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водная часть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яснительная запис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ная часть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стория вопро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 задачи контрол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иды контрол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ормы контрол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языковое тестирование как способ контроля при обучении 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иды тестирова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дготовка к работе с тестам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лож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лючен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итература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Цель работ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основание актуальности использования тестирования учащихся в процессе обучения на основе методики коммуникативной компетенц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бота  адресована учителям и учащимся старших класс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можность познакомиться со всеми типами тестовых задани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лассификация тестов может оказать практическую помощь не только учителям иностранного языка, но и преподавателям других учебных дисципли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"/>
                            </p:stCondLst>
                            <p:childTnLst>
                              <p:par>
                                <p:cTn id="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"/>
                            </p:stCondLst>
                            <p:childTnLst>
                              <p:par>
                                <p:cTn id="1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6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Функции и задачи контро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нтроль знаний, умений и навыков выполняет в процессе обучения следующие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рочн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учающ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иагностическ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рригирующ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правленческ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тивационно- стимулирующ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ценочн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ющ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спитательн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вающую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split dir="in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Виды контрол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варитель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ущ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межуточ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тогов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0000">
    <p:split dir="in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Формы контрол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104920"/>
                <a:gridCol w="612468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контро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вар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ирование – а) индивидуальное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) письменно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еседование – а) индивидуальное или фронтально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) одноязычное или двуязыч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ущ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(разные виды, в том числе тестирование), наблю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(разные виды), контрольные работы, тест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ые устные и письменные работы, тестирование, экзаме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newsflash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Типы тестовых задани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екрестный выбор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tching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льтернативный выбор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ue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lse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ts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ножественный выбор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ple choice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порядочен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rrangement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вершение/ окончан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letion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мена / подстановк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titution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ансформаци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т на вопрос,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нутриязыковое перефразировани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жъязыковое перефразирование (перевод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оуз-процедур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oze procedure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 и т. 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split dir="in" orient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5e5ff"/>
                </a:solidFill>
                <a:uFillTx/>
                <a:latin typeface="Garamond"/>
              </a:rPr>
              <a:t>Классификация тестов: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лексико-грамматические тесты:лексические и грамматическ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ксические тесты проверяют навыки орфографии, словообразования, различения слов, близких по значению или написанию,т.е. синонимов и омонимов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рамматические тесты проверяют навыки владения различными явления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II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тесты на проверку письменной реч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ьмо проверяет навыки передачи идей и мыслей на иностранном языке, умение работать с документацией; извлекать информацию из таблиц, графиков, аннотаций, афиш и т.д. и передавать ее в письменном вид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III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тесты по чтению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тение проверяет уровень понимания и извлечения информации, представленной в письменной форм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ксты с пропусками (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ose tests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ксты с различными задания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split dir="in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"/>
                            </p:stCondLst>
                            <p:childTnLst>
                              <p:par>
                                <p:cTn id="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600"/>
                            </p:stCondLst>
                            <p:childTnLst>
                              <p:par>
                                <p:cTn id="2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1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600"/>
                            </p:stCondLst>
                            <p:childTnLst>
                              <p:par>
                                <p:cTn id="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1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600"/>
                            </p:stCondLst>
                            <p:childTnLst>
                              <p:par>
                                <p:cTn id="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1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60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e5ff"/>
                </a:solidFill>
                <a:uFillTx/>
                <a:latin typeface="Garamond"/>
              </a:rPr>
              <a:t>Классификация тестов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V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тесты по аудировани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удирование проверяет уровень понимания и извлечения информации из устного сообщения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V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тесты по устной реч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и тесты проверяют коммуникативные умения учащихся, владение лексикой; умение высказывать свое мнение, давать оценку, обобщать, делать выводы, расспрашивать, отвечать на вопросы, реагировать на реплики и замечан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и тесты проверяют произносительные навыки учащихся и умение грамматически правильно оформлять свою реч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VI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тематические тест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и тесты проверяют знание культурных, социокультурных, исторических, географических, политических, экономических и других сведений о стране изучаемого языка и своей собственной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0:00:45Z</dcterms:created>
  <dc:creator>1</dc:creator>
  <dc:description/>
  <dc:language>en-US</dc:language>
  <cp:lastModifiedBy>Курманов</cp:lastModifiedBy>
  <dcterms:modified xsi:type="dcterms:W3CDTF">2013-03-14T15:30:5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