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20279-1664-489D-9546-C437B828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CA7FD-72C5-4233-B13D-2F33847A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5F222-0F02-4FE7-A552-1FB221F5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D5ABF-0648-4FB8-9046-90916B74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2A5E-A33D-492E-A9D9-335DC190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9598-6F06-4887-953E-63C5DB70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E812-7801-4A03-83B4-FB1080BE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B8EE-6B5C-4410-B429-7BE3EB99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BD8C-3DFD-4326-BF86-47B34027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751C-5DC7-4047-B84C-0F6C179F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4429-FD03-478B-9926-3C86E030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DF083-1895-4A42-A669-4B1579F7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0EAA-1D67-4596-9E1C-118A20F3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E26A-7D20-4B1A-8E22-6F33A092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C540-0D16-4F5C-9D25-D3A2D06F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3DA0-BF9B-4C28-839B-65F94FCC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8D2C-8EDC-4E13-AA25-E16B2B60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D76EA-C406-4828-844B-60E60B7F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11448-3410-4BFD-BB73-B40E808B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2CBF0-0010-47B1-9A12-5412C52F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75864-331B-46C2-9B0E-0EFE6CD2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92D4E-AF21-4DB3-AF0B-FA5AD5D9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895A1-A81F-4916-9B6C-CCC93B3F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E6BB1-84E1-4E9E-AC9C-C4BCFC55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6A9D-8DC5-40E4-A8F9-0443B78F220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44004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15EE-426E-4411-964A-61B52A7E7C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3071520"/>
            <a:ext cx="601992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ffff"/>
                </a:solidFill>
                <a:latin typeface="Arial"/>
              </a:rPr>
              <a:t>Причины агрессии</a:t>
            </a:r>
            <a:br>
              <a:rPr sz="5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родительское собрание)</a:t>
            </a:r>
            <a:br>
              <a:rPr sz="5000"/>
            </a:br>
            <a:br>
              <a:rPr sz="5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42600" y="4941360"/>
            <a:ext cx="83487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МБОУ СОШ №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. Киржач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0044"/>
                </a:solidFill>
                <a:latin typeface="Arial"/>
              </a:rPr>
              <a:t>педагог-психолог:</a:t>
            </a:r>
            <a:r>
              <a:rPr b="0" i="1" lang="ru-RU" sz="1800" spc="-1" strike="noStrike">
                <a:solidFill>
                  <a:srgbClr val="440044"/>
                </a:solidFill>
                <a:latin typeface="Arial"/>
              </a:rPr>
              <a:t> </a:t>
            </a:r>
            <a:r>
              <a:rPr b="0" i="1" lang="ru-RU" sz="2300" spc="-1" strike="noStrike">
                <a:solidFill>
                  <a:srgbClr val="440044"/>
                </a:solidFill>
                <a:latin typeface="Monotype Corsiva"/>
              </a:rPr>
              <a:t>Головий О.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300"/>
                            </p:stCondLst>
                            <p:childTnLst>
                              <p:par>
                                <p:cTn id="1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300"/>
                            </p:stCondLst>
                            <p:childTnLst>
                              <p:par>
                                <p:cTn id="2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300"/>
                            </p:stCondLst>
                            <p:childTnLst>
                              <p:par>
                                <p:cTn id="2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642960"/>
            <a:ext cx="822960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нфликты между родителями, разв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демонстративная агрессив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влечение внимания к своей персоне); формирование агрессивной модели «выяснения отношен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Documents and Settings\XP\Рабочий стол\виртуальное общение\Виртуальное общение - картинки\1_N19.jpg"/>
          <p:cNvPicPr/>
          <p:nvPr/>
        </p:nvPicPr>
        <p:blipFill>
          <a:blip r:embed="rId1"/>
          <a:stretch/>
        </p:blipFill>
        <p:spPr>
          <a:xfrm>
            <a:off x="1685880" y="2249640"/>
            <a:ext cx="577224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мимо этого, </a:t>
            </a:r>
            <a:r>
              <a:rPr b="0" i="1" lang="ru-RU" sz="3200" spc="-1" strike="noStrike">
                <a:solidFill>
                  <a:srgbClr val="f10000"/>
                </a:solidFill>
                <a:latin typeface="Arial"/>
              </a:rPr>
              <a:t>обстоятельствам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провоцирующими агрессию, (в детском возрасте) являютс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856880"/>
            <a:ext cx="822960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привлечь к себе внимание сверстников (мальчик вырывает книгу у девочки, разбрасывает игрушки и начинает громко лая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щемление достоинств другого с тем, чтобы подчеркнуть свое превосходство (заметив, что партнер расстроился из-за того, что у него не хватает деталей, мальчик начинает  кричать:  «Ха-ха-ха, так тебе и надо, у тебя ничего не получится, ты плакса и нытик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защититься и отомсти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быть главным (после неудачной попытки занять первое место в строю мальчик отталкивает опередившего, хватает его за волосы и пытается стукнуть головой о стен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получить желанный предмет (прямое насилие над сверстником из-за игруш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Открытое письмо</a:t>
            </a:r>
            <a:br>
              <a:rPr sz="3200"/>
            </a:b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 агрессивных детей родител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ы   хотим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Чтобы  нам  не делали постоянно замеч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Знать, почему вам можно кричать, а нам -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Делать то, что хочется нам, а не в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Знать, почему вы считаете виноватыми нас, а не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Чтобы   вы научили нас справляться с гне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почему нельзя ломать игрушки, давать сдачи, громко кричать,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визжать, обзываться, если очень хоче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о больше всего мы хоти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чтобы нас любил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есть рецептов избавления от гн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785960"/>
            <a:ext cx="4040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НАЛАДЬТЕ ВЗАИМООТНОШЕНИЯ СО СВОИМ РЕБЁНКОМ, ЧТОБЫ ОН  ЧУВСТВОВАЛ СЕБЯ С ВАМИ СПОКОЙНО И УВЕР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4720" y="1714680"/>
            <a:ext cx="4041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шайте своего ребенка, проводите вместе с ним как можно больше ВРЕМЕНИ, делитесь с ним своим опытом, рассказывайте ему о своём детстве, детских поступках, победах и неудачах, каждому своему ребёнку уделяйте своё время и в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6840" y="999720"/>
            <a:ext cx="40402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СЛЕДИТЕ ЗА СОБОЙ, КОГДА ВЫ НАХОДИТЕСЬ ПОД ДЕЙСТВИЕМ СТРЕССА И ВАС ЛЕГКО ВЫВЕСТИ ИЗ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4720" y="1071720"/>
            <a:ext cx="404172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ожите или отмените совместные дела с ребенком, старайтесь не прикасаться к ребенку в минуты разд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6840" y="857160"/>
            <a:ext cx="40402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3. ЕСЛИ ВЫ РАССТРОЕНЫ, ТО ДЕТИ ДОЛЖНЫ ЗНАТЬ О ВАШЕМ СОСТОЯ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4720" y="857160"/>
            <a:ext cx="404172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ворите детям прямо о своих чувствах, желаниях и потребностях: «Я очень расстроена», «Хочу побыть одна», «Поиграй, пожалуйста, один», На работе были трудные дела», «Поиграй один, я немного успокоюс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6840" y="999720"/>
            <a:ext cx="40402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4. В ТЕ МИНУТЫ, КОГДЫ ВЫ РАССТРОЕНЫ И РАЗДРАЖЕНЫ, СДЕЛАЙТЕ ДЛЯ СЕБЯ ЧТО-ТО ПРИЯТНОЕ, ЧТО ВАС МОЖЕТ УСПОКО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4720" y="999720"/>
            <a:ext cx="404172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ите теплую ванну, душ, попейте чай, позвоните друзьям, сделайте массаж лица и головы, просто расслабьтесь в удобном кресле, включите любую му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6840" y="928440"/>
            <a:ext cx="40402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5. СТАРАЙТЕСЬ ПРЕДВИДЕТЬ И ПРЕДОТВРАТИТЬ ВОЗМОЖНЫЕ НЕПРИЯТНОСТИ, КОТОРЫЕ МОГУТ ВЫЗВАТЬ ВАШ ГН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44720" y="928440"/>
            <a:ext cx="404172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авайте и не разрешайте ребенку играть с вещами и предметами, которыми вы дорожите. Не позволяйте выводить себя из равновесия, умейте предчувствовать собственный эмоциональный срыв и не допускайте эт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6840" y="1143000"/>
            <a:ext cx="40402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6. СПЕЦИАЛЬНО СТАРАЙТЕСЬ ПРЕДУСМОТРЕТЬ ВСЕ НЮАНСЫ И ВОЗМОЖНОСТИ ПРЕДСТОЯЩЕГО СОБЫТИЯ И ПОДГОТОВЬТЕ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4720" y="1143000"/>
            <a:ext cx="4041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айте силы и возможности вашего ребенка, проговаривайте важные визиты, и предусмотрите варианты игры или утоления жажды или голода при длительных визитах и поезд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\\192.168.200.1\Students\1 курс психологи\олимпиада\психология\6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Заголовок 1"/>
          <p:cNvSpPr/>
          <p:nvPr/>
        </p:nvSpPr>
        <p:spPr>
          <a:xfrm>
            <a:off x="57168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лыбки =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Заголовок 1"/>
          <p:cNvSpPr/>
          <p:nvPr/>
        </p:nvSpPr>
        <p:spPr>
          <a:xfrm>
            <a:off x="723960" y="4500720"/>
            <a:ext cx="8229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000080"/>
            <a:ext cx="403848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0571"/>
                </a:solidFill>
                <a:latin typeface="Arial"/>
              </a:rPr>
              <a:t>Проявление агрессии в детских и учебных заведениях является проблемой, которая все больше волнует учителей и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barrel_cactus_hw"/>
          <p:cNvPicPr/>
          <p:nvPr/>
        </p:nvPicPr>
        <p:blipFill>
          <a:blip r:embed="rId1"/>
          <a:stretch/>
        </p:blipFill>
        <p:spPr>
          <a:xfrm>
            <a:off x="5051520" y="1981080"/>
            <a:ext cx="3230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075520" cy="21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грессивность имеет качественную и количественную характеристику. Как и всякое свойство , она имеет различную степень выраженности, от полного отсутствия до его предельн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29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ff"/>
                </a:solidFill>
                <a:latin typeface="Arial"/>
              </a:rPr>
              <a:t>Каждая личность должна обладать определенной степенью агресси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Отсутствие агрессивности приводит к пассивности, ведомости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Чрезмерное развитие агрессивности - к высокой конфлик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450"/>
                            </p:stCondLst>
                            <p:childTnLst>
                              <p:par>
                                <p:cTn id="57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950"/>
                            </p:stCondLst>
                            <p:childTnLst>
                              <p:par>
                                <p:cTn id="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450"/>
                            </p:stCondLst>
                            <p:childTnLst>
                              <p:par>
                                <p:cTn id="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чины агр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ся, что агрессия - это следствие действия разного рода причин. Агрессию могут спровоциров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000" spc="-1" strike="noStrike">
                <a:solidFill>
                  <a:srgbClr val="780000"/>
                </a:solidFill>
                <a:latin typeface="Times New Roman"/>
                <a:ea typeface="Times New Roman"/>
              </a:rPr>
              <a:t> наследственно-характерологические фактор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следственно-конституциональная предрасположенность к агрессивному поведению; психопатоподобное, эпилептоидное, аффективно-возбудимое поведение родителей или родственнико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ru-RU" sz="2000" spc="-1" strike="noStrike">
                <a:solidFill>
                  <a:srgbClr val="780000"/>
                </a:solidFill>
                <a:latin typeface="Times New Roman"/>
                <a:ea typeface="Times New Roman"/>
              </a:rPr>
              <a:t>биологические фактор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грессивное поведение связывают с установлением биохимических, гормональных механизмов, влияющих на развитие)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lang="ru-RU" sz="2000" spc="-1" strike="noStrike">
                <a:solidFill>
                  <a:srgbClr val="780000"/>
                </a:solidFill>
                <a:latin typeface="Times New Roman"/>
                <a:ea typeface="Times New Roman"/>
              </a:rPr>
              <a:t>некоторые соматические заболевания, заболевания головного мозга, органические пораже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нимальная мозговая дисфункция, травма головного мозга и т. п.)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лияние </a:t>
            </a:r>
            <a:r>
              <a:rPr b="0" lang="ru-RU" sz="2000" spc="-1" strike="noStrike">
                <a:solidFill>
                  <a:srgbClr val="780000"/>
                </a:solidFill>
                <a:latin typeface="Times New Roman"/>
                <a:ea typeface="Times New Roman"/>
              </a:rPr>
              <a:t>социального окруж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ри каких же условиях у детей возникает агрессия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571760"/>
            <a:ext cx="5186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 Родители систематически проявляю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изическую или вербальную агрессию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тношению к ребенку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оятность проявления у ребенка защитной агрессивности или подражания модели поведения родителей =&gt; </a:t>
            </a: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ребенок часто конфликтует, дерется, на занятиях и урока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крикивает и т. п.; применяет агрессивную модель поведения в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с14"/>
          <p:cNvPicPr/>
          <p:nvPr/>
        </p:nvPicPr>
        <p:blipFill>
          <a:blip r:embed="rId1"/>
          <a:stretch/>
        </p:blipFill>
        <p:spPr>
          <a:xfrm>
            <a:off x="5715000" y="2071800"/>
            <a:ext cx="31687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642960"/>
            <a:ext cx="468648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 Родители применяю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лишком суров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есоотносимые с проступком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каз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&gt;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агрессивности у ребенка повышается, возрастает готовность к агрессивным действиям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оятность реактивной </a:t>
            </a: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(ответной) агрессивности в более старшем возрасте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явления защитной агресси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0ZPB1CAJXJ00DCA15MI84CAJQBVT2CARPCB9TCAJFEDEOCA4HB9T3CAM7TNVFCAD122G3CAP4ZNF8CAK0FG8ZCAQ9DK9NCAL2JOF7CA5PWNWJCAGTC8ZPCAK58G36CAMC9GRICAKYGJGGCA18F72NCA8NG795"/>
          <p:cNvPicPr/>
          <p:nvPr/>
        </p:nvPicPr>
        <p:blipFill>
          <a:blip r:embed="rId1"/>
          <a:stretch/>
        </p:blipFill>
        <p:spPr>
          <a:xfrm>
            <a:off x="5429160" y="1357200"/>
            <a:ext cx="33130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928800"/>
            <a:ext cx="4400640" cy="49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Родител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обращают вним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агрессивное поведение, вспыльчивость ребенка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контролируют его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&gt; все­дозволенность =&gt;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явление агрессивности в дальнейшем как </a:t>
            </a: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типичной поведенческо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11"/>
          <p:cNvPicPr/>
          <p:nvPr/>
        </p:nvPicPr>
        <p:blipFill>
          <a:blip r:embed="rId1"/>
          <a:stretch/>
        </p:blipFill>
        <p:spPr>
          <a:xfrm>
            <a:off x="4929120" y="2714760"/>
            <a:ext cx="38862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499680"/>
            <a:ext cx="8229600" cy="53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 Родител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даю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и ребенку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яви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пособность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 самостоятельному выбор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е позволяют ребенку заявить о себе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прещаю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юбые формы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явления детского гнев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&gt; ребенок избегает открытого проявления гнева, систематически подавляет свои эмоции =&gt; деструктивная агрессивность =&gt; </a:t>
            </a: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насмешки над окружающими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буждение к агрессивным действиям других, </a:t>
            </a: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воровство, внезапные вспышки гне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C:\Users\а\Pictures\1.jpg"/>
          <p:cNvPicPr/>
          <p:nvPr/>
        </p:nvPicPr>
        <p:blipFill>
          <a:blip r:embed="rId1"/>
          <a:stretch/>
        </p:blipFill>
        <p:spPr>
          <a:xfrm>
            <a:off x="2071800" y="3929040"/>
            <a:ext cx="49291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28760" y="428760"/>
            <a:ext cx="7858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Родител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являют агрессию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тношению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 окружающим в присутствии ребен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пример, отрицательно высказываются по поводу соседей по коммунальной квартире или по поводу пе­дагогического стиля в детском саду и т. д.) =&gt; у ребенка закрепляется уверенность, что окружающие люди являются виновниками всех их бед =&gt; вероятно, что дошкольник возьмет </a:t>
            </a: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эту модель за основ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своего дальнейш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поведен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явления агре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406317_20020329122458"/>
          <p:cNvPicPr/>
          <p:nvPr/>
        </p:nvPicPr>
        <p:blipFill>
          <a:blip r:embed="rId1"/>
          <a:stretch/>
        </p:blipFill>
        <p:spPr>
          <a:xfrm>
            <a:off x="4500720" y="3571920"/>
            <a:ext cx="38574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11:17:11Z</dcterms:created>
  <dc:creator>*</dc:creator>
  <dc:description/>
  <dc:language>en-US</dc:language>
  <cp:lastModifiedBy>*</cp:lastModifiedBy>
  <dcterms:modified xsi:type="dcterms:W3CDTF">2012-03-26T08:24:52Z</dcterms:modified>
  <cp:revision>17</cp:revision>
  <dc:subject/>
  <dc:title>Игры в тигры. </dc:title>
</cp:coreProperties>
</file>