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D5A1-7B14-45D0-85E7-17A86FB3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E341-3291-413F-B23F-F9C454CA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F163-818B-43BC-A80B-2C2396E0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CB69-74E2-42FB-A77A-BC73360B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FD95-4390-4D47-812F-82352419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0799-A067-4A83-9D35-400B7C25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DAF7-5144-42E0-A699-8986476A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A3D6-3869-4CE9-A2EB-D226862B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5843-0F4E-44B4-BE5E-EDAD5ACF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B8D6-56A0-40B8-B983-3DE5326F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19FD-BF76-42E8-86DC-E769FEB9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8EF8-78BB-4ACC-B794-B37033CF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D3B6-1D20-4C32-8910-61DBF8A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24D-C02C-46A6-8A93-DB7FCA13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68FB-62FD-4633-9902-65D3D61B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822E-D56F-4382-9209-D694BA26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7669-C4F4-4AEC-B701-F3054C3D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6DF8-7E3E-4050-AE32-C39A7B96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3702-9ADA-4CFC-ADCF-FD204E2F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47C6-3BF3-45C9-9FF1-A95DD6ED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E48B-417C-4DB3-BFB1-52D2A365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CD89-4FDE-40B0-A7C7-214C89AA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D232-B39B-4E55-86E3-4395759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E451-E28D-48D3-B510-E4DC0DBA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CC7E-C7AA-4752-B849-725C093D72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D585-C027-4CF1-A4FC-25BB034678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3071520"/>
            <a:ext cx="60199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Причины агрессии</a:t>
            </a:r>
            <a:br>
              <a:rPr sz="5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родительское собрание)</a:t>
            </a:r>
            <a:br>
              <a:rPr sz="5000"/>
            </a:br>
            <a:br>
              <a:rPr sz="5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42600" y="4941360"/>
            <a:ext cx="83487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БОУ СОШ №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. Киржач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0044"/>
                </a:solidFill>
                <a:latin typeface="Arial"/>
              </a:rPr>
              <a:t>педагог-психолог:</a:t>
            </a:r>
            <a:r>
              <a:rPr b="0" i="1" lang="ru-RU" sz="1800" spc="-1" strike="noStrike">
                <a:solidFill>
                  <a:srgbClr val="440044"/>
                </a:solidFill>
                <a:latin typeface="Arial"/>
              </a:rPr>
              <a:t> </a:t>
            </a:r>
            <a:r>
              <a:rPr b="0" i="1" lang="ru-RU" sz="2300" spc="-1" strike="noStrike">
                <a:solidFill>
                  <a:srgbClr val="440044"/>
                </a:solidFill>
                <a:latin typeface="Monotype Corsiva"/>
              </a:rPr>
              <a:t>Головий О.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00"/>
                            </p:stCondLst>
                            <p:childTnLst>
                              <p:par>
                                <p:cTn id="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300"/>
                            </p:stCondLst>
                            <p:childTnLst>
                              <p:par>
                                <p:cTn id="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300"/>
                            </p:stCondLst>
                            <p:childTnLst>
                              <p:par>
                                <p:cTn id="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642960"/>
            <a:ext cx="822960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фликты между родителями, разв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демонстративная агресс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лечение внимания к своей персоне); формирование агрессивной модели «выяснения отнош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XP\Рабочий стол\виртуальное общение\Виртуальное общение - картинки\1_N19.jpg"/>
          <p:cNvPicPr/>
          <p:nvPr/>
        </p:nvPicPr>
        <p:blipFill>
          <a:blip r:embed="rId1"/>
          <a:stretch/>
        </p:blipFill>
        <p:spPr>
          <a:xfrm>
            <a:off x="1685880" y="2249640"/>
            <a:ext cx="57722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мимо этого, </a:t>
            </a:r>
            <a:r>
              <a:rPr b="0" i="1" lang="ru-RU" sz="3200" spc="-1" strike="noStrike">
                <a:solidFill>
                  <a:srgbClr val="f10000"/>
                </a:solidFill>
                <a:latin typeface="Arial"/>
              </a:rPr>
              <a:t>обстоятельства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провоцирующими агрессию, (в детском возрасте) являютс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856880"/>
            <a:ext cx="82296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привлечь к себе внимание сверстников (мальчик вырывает книгу у девочки, разбрасывает игрушки и начинает громко лая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щемление достоинств другого с тем, чтобы подчеркнуть свое превосходство (заметив, что партнер расстроился из-за того, что у него не хватает деталей, мальчик начинает  кричать:  «Ха-ха-ха, так тебе и надо, у тебя ничего не получится, ты плакса и нытик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защититься и отомст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быть главным (после неудачной попытки занять первое место в строю мальчик отталкивает опередившего, хватает его за волосы и пытается стукнуть головой о стен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получить желанный предмет (прямое насилие над сверстником из-за игруш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Открытое письмо</a:t>
            </a:r>
            <a:br>
              <a:rPr sz="3200"/>
            </a:b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 агрессивных детей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   хоти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тобы  нам  не делали постоянно замеч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Знать, почему вам можно кричать, а нам -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елать то, что хочется нам, а не 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Знать, почему вы считаете виноватыми нас, а не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тобы   вы научили нас справляться с гне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чему нельзя ломать игрушки, давать сдачи, громко кричать,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изжать, обзываться, если очень хоч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Но больше всего мы хот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тобы нас люби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сть рецептов избавления от гн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85960"/>
            <a:ext cx="4040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НАЛАДЬТЕ ВЗАИМООТНОШЕНИЯ СО СВОИМ РЕБЁНКОМ, ЧТОБЫ ОН  ЧУВСТВОВАЛ СЕБЯ С ВАМИ СПОКОЙНО И УВЕР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171468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йте своего ребенка, проводите вместе с ним как можно больше ВРЕМЕНИ, делитесь с ним своим опытом, рассказывайте ему о своём детстве, детских поступках, победах и неудачах, каждому своему ребёнку уделяйте своё время и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СЛЕДИТЕ ЗА СОБОЙ, КОГДА ВЫ НАХОДИТЕСЬ ПОД ДЕЙСТВИЕМ СТРЕССА И ВАС ЛЕГКО ВЫВЕСТИ ИЗ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1071720"/>
            <a:ext cx="40417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ожите или отмените совместные дела с ребенком, старайтесь не прикасаться к ребенку в минуты разд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857160"/>
            <a:ext cx="40402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3. ЕСЛИ ВЫ РАССТРОЕНЫ, ТО ДЕТИ ДОЛЖНЫ ЗНАТЬ О ВАШЕМ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4720" y="857160"/>
            <a:ext cx="40417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е детям прямо о своих чувствах, желаниях и потребностях: «Я очень расстроена», «Хочу побыть одна», «Поиграй, пожалуйста, один», На работе были трудные дела», «Поиграй один, я немного успокоюс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4. В ТЕ МИНУТЫ, КОГДЫ ВЫ РАССТРОЕНЫ И РАЗДРАЖЕНЫ, СДЕЛАЙТЕ ДЛЯ СЕБЯ ЧТО-ТО ПРИЯТНОЕ, ЧТО ВАС МОЖЕТ УСПОК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999720"/>
            <a:ext cx="4041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ите теплую ванну, душ, попейте чай, позвоните друзьям, сделайте массаж лица и головы, просто расслабьтесь в удобном кресле, включите любую му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928440"/>
            <a:ext cx="40402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5. СТАРАЙТЕСЬ ПРЕДВИДЕТЬ И ПРЕДОТВРАТИТЬ ВОЗМОЖНЫЕ НЕПРИЯТНОСТИ, КОТОРЫЕ МОГУТ ВЫЗВАТЬ ВАШ ГН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4720" y="928440"/>
            <a:ext cx="40417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авайте и не разрешайте ребенку играть с вещами и предметами, которыми вы дорожите. Не позволяйте выводить себя из равновесия, умейте предчувствовать собственный эмоциональный срыв и не допускайте э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1143000"/>
            <a:ext cx="4040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6. СПЕЦИАЛЬНО СТАРАЙТЕСЬ ПРЕДУСМОТРЕТЬ ВСЕ НЮАНСЫ И ВОЗМОЖНОСТИ ПРЕДСТОЯЩЕГО СОБЫТИЯ И ПОДГОТОВЬТЕ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4720" y="1143000"/>
            <a:ext cx="4041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йте силы и возможности вашего ребенка, проговаривайте важные визиты, и предусмотрите варианты игры или утоления жажды или голода при длительных визитах и поезд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\\192.168.200.1\Students\1 курс психологи\олимпиада\психология\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57168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лыбки =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723960" y="450072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403848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0571"/>
                </a:solidFill>
                <a:latin typeface="Arial"/>
              </a:rPr>
              <a:t>Проявление агрессии в детских и учебных заведениях является проблемой, которая все больше волнует учителей и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barrel_cactus_hw"/>
          <p:cNvPicPr/>
          <p:nvPr/>
        </p:nvPicPr>
        <p:blipFill>
          <a:blip r:embed="rId1"/>
          <a:stretch/>
        </p:blipFill>
        <p:spPr>
          <a:xfrm>
            <a:off x="5051520" y="1981080"/>
            <a:ext cx="323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075520" cy="21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грессивность имеет качественную и количественную характеристику. Как и всякое свойство , она имеет различную степень выраженности, от полного отсутствия до его предель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29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Arial"/>
              </a:rPr>
              <a:t>Каждая личность должна обладать определенной степенью агресс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Отсутствие агрессивности приводит к пассивности, ведомости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0571"/>
                </a:solidFill>
                <a:latin typeface="Arial"/>
              </a:rPr>
              <a:t>Чрезмерное развитие агрессивности - к высокой конфлик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45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95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45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аг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агрессия - это следствие действия разного рода причин. Агрессию могут спровоцир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 наследственно-характеролог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следственно-конституциональная предрасположенность к агрессивному поведению; психопатоподобное, эпилептоидное, аффективно-возбудимое поведение родителей или родственник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биолог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грессивное поведение связывают с установлением биохимических, гормональных механизмов, влияющих на развитие)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некоторые соматические заболевания, заболевания головного мозга, органические пораж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нимальная мозговая дисфункция, травма головного мозга и т. п.)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лияние </a:t>
            </a:r>
            <a:r>
              <a:rPr b="0" lang="ru-RU" sz="2000" spc="-1" strike="noStrike">
                <a:solidFill>
                  <a:srgbClr val="780000"/>
                </a:solidFill>
                <a:latin typeface="Times New Roman"/>
                <a:ea typeface="Times New Roman"/>
              </a:rPr>
              <a:t>социального окру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и каких же условиях у детей возникает агрессия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71760"/>
            <a:ext cx="5186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Родители систематически проявля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изическую или вербальную агресси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тношению к ребенк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проявления у ребенка защитной агрессивности или подражания модели поведения родителей 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ребенок часто конфликтует, дерется, на занятиях и урока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рикивает и т. п.; применяет агрессивную модель поведения в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с14"/>
          <p:cNvPicPr/>
          <p:nvPr/>
        </p:nvPicPr>
        <p:blipFill>
          <a:blip r:embed="rId1"/>
          <a:stretch/>
        </p:blipFill>
        <p:spPr>
          <a:xfrm>
            <a:off x="5715000" y="2071800"/>
            <a:ext cx="31687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42960"/>
            <a:ext cx="468648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Родители применя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ишком суро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соотносимые с проступко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каз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&g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агрессивности у ребенка повышается, возрастает готовность к агрессивным действия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реактивной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(ответной) агрессивности в более старшем возрасте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явления защитной агресс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0ZPB1CAJXJ00DCA15MI84CAJQBVT2CARPCB9TCAJFEDEOCA4HB9T3CAM7TNVFCAD122G3CAP4ZNF8CAK0FG8ZCAQ9DK9NCAL2JOF7CA5PWNWJCAGTC8ZPCAK58G36CAMC9GRICAKYGJGGCA18F72NCA8NG795"/>
          <p:cNvPicPr/>
          <p:nvPr/>
        </p:nvPicPr>
        <p:blipFill>
          <a:blip r:embed="rId1"/>
          <a:stretch/>
        </p:blipFill>
        <p:spPr>
          <a:xfrm>
            <a:off x="5429160" y="1357200"/>
            <a:ext cx="3313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928800"/>
            <a:ext cx="440064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обращают вним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агрессивное поведение, вспыльчивость ребенка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контролируют его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все­дозволенность =&gt;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е агрессивности в дальнейшем как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типичной поведенческ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11"/>
          <p:cNvPicPr/>
          <p:nvPr/>
        </p:nvPicPr>
        <p:blipFill>
          <a:blip r:embed="rId1"/>
          <a:stretch/>
        </p:blipFill>
        <p:spPr>
          <a:xfrm>
            <a:off x="4929120" y="2714760"/>
            <a:ext cx="38862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49968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даю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ребенку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пособность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 самостоятельному выбо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 позволяют ребенку заявить о себе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прещ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ые форм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ления детского гне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&gt; ребенок избегает открытого проявления гнева, систематически подавляет свои эмоции =&gt; деструктивная агрессивность =&gt;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насмешки над окружающим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буждение к агрессивным действиям других,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воровство, внезапные вспышки гн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:\Users\а\Pictures\1.jpg"/>
          <p:cNvPicPr/>
          <p:nvPr/>
        </p:nvPicPr>
        <p:blipFill>
          <a:blip r:embed="rId1"/>
          <a:stretch/>
        </p:blipFill>
        <p:spPr>
          <a:xfrm>
            <a:off x="2071800" y="3929040"/>
            <a:ext cx="4929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8760" y="42876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одител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являют агресси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тнош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 окружающим в присутствии ребен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пример, отрицательно высказываются по поводу соседей по коммунальной квартире или по поводу пе­дагогического стиля в детском саду и т. д.) =&gt; у ребенка закрепляется уверенность, что окружающие люди являются виновниками всех их бед =&gt; вероятно, что дошкольник возьмет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эту модель за осно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своего дальней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b300b3"/>
                </a:solidFill>
                <a:latin typeface="Arial"/>
              </a:rPr>
              <a:t>повед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я агре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406317_20020329122458"/>
          <p:cNvPicPr/>
          <p:nvPr/>
        </p:nvPicPr>
        <p:blipFill>
          <a:blip r:embed="rId1"/>
          <a:stretch/>
        </p:blipFill>
        <p:spPr>
          <a:xfrm>
            <a:off x="4500720" y="3571920"/>
            <a:ext cx="3857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1:17:11Z</dcterms:created>
  <dc:creator>*</dc:creator>
  <dc:description/>
  <dc:language>en-US</dc:language>
  <cp:lastModifiedBy>*</cp:lastModifiedBy>
  <dcterms:modified xsi:type="dcterms:W3CDTF">2012-03-26T08:24:52Z</dcterms:modified>
  <cp:revision>17</cp:revision>
  <dc:subject/>
  <dc:title>Игры в тигры. </dc:title>
</cp:coreProperties>
</file>