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30F-0782-4620-AF9A-B474B396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E416-7D9E-4CFF-8DC0-B2E046E0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828-EEB2-4231-BA7E-52AA1AE7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D798-C9D4-4DFD-91D3-7C10DB70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3C8E-CE7B-469C-8259-756A7530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3B80-EA3A-4479-85E1-F60E9694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D26C-9F5A-408D-AD7A-55E806A7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5CBC-E5B9-4287-BA83-A5832A56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780A-95CB-4FFE-ACED-B4C3A45E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725D-C82D-499F-B72E-92549893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2F4E-FBB7-42D0-B3F6-08850AD8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868-E05A-48B9-8FF0-207D9CB1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AA6B-C7EC-4418-A0FE-28D57DEB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4593-0456-4A89-AC28-5B9B0010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39B8-4CEC-45C8-8E1A-A499AE49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58FE-B3B4-40D3-9DD8-6A556F1B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61AC-1203-4A75-952B-366B2DBB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1FF-1F9C-4B91-8CD7-88FC8EDD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2E3-C1EA-4CBE-A78A-817A5A7B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042-C674-4C53-B861-C22DA9E7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F37-4501-48CB-A70F-4DD93DDA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38A-0F29-433E-B4ED-CED51B39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78C-2674-435E-B2D1-6A06D29C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0A7-4337-4270-8590-226037AF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7842-B0C5-4CD6-8D75-4995DE8C1F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5672-9BF2-497A-B61C-498596EA5A7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0;&#1084;&#1080;&#1103;" TargetMode="External"/><Relationship Id="rId2" Type="http://schemas.openxmlformats.org/officeDocument/2006/relationships/hyperlink" Target="http://ru.wikipedia.org/wiki/&#1057;&#1084;&#1077;&#1089;&#1100;" TargetMode="External"/><Relationship Id="rId3" Type="http://schemas.openxmlformats.org/officeDocument/2006/relationships/hyperlink" Target="http://ru.wikipedia.org/wiki/&#1062;&#1077;&#1085;&#1090;&#1088;&#1072;&#1083;&#1100;&#1085;&#1072;&#1103;_&#1085;&#1077;&#1088;&#1074;&#1085;&#1072;&#1103;_&#1089;&#1080;&#1089;&#1090;&#1077;&#1084;&#1072;" TargetMode="External"/><Relationship Id="rId4" Type="http://schemas.openxmlformats.org/officeDocument/2006/relationships/hyperlink" Target="http://ru.wikipedia.org/wiki/&#1055;&#1089;&#1080;&#1093;&#1080;&#1095;&#1077;&#1089;&#1082;&#1086;&#1077;_&#1089;&#1086;&#1089;&#1090;&#1086;&#1103;&#1085;&#1080;&#1077;" TargetMode="External"/><Relationship Id="rId5" Type="http://schemas.openxmlformats.org/officeDocument/2006/relationships/hyperlink" Target="http://ru.wikipedia.org/wiki/&#1053;&#1072;&#1088;&#1082;&#1086;&#1090;&#1080;&#1082;&#1080;" TargetMode="External"/><Relationship Id="rId6" Type="http://schemas.openxmlformats.org/officeDocument/2006/relationships/hyperlink" Target="http://ru.wikipedia.org/wiki/&#1055;&#1089;&#1080;&#1093;&#1080;&#1095;&#1077;&#1089;&#1082;&#1086;&#1077;_&#1088;&#1072;&#1089;&#1089;&#1090;&#1088;&#1086;&#1081;&#1089;&#1090;&#1074;&#1086;" TargetMode="External"/><Relationship Id="rId7" Type="http://schemas.openxmlformats.org/officeDocument/2006/relationships/hyperlink" Target="http://ru.wikipedia.org/wiki/&#1055;&#1089;&#1080;&#1093;&#1086;&#1090;&#1088;&#1086;&#1087;&#1085;&#1099;&#1077;_&#1087;&#1088;&#1077;&#1087;&#1072;&#1088;&#1072;&#1090;&#1099;" TargetMode="External"/><Relationship Id="rId8" Type="http://schemas.openxmlformats.org/officeDocument/2006/relationships/hyperlink" Target="http://ru.wikipedia.org/wiki/&#1051;&#1077;&#1082;&#1072;&#1088;&#1089;&#1090;&#1074;&#1077;&#1085;&#1085;&#1099;&#1077;_&#1089;&#1088;&#1077;&#1076;&#1089;&#1090;&#1074;&#1072;" TargetMode="External"/><Relationship Id="rId9" Type="http://schemas.openxmlformats.org/officeDocument/2006/relationships/hyperlink" Target="http://ru.wikipedia.org/wiki/&#1053;&#1077;&#1088;&#1074;&#1085;&#1072;&#1103;_&#1089;&#1080;&#1089;&#1090;&#1077;&#1084;&#1072;" TargetMode="External"/><Relationship Id="rId10" Type="http://schemas.openxmlformats.org/officeDocument/2006/relationships/hyperlink" Target="http://ru.wikipedia.org/wiki/&#1062;&#1053;&#1057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Час звена: «Психоактивные вещества.»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готовила: Тихомирова Т.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Этап 4. Употребление становится целью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Миф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наркотиками являются только вещества синтетического происхожд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на самом деле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часть наркотических веществ – вещества природного происхождения (конопля, мак, грибы и др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ля этого этапа характерно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отребление ради употреб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стоянная потребность в ПА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пользование крайних средств в поисках доз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рушение нравственных ценнос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патия и нежелание жить, утрата смысла существ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пытки самоубий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ерьезные проблемы со здоровьем, возникновение хронических заболева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рыв с семьей, друзьями, обществ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График «кайфа», 1 этап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190512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88620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066680" y="2133720"/>
            <a:ext cx="60984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2133720"/>
            <a:ext cx="30456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981080" y="3580920"/>
            <a:ext cx="15264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209680" y="304812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30481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3581280"/>
            <a:ext cx="759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3962520"/>
            <a:ext cx="763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743200" y="3962520"/>
            <a:ext cx="15228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71800" y="342900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342900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962520"/>
            <a:ext cx="759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434340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505320" y="434340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657600" y="388620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388620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441972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191120" y="44197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419720" y="403812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403848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4197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4952880"/>
            <a:ext cx="2286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548640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5257440" y="2209680"/>
            <a:ext cx="380880" cy="16765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рем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342360" y="2705040"/>
            <a:ext cx="457200" cy="99036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мо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ычно высокий пик ощущений в организме, «кайф». Первые дозы ПАВ вызывают резкий сбой нейрохимического баланса головного мозга. Очень важно, что ПАВ не сами вызывают удовольствие непосредственно, а заставляют организм активизировать свои ресурс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ловеку дан сейф – запас удовольствия. Им можно пользоваться всю жизнь понемногу, а можно «взломать» сейф и выгрести целую кучу «кайфа». Не скоро придет в себя «ограбленный» бан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Есть два пути после первых попыток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лностью прекратить употребление; около 50% людей так и поступ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должать употребление, что неминуемо ведет к переходу на следующий этап развития зависимости от ПА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етьего не дано, УВЫ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График «кайфа», 2 этап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висимость – болезнь привыкания. Организм привыкает к определенной дозе и требует большей для получения удовольств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Законы дозы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человек продолжает употреблять вещества, изменяющие состояние (ПАВ), он переходит с меньших доз на большие, и с менее слабых веществ, на более сильны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человек не прекращает употребление, начинается следующая стадия развития ЗАВИСИМ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График «кайфа», 3 этап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зникает физическая зависимость. Наркотик не приносит желаемого удовольствия, а употребляется для приведения организма в нормальное состоя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зникающие проблемы служат оправданием дальнейшего употребления. Употребление вызывает новые проблемы. Причина и следствие меняются мест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Цели и задачи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ть учащихся с психоактивными веществ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ть стадии развития зависим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делать выводы по занят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кратить употребление на этой стадии самостоятельно практически невозможно, необходима помощь специалиста. Продолжение употребления обязательно ведет к переходу на следующий этап развития ЗАВИСИМ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График «кайфа», 4 этап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убокие физиологические изменения. Употребление веществ для того, чтобы прожить этот день. Мозг разучился самостоятельно регулировать нейрохимический баланс и не может воспринимать окружающий мир без очередной доз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бсолюное большинство наркоманов, дошедших до этой стадии развития зависимости, погибают от передозировки. Количество вещества, требуемого для возвращения мозга к нормальному  функционированию, становится критическим для жизнедеятельности организма в це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Если человек не прекращает употребления – он ПОГИБАЕТ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ы точно знаем, что: ни один наркоман, погибающий в притоне или общественном туалете от передозировки, не планировал для себя такого, когда вводил себе первую дозу или затягивался первым «косяком»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Он думал так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жизни надо попробовать все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ин раз не страшно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буду контролировать себя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сильный, буду держать себя в руках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, кто стали наркоманами -  слабые и безвольные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мне все по-фигу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ь друг сказал, что он кол, и все окей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гори оно все огне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почувствую, что начинается зависимость – брошу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 этого вещества зависимости не бывает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одведение итогов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выводы вы можете сделать из беседы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о новое для себя узнал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сихоактивные вещества –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бое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химическо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оединение (или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смес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естественного или искусственного происхождения, которое влияет на функционирование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центральной нервной систем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риводя к изменению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психического состоя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Эти изменения могут носить как положительный (лечебный) характер, так и отрицательный, например деградация психики при злоупотреблении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наркотик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сихоактивные вещества, влияющие на высшие психические функции, и часто используемые в медицине для лечения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психических заболеван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называются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психотропны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Психоактивные вещества, вызывающие привыкание и/или запрещённые законодательством, считаются наркоти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йротро́пные сре́дст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— обширная группа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лекарственных средст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оказывающие действие на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нервную систем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—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центральну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периферическую. Могут угнетать или стимулировать передачу нервного возбуждения в различных отделах (центральной) нервной системы, понижать или повышать чувствительность нервных окончаний в периферических нервах, воздействовать на разные типы рецептор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dbbd71"/>
                </a:solidFill>
                <a:uFillTx/>
                <a:latin typeface="Arial"/>
              </a:rPr>
              <a:t>Стадии развития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Этап 1. Первые опыт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26665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иф: если не колоть в вену, зависимости не будет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на самом дел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любой способ употребления ПАВ приводит к зависим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ля этого этапа характерно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тественное любопытство, желание «просто попробовать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ктивный поиск новых видов «кайфа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умение сказать «НЕТ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удности с пониманием собственных границ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падание под влияние различных мифов о химических веществ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ах прослыть «белой вороной» или «маменькиным сынком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сознанное желание убежать от сложностей жизни (или осозна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левательское отношение к себе и своей жизни, «пофигизм» как мировоззрен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елание сделать свою жизнь интересной и наполненн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знание того, как на самом деле действуют ПАВ на психику и организм челове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Этап 2. Начинает нравитс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Миф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наркоманы и алкоголики – слабые, безвольные люди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на самом деле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зависимость от ПАВ, как и любое другое хроническое заболевание, не имеет отношения к силе вол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ля этого этапа характерно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сознанное желание получать «кайф» при помощи ПАВ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ланирование употребле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оиск разумных оправданий употребле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оиск «подходящей» компан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АВ становятся необходимым атрибутом веселья и отдых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АВ начинают использоваться как: средство против «комплексов», лекарство от стресса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Способ общения, спутник сексуальных отношен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Можно заметить рост требуемой для получения нужных ощущений дозы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Формируется особая «тусовка» - свои ПАВ, своя музыка, стиль одежды, юмор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Этап 3. Возникают проблемы.</a:t>
            </a: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ф: все современные музыканты сидят на наркотиках, и ничего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самом деле: многие современные музыканты предпочитают воздерживаться от употребления ПАВ, т.к. это негативно сказывается на их творчеств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ля этого этапа характерно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роблемы со здоровьем (похмелье, ломка, неприятные ощущения после употребления, инфекционные заболевания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отеря контроля над поведением (травмы, насилие, криминал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Неразборчивость в сексе (венерические заболевания, нежелательная беременность, проблемы в отношениях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Скандалы в семье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роблемы с учебой, неприятности в школе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Финансовые трудности (долги, продажа вещей из дома, постоянный поиск денег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Конфликты с друзьям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сновной круг общения – те, кто употребляет ПАВ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Конфликты с законом, приводы в милицию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0-01-18T14:35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