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386-B022-47A3-B3B4-5A8B5C3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B4F-E4A2-4366-A999-08D6D78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143-00C3-4855-9FDA-0938D7E5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0D4-CC21-4829-983B-2F8EC05D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341-7ACD-4B84-BA2E-F4AD242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11A-F067-4066-B038-E6FC069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33-6C7B-4E5D-8506-FC7087B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2C4-FB53-498F-BAE6-264B2B9F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A4C-5EF2-4756-AEC2-F279E5A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4E4-C874-442C-AAEF-01AFF06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4FE-EE08-4B05-B463-FA74EE5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143-7C84-4C3F-9F04-FE0E44FE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041C-687C-4D56-8788-65A2FD38D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1.wav" TargetMode="External"/><Relationship Id="rId3" Type="http://schemas.microsoft.com/office/2007/relationships/media" Target="file:///tmp/home/.config/libreoffice/4/user/gallery/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Пузырь, соломинка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 лапо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1080" y="649116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удожник Клеоп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430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20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и-были пузырь, соломинка и лап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7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т как-то пошли они в лес дрова рубить, дошли до реки, не знают: как через реку перей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38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0" y="5661000"/>
            <a:ext cx="9036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Лапоть и говорит пузырю: «Пузырь, давай на тебе переплывем!» — «Нет, лапоть, пусть лучше соломинка перетянется с берега на берег, а мы перейдем по ней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5448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35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587700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оминка перетянулась; лапоть пошел по ней, она и переломилась.  Лапоть упал в в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30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пузырь хохотал, хохотал, да и лопну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560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3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14:38Z</dcterms:created>
  <dc:creator>Interbaby </dc:creator>
  <dc:description/>
  <dc:language>en-US</dc:language>
  <cp:lastModifiedBy>Interbaby </cp:lastModifiedBy>
  <dcterms:modified xsi:type="dcterms:W3CDTF">2006-09-16T18:52:20Z</dcterms:modified>
  <cp:revision>4</cp:revision>
  <dc:subject/>
  <dc:title>Пузырь</dc:title>
</cp:coreProperties>
</file>