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99C-4674-481F-9B67-B8D5264B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BB7-B171-4BB1-BAC7-C35ECFA4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8F2-EDCD-48A8-AAB1-E86077C4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8001-517C-4784-AB23-0B6B51B9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4F0-8DF9-40A2-84D8-BC298444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4A9A-E9BA-4EDE-A62E-1D8DB706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66B-5C31-4717-BE87-98793ED4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05B-24D9-462B-B122-71F4F538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65E-4DC9-407B-A83C-9F3CBC3E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936-A070-44BA-9613-99E96DBA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8A0-9AD4-4213-A169-0836D819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A6A-EC97-487E-981D-FD3542E7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9C14-CE59-4CDC-B825-3E971A4FE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1.wav" TargetMode="External"/><Relationship Id="rId3" Type="http://schemas.microsoft.com/office/2007/relationships/media" Target="file:///tmp/home/.config/libreoffice/4/user/gallery/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2.wav" TargetMode="External"/><Relationship Id="rId3" Type="http://schemas.microsoft.com/office/2007/relationships/media" Target="file:///tmp/home/.config/libreoffice/4/user/gallery/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3.wav" TargetMode="External"/><Relationship Id="rId3" Type="http://schemas.microsoft.com/office/2007/relationships/media" Target="file:///tmp/home/.config/libreoffice/4/user/gallery/3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4.wav" TargetMode="External"/><Relationship Id="rId3" Type="http://schemas.microsoft.com/office/2007/relationships/media" Target="file:///tmp/home/.config/libreoffice/4/user/gallery/4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5.wav" TargetMode="External"/><Relationship Id="rId3" Type="http://schemas.microsoft.com/office/2007/relationships/media" Target="file:///tmp/home/.config/libreoffice/4/user/gallery/5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6.wav" TargetMode="External"/><Relationship Id="rId3" Type="http://schemas.microsoft.com/office/2007/relationships/media" Target="file:///tmp/home/.config/libreoffice/4/user/gallery/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Пузырь, соломинка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 лапо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61080" y="6491160"/>
            <a:ext cx="29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Художник Клеопа М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5977080" cy="4307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020000" y="6858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005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или-были пузырь, соломинка и лапо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704000" cy="5551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72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2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87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т как-то пошли они в лес дрова рубить, дошли до реки, не знают: как через реку перейт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04000" cy="5551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12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38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920" y="5661000"/>
            <a:ext cx="9036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Лапоть и говорит пузырю: «Пузырь, давай на тебе переплывем!» — «Нет, лапоть, пусть лучше соломинка перетянется с берега на берег, а мы перейдем по ней»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561440" cy="5448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67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35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587700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ломинка перетянулась; лапоть пошел по ней, она и переломилась.  Лапоть упал в во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04000" cy="5551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12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30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005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 пузырь хохотал, хохотал, да и лопну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7080" cy="5604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12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83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449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908000" y="3357720"/>
            <a:ext cx="541044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КОНЕЦ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451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7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14:38Z</dcterms:created>
  <dc:creator>Interbaby </dc:creator>
  <dc:description/>
  <dc:language>en-US</dc:language>
  <cp:lastModifiedBy>Interbaby </cp:lastModifiedBy>
  <dcterms:modified xsi:type="dcterms:W3CDTF">2006-09-16T18:52:20Z</dcterms:modified>
  <cp:revision>4</cp:revision>
  <dc:subject/>
  <dc:title>Пузырь</dc:title>
</cp:coreProperties>
</file>