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418-F5ED-4883-AB0E-30B420DE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DA5-63ED-4FF8-B0B6-659D0911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94B9-B80A-4F3B-A91E-A430FCD3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7A1-6E76-4C61-8079-8A89656E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6B84-2D90-4289-B031-7BE5AD32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54F-3941-4580-91FA-0F426E2C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B1C-9183-4915-BA66-C71273B5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DAD4-D93F-4225-96AE-5D4B03E9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76E-21C2-4697-89FA-CF4DFA99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3D4-1381-4C47-BCDF-235D206C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86B-B57F-47F3-B2B4-AAD46EAB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714-18D4-4855-8EEC-A0889942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2FAC-6D3F-4BAB-8657-55F230580E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59280" y="2276640"/>
            <a:ext cx="5400360" cy="4051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3313080" cy="2863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27640" y="333360"/>
            <a:ext cx="41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крытие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творческих возможностей ученика   как фактор успешной социализации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3716280"/>
            <a:ext cx="2376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ителя изобразительного искусства «Заклинской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ЗАКОВОЙ АННЫ АНАТОЛЬЕ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0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692280"/>
            <a:ext cx="60483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я задача учителя пробудить и поддерживать  интерес, мотивируя состоянием успеха через позитивную оценку, участие работы в выставке,  победу в конкурс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-243000"/>
            <a:ext cx="619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бы ученик начал рисов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до заинтересовать его, удивить  и вовлечь   в процесс творчества,  где  он сам для себя открыл бы свои возмо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619360" cy="287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03640" y="3141720"/>
            <a:ext cx="57960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ие разработки, презентации, подготовка к проблемному обучению в сотрудничестве, я организую 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еятельность ученик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исковые домашние задания, участие в проектной деятельности, творче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едполагаемый мною результа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витие  индивидуальных  особенностей        каждого  ребёнка; повышение  коммуникативной  компетентности  учащихся, развитие  самоува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4000" y="2852640"/>
            <a:ext cx="2617560" cy="3745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24000" y="263700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Через организацию своей рабо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33336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-316080"/>
            <a:ext cx="46087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Моя це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крыть творческие возможности учащегося через знакомство с новыми технологиями, техниками и способами изоб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бразовательна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знакомить с новыми творческими возможност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3989520" cy="403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3213000"/>
            <a:ext cx="4321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Развивающ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ть условия для раскрытия учеником собственных творческих спосо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4508640"/>
            <a:ext cx="8353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оспитательна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рез  осознание значения творческого подхода в любой деятельности поставить ученика в  ситуацию выбора: использовать свои возможности творчества или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5516640"/>
            <a:ext cx="86058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учение   в системе, использование проектного метода, групповой работы, применение новых методик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хнологий, техник  изображения,- всё 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ёт мне возможность учить   ребёнка, чтобы он жил с умением видеть  красоту мира, чтобы она творила красоту в нём сам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260280"/>
            <a:ext cx="5111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придумываю и учу новым нетрадиционным способам создания привычных вещ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515772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646600" y="333360"/>
            <a:ext cx="3272040" cy="5183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508720" y="5877000"/>
            <a:ext cx="33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ванова Маша. 3 класс. Открытк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йлок, папье- маше, нитки, бума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2396880" cy="460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5950080"/>
            <a:ext cx="26636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 Катя. 3 класс. Открытк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пье- маше, шпагат, бумага, ко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916360" y="981000"/>
            <a:ext cx="2536560" cy="4103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43280" y="5373720"/>
            <a:ext cx="26654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шкина Алёна.                    4 класс.Открыт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ешковина , тюль, лента, тесьма, бусины, разные виды бума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19640" y="260280"/>
            <a:ext cx="1639800" cy="2160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4897440" cy="3497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148360" y="260280"/>
            <a:ext cx="3830400" cy="5977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260280"/>
            <a:ext cx="273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щиеся  экспериментируют с изготовлением  разных фактур бумаги для достижения большей выразительности рису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5734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ванова Маша . 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59280" y="333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касов Кирилл. 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360760" cy="583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68360" y="6308640"/>
            <a:ext cx="54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6381720"/>
            <a:ext cx="46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Агафонова Лиза .2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96000" y="549360"/>
            <a:ext cx="2808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идя, как техника служит человеку, но не заменяет его, учащийся  осознаёт ценность ручного труда и твор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59440" y="2421000"/>
            <a:ext cx="2995560" cy="3960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12000" y="638172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ласова Валерия. 2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6000" y="18900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омпьютерная граф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32000" y="584280"/>
            <a:ext cx="6337080" cy="4755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5280" y="5300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«Одуванчик» . Азовцева Анастасия. 8 клас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. 2011 год.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5516640"/>
            <a:ext cx="73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очетание  живописи (акрил), вышивки, тканей, аппликации, ль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189000"/>
            <a:ext cx="896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ки учатся нетрадиционно  сочетать  различные материалы и тех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6021360"/>
            <a:ext cx="8785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художником, но зрителем должен стать каждый.                                                     Его взрастит только Учит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573408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есто в региональном конкурсе «Природа- твой дом. Береги ег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09:50:28Z</dcterms:created>
  <dc:creator>дикий КОТ</dc:creator>
  <dc:description/>
  <dc:language>en-US</dc:language>
  <cp:lastModifiedBy>дикий КОТ</cp:lastModifiedBy>
  <dcterms:modified xsi:type="dcterms:W3CDTF">2013-04-05T05:17:47Z</dcterms:modified>
  <cp:revision>194</cp:revision>
  <dc:subject/>
  <dc:title>Слайд 1</dc:title>
</cp:coreProperties>
</file>