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4957-E290-4711-9CBC-4915648C6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2CB4-B596-48F9-AA89-7E30020A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5879-DD65-4C9D-988E-D6BA239AE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7D75-2773-4ABD-9EBA-A4EC8978B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DDEC-F167-45C8-8642-2E32FC7D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0B5E-BB98-4326-B84B-1E2174C49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5CAD-A52B-4CB5-ADB3-DDAB33209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D721-8DEF-414A-A05A-EF2BE16EE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E030-265C-49E0-9577-3CCC6DCDF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93B0-48E4-4AAE-A191-732791BB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35E5-78E7-46DB-8751-C15C9C34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2F2E-20BE-4A4E-A12C-8715B484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68BE5-8B23-42DC-894A-87927CB270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59280" y="2276640"/>
            <a:ext cx="5400360" cy="40510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84360" y="333360"/>
            <a:ext cx="3313080" cy="2863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427640" y="333360"/>
            <a:ext cx="41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аскрытие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творческих возможностей ученика   как фактор успешной социализации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3716280"/>
            <a:ext cx="237636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бо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чителя изобразительного искусства «Заклинской СОШ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ЕЗАКОВОЙ АННЫ АНАТОЛЬЕВ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2013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9280" y="692280"/>
            <a:ext cx="6048360" cy="19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оя задача учителя пробудить и поддерживать  интерес, мотивируя состоянием успеха через позитивную оценку, участие работы в выставке,  победу в конкурс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-243000"/>
            <a:ext cx="61930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тобы ученик начал рисова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до заинтересовать его, удивить  и вовлечь   в процесс творчества,  где  он сам для себя открыл бы свои возмож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619360" cy="2879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203640" y="3141720"/>
            <a:ext cx="5796000" cy="39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ворческие разработки, презентации, подготовка к проблемному обучению в сотрудничестве, я организую 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деятельность ученика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исковые домашние задания, участие в проектной деятельности, творчеств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едполагаемый мною результат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азвитие  индивидуальных  особенностей        каждого  ребёнка; повышение  коммуникативной  компетентности  учащихся, развитие  самоуваже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24000" y="2852640"/>
            <a:ext cx="2617560" cy="3745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124000" y="2637000"/>
            <a:ext cx="446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Через организацию своей работ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9640" y="333360"/>
            <a:ext cx="80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9280" y="-316080"/>
            <a:ext cx="460872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Моя цел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скрыть творческие возможности учащегося через знакомство с новыми технологиями, техниками и способами изобра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Зада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Образовательная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знакомить с новыми творческими возможност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716360" y="333360"/>
            <a:ext cx="3989520" cy="4032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50920" y="3213000"/>
            <a:ext cx="43210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Развивающа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здать условия для раскрытия учеником собственных творческих способ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4508640"/>
            <a:ext cx="83534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Воспитательная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ерез  осознание значения творческого подхода в любой деятельности поставить ученика в  ситуацию выбора: использовать свои возможности творчества или 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8920" y="5516640"/>
            <a:ext cx="860580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учение   в системе, использование проектного метода, групповой работы, применение новых методик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хнологий, техник  изображения,- всё э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ёт мне возможность учить   ребёнка, чтобы он жил с умением видеть  красоту мира, чтобы она творила красоту в нём сам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50920" y="260280"/>
            <a:ext cx="51116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 придумываю и учу новым нетрадиционным способам создания привычных вещ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26920" y="5157720"/>
            <a:ext cx="727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646600" y="333360"/>
            <a:ext cx="3272040" cy="5183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508720" y="5877000"/>
            <a:ext cx="338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ванова Маша. 3 класс. Открытка.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ойлок, папье- маше, нитки, бумаг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24000" y="981000"/>
            <a:ext cx="2396880" cy="4608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24000" y="5950080"/>
            <a:ext cx="266364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и Катя. 3 класс. Открытка.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апье- маше, шпагат, бумага, кож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2916360" y="981000"/>
            <a:ext cx="2536560" cy="41036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843280" y="5373720"/>
            <a:ext cx="266544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ушкина Алёна.                    4 класс.Открыт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ешковина , тюль, лента, тесьма, бусины, разные виды бумаг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419640" y="260280"/>
            <a:ext cx="1639800" cy="2160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79280" y="2708280"/>
            <a:ext cx="4897440" cy="34974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148360" y="260280"/>
            <a:ext cx="3830400" cy="5977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79280" y="260280"/>
            <a:ext cx="2737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ащиеся  экспериментируют с изготовлением  разных фактур бумаги для достижения большей выразительности рису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08000" y="57340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ванова Маша . 2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59280" y="33336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касов Кирилл. 3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5360760" cy="58327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268360" y="6308640"/>
            <a:ext cx="547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6381720"/>
            <a:ext cx="46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Агафонова Лиза .2 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796000" y="549360"/>
            <a:ext cx="280836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идя, как техника служит человеку, но не заменяет его, учащийся  осознаёт ценность ручного труда и твор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959440" y="2421000"/>
            <a:ext cx="2995560" cy="39607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012000" y="6381720"/>
            <a:ext cx="28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ласова Валерия. 2 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96000" y="189000"/>
            <a:ext cx="33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Компьютерная графи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332000" y="584280"/>
            <a:ext cx="6337080" cy="47559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95280" y="5300640"/>
            <a:ext cx="79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«Одуванчик» . Азовцева Анастасия. 8 клас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. 2011 год.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87280" y="5516640"/>
            <a:ext cx="73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Сочетание  живописи (акрил), вышивки, тканей, аппликации, ль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8360" y="189000"/>
            <a:ext cx="896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еники учатся нетрадиционно  сочетать  различные материалы и техн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76360" y="6021360"/>
            <a:ext cx="87850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 художником, но зрителем должен стать каждый.                                                     Его взрастит только Учител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1280" y="5734080"/>
            <a:ext cx="777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есто в региональном конкурсе «Природа- твой дом. Береги его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0T09:50:28Z</dcterms:created>
  <dc:creator>дикий КОТ</dc:creator>
  <dc:description/>
  <dc:language>en-US</dc:language>
  <cp:lastModifiedBy>дикий КОТ</cp:lastModifiedBy>
  <dcterms:modified xsi:type="dcterms:W3CDTF">2013-04-05T05:17:47Z</dcterms:modified>
  <cp:revision>194</cp:revision>
  <dc:subject/>
  <dc:title>Слайд 1</dc:title>
</cp:coreProperties>
</file>