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B5C-24CA-4308-A0BE-75D83F8D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50F-C9AF-4B81-86C4-085DF193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30F-4FC0-4EA1-A7F0-3569937C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7BA-1365-42A3-B6BB-E150EB58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3BD-37CA-4A3F-A1F1-3A805EEB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36C-6066-45CC-8C1E-2825B941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B01-3F6E-4621-A899-E1998C82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5AC-1476-4623-AA14-066F58E9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B66-EF6A-410C-A56C-C42655A0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568-78B8-4E89-9385-8059469D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D3C-4CEA-4E3A-873F-D9FC71A1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433-3BA1-41DF-B3BF-33CB05B3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3A2A-7D62-4B6D-A0C3-83D5A3BD9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eoples.ru/art/literature/poetry/contemporary/rubtsov/rubtsov_3131.s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rubtsov_3131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0280"/>
            <a:ext cx="7417080" cy="640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hoto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971640" y="5738040"/>
            <a:ext cx="7235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адьба Олениных "Приютино". Здесь размещалось общеж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тиллерийского полиг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hoto34"/>
          <p:cNvPicPr/>
          <p:nvPr/>
        </p:nvPicPr>
        <p:blipFill>
          <a:blip r:embed="rId1"/>
          <a:stretch/>
        </p:blipFill>
        <p:spPr>
          <a:xfrm>
            <a:off x="0" y="46080"/>
            <a:ext cx="5003640" cy="6811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0" y="6092280"/>
            <a:ext cx="34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ый флот. 1955-1959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photo54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hoto49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hoto6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469440" y="6165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б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hoto53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567160" y="2987640"/>
          <a:ext cx="4009680" cy="884160"/>
        </p:xfrm>
        <a:graphic>
          <a:graphicData uri="http://schemas.openxmlformats.org/drawingml/2006/table">
            <a:tbl>
              <a:tblPr/>
              <a:tblGrid>
                <a:gridCol w="400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576520" y="2997360"/>
          <a:ext cx="3990960" cy="517320"/>
        </p:xfrm>
        <a:graphic>
          <a:graphicData uri="http://schemas.openxmlformats.org/drawingml/2006/table">
            <a:tbl>
              <a:tblPr/>
              <a:tblGrid>
                <a:gridCol w="3990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340000" y="5229360"/>
          <a:ext cx="3990960" cy="1189080"/>
        </p:xfrm>
        <a:graphic>
          <a:graphicData uri="http://schemas.openxmlformats.org/drawingml/2006/table">
            <a:tbl>
              <a:tblPr/>
              <a:tblGrid>
                <a:gridCol w="39909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ourier New"/>
                          <a:ea typeface="Courier New"/>
                        </a:rPr>
                        <a:t>Общежитие на Севастопольской улице. г.Ленинград.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0"/>
          <p:cNvSpPr/>
          <p:nvPr/>
        </p:nvSpPr>
        <p:spPr>
          <a:xfrm>
            <a:off x="1695960" y="594936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Рубцов в редакции многотиражки "Кировец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ева направо: В.Тресвятский, Н.Рубцов, В.Горш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hoto163"/>
          <p:cNvPicPr/>
          <p:nvPr/>
        </p:nvPicPr>
        <p:blipFill>
          <a:blip r:embed="rId1"/>
          <a:stretch/>
        </p:blipFill>
        <p:spPr>
          <a:xfrm>
            <a:off x="1547640" y="46080"/>
            <a:ext cx="568836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hoto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1402560" y="6092280"/>
            <a:ext cx="63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й Рубцов и И.Серков в с.Николы летом 1964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hoto10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hoto106"/>
          <p:cNvPicPr/>
          <p:nvPr/>
        </p:nvPicPr>
        <p:blipFill>
          <a:blip r:embed="rId1"/>
          <a:stretch/>
        </p:blipFill>
        <p:spPr>
          <a:xfrm>
            <a:off x="226836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photo113"/>
          <p:cNvPicPr/>
          <p:nvPr/>
        </p:nvPicPr>
        <p:blipFill>
          <a:blip r:embed="rId1"/>
          <a:stretch/>
        </p:blipFill>
        <p:spPr>
          <a:xfrm>
            <a:off x="219564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цк. Город в котором родился Н. Ру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emetsk3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photo1"/>
          <p:cNvPicPr/>
          <p:nvPr/>
        </p:nvPicPr>
        <p:blipFill>
          <a:blip r:embed="rId1"/>
          <a:stretch/>
        </p:blipFill>
        <p:spPr>
          <a:xfrm>
            <a:off x="112680" y="46080"/>
            <a:ext cx="9031320" cy="6811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2288880" y="5300280"/>
            <a:ext cx="47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Астафьева, В.Коротаев, М.Корякина,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Рубцов, В.Астафь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photo16"/>
          <p:cNvPicPr/>
          <p:nvPr/>
        </p:nvPicPr>
        <p:blipFill>
          <a:blip r:embed="rId1"/>
          <a:stretch/>
        </p:blipFill>
        <p:spPr>
          <a:xfrm>
            <a:off x="248436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photo117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hoto120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1080" y="649044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ветвями больничных берез. 197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18040" y="2987640"/>
          <a:ext cx="2709720" cy="884160"/>
        </p:xfrm>
        <a:graphic>
          <a:graphicData uri="http://schemas.openxmlformats.org/drawingml/2006/table">
            <a:tbl>
              <a:tblPr/>
              <a:tblGrid>
                <a:gridCol w="27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227400" y="2997360"/>
          <a:ext cx="2690640" cy="517320"/>
        </p:xfrm>
        <a:graphic>
          <a:graphicData uri="http://schemas.openxmlformats.org/drawingml/2006/table">
            <a:tbl>
              <a:tblPr/>
              <a:tblGrid>
                <a:gridCol w="2690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435640" y="5950080"/>
          <a:ext cx="2690640" cy="914400"/>
        </p:xfrm>
        <a:graphic>
          <a:graphicData uri="http://schemas.openxmlformats.org/drawingml/2006/table">
            <a:tbl>
              <a:tblPr/>
              <a:tblGrid>
                <a:gridCol w="269064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иколай Рубцов в последний год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photo121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3851280" y="5399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еща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Надгробие на могиле Николая Рубцова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Надгробие на могиле Николая Рубцова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x_9138815d"/>
          <p:cNvPicPr/>
          <p:nvPr/>
        </p:nvPicPr>
        <p:blipFill>
          <a:blip r:embed="rId1"/>
          <a:stretch/>
        </p:blipFill>
        <p:spPr>
          <a:xfrm>
            <a:off x="0" y="0"/>
            <a:ext cx="4619520" cy="285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hoto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781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photo41.jpg (7868 bytes)"/>
          <p:cNvPicPr/>
          <p:nvPr/>
        </p:nvPicPr>
        <p:blipFill>
          <a:blip r:embed="rId3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photo79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hoto8.jpg (5735 bytes)"/>
          <p:cNvPicPr/>
          <p:nvPr/>
        </p:nvPicPr>
        <p:blipFill>
          <a:blip r:embed="rId1"/>
          <a:stretch/>
        </p:blipFill>
        <p:spPr>
          <a:xfrm>
            <a:off x="1692360" y="0"/>
            <a:ext cx="575928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hoto1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600" y="46080"/>
            <a:ext cx="9140760" cy="6811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ий дом в с. Никольское, где в 1943-1950 гг. жил Н.Рубц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hoto87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hoto51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hoto189"/>
          <p:cNvPicPr/>
          <p:nvPr/>
        </p:nvPicPr>
        <p:blipFill>
          <a:blip r:embed="rId1"/>
          <a:stretch/>
        </p:blipFill>
        <p:spPr>
          <a:xfrm>
            <a:off x="2411280" y="0"/>
            <a:ext cx="395928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hoto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909800" y="5667120"/>
            <a:ext cx="472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.Рубцов (второй в первом ряду справа)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ский дом в с.Никольское. 1950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hoto134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720" y="5516280"/>
            <a:ext cx="48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житие Горного техникума (г.Кировс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photo135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6:46:47Z</dcterms:created>
  <dc:creator>SamLab.ws</dc:creator>
  <dc:description/>
  <dc:language>en-US</dc:language>
  <cp:lastModifiedBy>Учитель</cp:lastModifiedBy>
  <dcterms:modified xsi:type="dcterms:W3CDTF">2009-01-23T06:31:23Z</dcterms:modified>
  <cp:revision>4</cp:revision>
  <dc:subject/>
  <dc:title>Слайд 1</dc:title>
</cp:coreProperties>
</file>