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FD6-CE07-4EC5-A9D6-648FD7E3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33D-304C-472D-9F9F-8DEBBC3D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A29-4EAE-4C10-BFC3-A59DDAFD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4DF-191F-4EA1-ADCF-0F618EDD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A01-C7BB-4448-92D1-FB1BEA4D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2F9-F6BE-48A6-B323-E2DC32D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0D7-28CE-442F-8AE2-9281C681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793-D833-411D-B930-5A72EB4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772-AB8A-4739-850A-A61852B9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689-E269-44ED-8BB2-E912A974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CD7-6F34-45F7-A6DB-99EA8E67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DAA-BD70-47B0-820C-4355B83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2EBF-2F0A-4228-855A-30E8165F1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oples.ru/art/literature/poetry/contemporary/rubtsov/rubtsov_3131.s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ubtsov_3131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0280"/>
            <a:ext cx="7417080" cy="64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971640" y="5738040"/>
            <a:ext cx="7235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дьба Олениных "Приютино". Здесь размещалось общеж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иллерийского полиг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hoto34"/>
          <p:cNvPicPr/>
          <p:nvPr/>
        </p:nvPicPr>
        <p:blipFill>
          <a:blip r:embed="rId1"/>
          <a:stretch/>
        </p:blipFill>
        <p:spPr>
          <a:xfrm>
            <a:off x="0" y="46080"/>
            <a:ext cx="5003640" cy="681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0" y="6092280"/>
            <a:ext cx="34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ый флот. 1955-1959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photo54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hoto49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hoto6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469440" y="6165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б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hoto53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567160" y="2987640"/>
          <a:ext cx="4009680" cy="884160"/>
        </p:xfrm>
        <a:graphic>
          <a:graphicData uri="http://schemas.openxmlformats.org/drawingml/2006/table">
            <a:tbl>
              <a:tblPr/>
              <a:tblGrid>
                <a:gridCol w="400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576520" y="2997360"/>
          <a:ext cx="3990960" cy="517320"/>
        </p:xfrm>
        <a:graphic>
          <a:graphicData uri="http://schemas.openxmlformats.org/drawingml/2006/table">
            <a:tbl>
              <a:tblPr/>
              <a:tblGrid>
                <a:gridCol w="399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340000" y="5229360"/>
          <a:ext cx="3990960" cy="1189080"/>
        </p:xfrm>
        <a:graphic>
          <a:graphicData uri="http://schemas.openxmlformats.org/drawingml/2006/table">
            <a:tbl>
              <a:tblPr/>
              <a:tblGrid>
                <a:gridCol w="39909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Общежитие на Севастопольской улице. г.Ленинград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0"/>
          <p:cNvSpPr/>
          <p:nvPr/>
        </p:nvSpPr>
        <p:spPr>
          <a:xfrm>
            <a:off x="1695960" y="594936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Рубцов в редакции многотиражки "Кировец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ва направо: В.Тресвятский, Н.Рубцов, В.Горш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hoto163"/>
          <p:cNvPicPr/>
          <p:nvPr/>
        </p:nvPicPr>
        <p:blipFill>
          <a:blip r:embed="rId1"/>
          <a:stretch/>
        </p:blipFill>
        <p:spPr>
          <a:xfrm>
            <a:off x="1547640" y="46080"/>
            <a:ext cx="568836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hoto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402560" y="6092280"/>
            <a:ext cx="63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 Рубцов и И.Серков в с.Николы летом 196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hoto10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hoto106"/>
          <p:cNvPicPr/>
          <p:nvPr/>
        </p:nvPicPr>
        <p:blipFill>
          <a:blip r:embed="rId1"/>
          <a:stretch/>
        </p:blipFill>
        <p:spPr>
          <a:xfrm>
            <a:off x="226836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photo113"/>
          <p:cNvPicPr/>
          <p:nvPr/>
        </p:nvPicPr>
        <p:blipFill>
          <a:blip r:embed="rId1"/>
          <a:stretch/>
        </p:blipFill>
        <p:spPr>
          <a:xfrm>
            <a:off x="2195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цк. Город в котором родился Н. Ру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emetsk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hoto1"/>
          <p:cNvPicPr/>
          <p:nvPr/>
        </p:nvPicPr>
        <p:blipFill>
          <a:blip r:embed="rId1"/>
          <a:stretch/>
        </p:blipFill>
        <p:spPr>
          <a:xfrm>
            <a:off x="112680" y="46080"/>
            <a:ext cx="9031320" cy="6811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2288880" y="5300280"/>
            <a:ext cx="47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Астафьева, В.Коротаев, М.Корякина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Рубцов, В.Астафь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photo16"/>
          <p:cNvPicPr/>
          <p:nvPr/>
        </p:nvPicPr>
        <p:blipFill>
          <a:blip r:embed="rId1"/>
          <a:stretch/>
        </p:blipFill>
        <p:spPr>
          <a:xfrm>
            <a:off x="248436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hoto117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hoto120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080" y="649044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етвями больничных берез. 197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18040" y="2987640"/>
          <a:ext cx="2709720" cy="884160"/>
        </p:xfrm>
        <a:graphic>
          <a:graphicData uri="http://schemas.openxmlformats.org/drawingml/2006/table">
            <a:tbl>
              <a:tblPr/>
              <a:tblGrid>
                <a:gridCol w="27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227400" y="2997360"/>
          <a:ext cx="2690640" cy="517320"/>
        </p:xfrm>
        <a:graphic>
          <a:graphicData uri="http://schemas.openxmlformats.org/drawingml/2006/table">
            <a:tbl>
              <a:tblPr/>
              <a:tblGrid>
                <a:gridCol w="269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435640" y="5950080"/>
          <a:ext cx="2690640" cy="914400"/>
        </p:xfrm>
        <a:graphic>
          <a:graphicData uri="http://schemas.openxmlformats.org/drawingml/2006/table">
            <a:tbl>
              <a:tblPr/>
              <a:tblGrid>
                <a:gridCol w="26906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иколай Рубцов в последний год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photo121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3851280" y="5399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ещ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Надгробие на могиле Николая Рубцова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Надгробие на могиле Николая Рубцова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x_9138815d"/>
          <p:cNvPicPr/>
          <p:nvPr/>
        </p:nvPicPr>
        <p:blipFill>
          <a:blip r:embed="rId1"/>
          <a:stretch/>
        </p:blipFill>
        <p:spPr>
          <a:xfrm>
            <a:off x="0" y="0"/>
            <a:ext cx="4619520" cy="285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hoto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78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photo41.jpg (7868 bytes)"/>
          <p:cNvPicPr/>
          <p:nvPr/>
        </p:nvPicPr>
        <p:blipFill>
          <a:blip r:embed="rId3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photo79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hoto8.jpg (5735 bytes)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hoto1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00" y="46080"/>
            <a:ext cx="914076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дом в с. Никольское, где в 1943-1950 гг. жил Н.Рубц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hoto8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hoto51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hoto189"/>
          <p:cNvPicPr/>
          <p:nvPr/>
        </p:nvPicPr>
        <p:blipFill>
          <a:blip r:embed="rId1"/>
          <a:stretch/>
        </p:blipFill>
        <p:spPr>
          <a:xfrm>
            <a:off x="2411280" y="0"/>
            <a:ext cx="39592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hoto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09800" y="5667120"/>
            <a:ext cx="47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.Рубцов (второй в первом ряду справа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ский дом в с.Никольское. 1950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hoto134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720" y="5516280"/>
            <a:ext cx="48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житие Горного техникума (г.Кировс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photo135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6:46:47Z</dcterms:created>
  <dc:creator>SamLab.ws</dc:creator>
  <dc:description/>
  <dc:language>en-US</dc:language>
  <cp:lastModifiedBy>Учитель</cp:lastModifiedBy>
  <dcterms:modified xsi:type="dcterms:W3CDTF">2009-01-23T06:31:23Z</dcterms:modified>
  <cp:revision>4</cp:revision>
  <dc:subject/>
  <dc:title>Слайд 1</dc:title>
</cp:coreProperties>
</file>