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A0E-09DE-4FF4-94B2-4865525B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087-C942-42BD-859A-B988BD29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6C0-2C7E-474A-83C0-CC88610B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508-1519-444F-854E-5A67D1DB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90E-78DD-4861-94D9-185720FE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CDE-D5B9-42AB-8760-8174B823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C82-E243-4485-982C-72BE9B3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773-EF37-48C4-A0CD-E30E151E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128-442F-4FB5-BE82-329FF552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3E2-5E9F-473A-9EDF-A538334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4FE-E2F2-47F7-8CA6-0F6F137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DC3C-6D5E-49D8-9982-E0159AC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910A-FCC5-4201-8F89-249D6998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042" t="4081" r="4152" b="2037"/>
          <a:stretch/>
        </p:blipFill>
        <p:spPr>
          <a:xfrm>
            <a:off x="0" y="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43200" y="0"/>
            <a:ext cx="2209680" cy="191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5715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43200" y="1886040"/>
            <a:ext cx="220968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4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693960"/>
            <a:ext cx="4572000" cy="3164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10401" t="7880" r="4800" b="7273"/>
          <a:stretch/>
        </p:blipFill>
        <p:spPr>
          <a:xfrm>
            <a:off x="4572000" y="3838680"/>
            <a:ext cx="4572000" cy="3019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7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68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54" t="2775" r="927" b="2775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тинов Алексей Константинович</cp:lastModifiedBy>
  <dcterms:modified xsi:type="dcterms:W3CDTF">2009-01-18T19:31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