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7A4-7212-4FCE-AFB4-B9168632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C48-9930-437D-A9FD-31D1DB0E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D2A-75C4-4ABD-B4F9-49101FB0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30C-1522-4112-9367-E0A92012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E16-D2AF-4A35-AACE-1F5AF25B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28F-C5C1-4C1B-8BAF-508A12A4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22F-2DC1-49ED-9578-09F5D1DA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1B2-DF84-44A8-BEFA-4D0C3D58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53B-FA92-4F82-9A74-27279DE6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20E-9E7F-4BDE-89B1-010A9155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1E4-5CA2-4C1E-AAF6-1E9362CA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83D-81EC-44DA-A112-88DF3D01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E471-3C3A-4A73-BF07-7AE69C516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5042" t="4081" r="4152" b="2037"/>
          <a:stretch/>
        </p:blipFill>
        <p:spPr>
          <a:xfrm>
            <a:off x="0" y="0"/>
            <a:ext cx="274320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743200" y="0"/>
            <a:ext cx="2209680" cy="1911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5715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743200" y="1886040"/>
            <a:ext cx="2209680" cy="1542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715000" y="3429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846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693960"/>
            <a:ext cx="4572000" cy="3164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10401" t="7880" r="4800" b="7273"/>
          <a:stretch/>
        </p:blipFill>
        <p:spPr>
          <a:xfrm>
            <a:off x="4572000" y="3838680"/>
            <a:ext cx="4572000" cy="3019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6878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686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1854" t="2775" r="927" b="2775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стинов Алексей Константинович</cp:lastModifiedBy>
  <dcterms:modified xsi:type="dcterms:W3CDTF">2009-01-18T19:31:4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