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407-29FE-431A-9126-1352A086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0F7-1685-4FBC-B26B-03687F8C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87D-9182-40F5-A470-7DDD14D4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6D8-4972-485B-B816-774D3E48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D3D-CD65-4289-8F4C-57BA4B96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5DB-5BA8-445A-B0A0-53401E28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0C4-5103-4489-A8F4-5B4AF9D3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091-8433-421C-BA5D-89737ADA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C80-64BF-4239-9463-5D67D553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12F-C098-4E60-8ED4-35CBDB6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AE0-6806-4FB1-948E-D3EE9A14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5BD-10BF-4650-96F6-8C95737D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3264-0A9A-4BE9-BDC5-43075C862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333360"/>
            <a:ext cx="882000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альвадор Дали ,провоцировавший своей жизнью и творчеством взрывы восторга и негодования в обществе, один из самых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диозных и эксцентричных фигур 20 века...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тавалс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раждани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альвадором - Спасителе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«во времена угрожающей техники и процветания посредственности, призванным спасти искусство от пустоты.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 Небеса- вот чего искала моя влюблённая душа на протяжении вс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изни…неб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ямёхонько в груди челове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у которого есть Вер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утверждал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ни одно из открытий не позволяет отрицать Бог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96000" y="189000"/>
            <a:ext cx="3189240" cy="446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66596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гда я пишу карт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я чувствую себя сумасшедшим. Единственная разница между мной и сумасшедшим в том, что я не сумасшедш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ли всё время думать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Я- гений» ,-в конце концов станешь г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удучи посредственностью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зачем лезть из кожи вон, доказывая, что ты посредственность. Это и так заме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л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шедевров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у выйдет человечество в косм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и что? На что ему космос, когда не дано вечност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ро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сли он настоящий герой, всегда сам по себе. Одно дело герой, другое - сл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 мне, богате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 унизительно, унизительно умереть под заб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ли в стране 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 крайней мере пятидесяти сортов сыра и хорошего вина, значит страна дошла до ру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63817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941720"/>
            <a:ext cx="8748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гда мною обуревают чув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я превращаюсь в форменного иди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скусст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я выправляю себя и заражаю нормальны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я живопись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то жизнь и пища, плоть и кровь. Не ищите в ней ни ума, ни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еликие психоло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те не могли понять, где кончается гениальность и начинается безум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7476840" cy="6191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1446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04640"/>
            <a:ext cx="874872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Сюрреализм</a:t>
            </a:r>
            <a:r>
              <a:rPr b="0" i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верхреальность» -возник в 1924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анифест сюрреализма» сформулировал фр. поэт Андре Брет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рази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реально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ункцианирование мы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мысл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яющейся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вне всякого контроля со стороны раз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а в могущество грёз, игру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емление разруш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уществующие стереотипы и общепринятые ц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зы- символы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ерп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нтазиях, грёзах, сновидениях и воспомин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сновывали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учения о бессознательном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игмунда Фрей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встрийского врача и психолога, и теорию франц. Философ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ри Бергс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особая роль отводилась интуиции, создающей «сверхреаль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львадор Д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3905280" cy="476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87280" y="609300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чайший гений сюрреализма 20-го ве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92360" y="3933720"/>
            <a:ext cx="542952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благодарен судьбе за две вещи: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 то, что я испанец и за то, что я - Сальвадор Дал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393840"/>
            <a:ext cx="8281800" cy="68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ли сформулировал теорию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араноидально-критического мет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четание реальности  с фантастиче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ррациональным, случай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поставление несопоставим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идоизме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родных свойств вещей: твёрдое –жидким, текущим, мягкое- окаменевши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изобразительном элементе угадываются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радоксы, ирония, гроте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 реального мира превращаются в сверхреальность, не поддающейся расшифровке и объяс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ём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я «исчезающих образов»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гда форма растворяется, исчезает в пространстве, просвечивает через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картины – не только порождение фантазии, а  своеобразные слепки с действ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48000" cy="551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189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6028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Сюрреализм- это 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1197000"/>
            <a:ext cx="38163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еизменными темами его творений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уш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л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мер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так же мир сексуальных переживаний человека (влияние книг Зигмунда Фрей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57340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4-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080" y="189000"/>
            <a:ext cx="6173640" cy="619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4911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едчувствие гражданской войны в  Испании. 1935 г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189000"/>
            <a:ext cx="284328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произведение открывает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нтивоенную тем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 творчестве С. Дали, она звучит пугающе, предупреждает разум и взывает к н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Дурные предчувствия надвигающейся гражданской войны мучили мен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за полгода до начала событий я написал эту картину. Приправленная вареными бобами, она  изображает огромное человеческое тело в виде чудовищных наростов рук и ног, которые ломают друг друга в пароксизме безумия"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это не просто монстры - призраки испанской гражданской войны, а войны как таковой вообще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769080" cy="518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16360" y="5373720"/>
            <a:ext cx="98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остоянство памяти».193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транном монстре, который расположен в центре композиции, можно признать человеческую фигуру, эта абстрактная форма становится для Дали своего рода автопортретом, который вновь и вновь возвращается в его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ранжевые часы в левом нижнем углу картины покрыты муравьями. Дали часто использует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муравьё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своей живописи как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имвол смер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рево, в целом, означает жизнь, но в данном случае оно имеет ту же функцию, что и остальные элементы на картине: произвести впечатление тревоги и, в определённой степени, уж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60760" y="260280"/>
            <a:ext cx="4560840" cy="640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260280"/>
            <a:ext cx="6767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С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веянный полётом пч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круг граната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 секунду до пробуждения». 194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4:30:00Z</dcterms:created>
  <dc:creator>дикий КОТ</dc:creator>
  <dc:description/>
  <dc:language>en-US</dc:language>
  <cp:lastModifiedBy>дикий КОТ</cp:lastModifiedBy>
  <dcterms:modified xsi:type="dcterms:W3CDTF">2010-06-19T19:14:24Z</dcterms:modified>
  <cp:revision>29</cp:revision>
  <dc:subject/>
  <dc:title>Слайд 1</dc:title>
</cp:coreProperties>
</file>