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EBFA-2772-4F02-BB7B-A68D39434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A10D-82D6-4C3D-B3FB-43B04183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C097-D90D-4184-939A-A3962CBCB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9325-D29D-44A8-A824-48124BDB0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CBC3-3670-45EE-BFF2-2A2A653F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FB71-5814-4CFD-B877-C9C894E8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3643-E33A-497E-B7AB-29DE7E3C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BB26-17A6-4C72-B8D4-872C2427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3AA7-B536-4E84-AA37-6A7C2523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FC5F-A744-4A62-A57F-3DB186E0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9D61-859E-4271-8851-8106E53B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6633-6698-4435-86E5-C13A4519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4CF4-6021-466E-95AE-6BFA90BDC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ворческая работа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чителя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клинской  школы</a:t>
            </a:r>
            <a:br>
              <a:rPr sz="2800"/>
            </a:br>
            <a:br>
              <a:rPr sz="4000"/>
            </a:b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Резаковой Анны Анатольевны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ород Луга, 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24000" y="333360"/>
            <a:ext cx="8820000" cy="59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альвадор Дали ,провоцировавший своей жизнью и творчеством взрывы восторга и негодования в обществе, один из самых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одиозных и эксцентричных фигур 20 века...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ставался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гражданин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Сальвадором - Спасителем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, «во времена угрожающей техники и процветания посредственности, призванным спасти искусство от пустоты.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« Небеса- вот чего искала моя влюблённая душа на протяжении вс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жизни…небе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рямёхонько в груди челове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у которого есть Вера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н утверждал, 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«ни одно из открытий не позволяет отрицать Бога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796000" y="189000"/>
            <a:ext cx="3189240" cy="4465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0"/>
            <a:ext cx="665964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огда я пишу карти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я чувствую себя сумасшедшим. Единственная разница между мной и сумасшедшим в том, что я не сумасшедш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Если всё время думать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«Я- гений» ,-в конце концов станешь г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Будучи посредственностью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незачем лезть из кожи вон, доказывая, что ты посредственность. Это и так замет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У ле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шедевров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у выйдет человечество в космо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и что? На что ему космос, когда не дано вечности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ерой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если он настоящий герой, всегда сам по себе. Одно дело герой, другое - слуг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о мне, богате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не унизительно, унизительно умереть под забо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Если в стране н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о крайней мере пятидесяти сортов сыра и хорошего вина, значит страна дошла до ру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638172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4941720"/>
            <a:ext cx="8748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огда мною обуревают чувст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я превращаюсь в форменного иди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скусств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я выправляю себя и заражаю нормальных лю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оя живопись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это жизнь и пища, плоть и кровь. Не ищите в ней ни ума, ни чув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еликие психолог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те не могли понять, где кончается гениальность и начинается безум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00720" y="189000"/>
            <a:ext cx="7476840" cy="6191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41446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95280" y="404640"/>
            <a:ext cx="8748720" cy="64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33"/>
                </a:solidFill>
                <a:uFillTx/>
                <a:latin typeface="Arial"/>
              </a:rPr>
              <a:t>Сюрреализм</a:t>
            </a:r>
            <a:r>
              <a:rPr b="0" i="1" lang="ru-RU" sz="2400" spc="-1" strike="noStrike" u="sng">
                <a:solidFill>
                  <a:srgbClr val="990033"/>
                </a:solidFill>
                <a:uFillTx/>
                <a:latin typeface="Arial"/>
              </a:rPr>
              <a:t>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сверхреальность» -возник в 1924 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Манифест сюрреализма» сформулировал фр. поэт Андре Брет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Це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ыразить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реальное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функцианирование мыс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ображение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мысли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являющейся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вне всякого контроля со стороны разу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а в могущество грёз, игру мыс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емление разруши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уществующие стереотипы и общепринятые ц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бразы- символы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черпа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нтазиях, грёзах, сновидениях и воспомина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сновывалис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учения о бессознательном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игмунда Фрей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австрийского врача и психолога, и теорию франц. Философа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нри Бергсо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где особая роль отводилась интуиции, создающей «сверхреальност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252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львадор Да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92360" y="907920"/>
            <a:ext cx="3905280" cy="4762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187280" y="6093000"/>
            <a:ext cx="727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еличайший гений сюрреализма 20-го ве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492360" y="3933720"/>
            <a:ext cx="5429520" cy="17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Я благодарен судьбе за две вещи: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за то, что я испанец и за то, что я - Сальвадор Дали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11280" y="393840"/>
            <a:ext cx="8281800" cy="68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али сформулировал теорию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араноидально-критического метод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очетание реальности  с фантастически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иррациональным, случай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опоставление несопоставим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идоизмен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родных свойств вещей: твёрдое –жидким, текущим, мягкое- окаменевшим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дном изобразительном элементе угадываются друг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арадоксы, ирония, гроте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меты реального мира превращаются в сверхреальность, не поддающейся расшифровке и объясн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ём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спользования «исчезающих образов»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гда форма растворяется, исчезает в пространстве, просвечивает через друг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картины – не только порождение фантазии, а  своеобразные слепки с действи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48000" cy="5516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64000" y="189000"/>
            <a:ext cx="352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48360" y="26028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«Сюрреализм- это я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03640" y="1197000"/>
            <a:ext cx="381636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Неизменными темами его творений бы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разрушен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тлен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мер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а так же мир сексуальных переживаний человека (влияние книг Зигмунда Фрейд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58920" y="57340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4- 19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4080" y="189000"/>
            <a:ext cx="6173640" cy="6192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649116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Предчувствие гражданской войны в  Испании. 1935 год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00720" y="189000"/>
            <a:ext cx="284328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Это произведение открывает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антивоенную тем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в творчестве С. Дали, она звучит пугающе, предупреждает разум и взывает к нем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Дурные предчувствия надвигающейся гражданской войны мучили мен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за полгода до начала событий я написал эту картину. Приправленная вареными бобами, она  изображает огромное человеческое тело в виде чудовищных наростов рук и ног, которые ломают друг друга в пароксизме безумия"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это не просто монстры - призраки испанской гражданской войны, а войны как таковой вообще"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332000" y="189000"/>
            <a:ext cx="6769080" cy="5183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916360" y="5373720"/>
            <a:ext cx="989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Постоянство памяти».1931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670720"/>
            <a:ext cx="914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странном монстре, который расположен в центре композиции, можно признать человеческую фигуру, эта абстрактная форма становится для Дали своего рода автопортретом, который вновь и вновь возвращается в его раб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ранжевые часы в левом нижнем углу картины покрыты муравьями. Дали часто использует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муравьё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в своей живописи как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символ смерт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ерево, в целом, означает жизнь, но в данном случае оно имеет ту же функцию, что и остальные элементы на картине: произвести впечатление тревоги и, в определённой степени, ужа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460760" y="260280"/>
            <a:ext cx="4560840" cy="6408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79280" y="260280"/>
            <a:ext cx="6767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«Сон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авеянный полётом пче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округ граната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за секунду до пробуждения». 194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1T14:30:00Z</dcterms:created>
  <dc:creator>дикий КОТ</dc:creator>
  <dc:description/>
  <dc:language>en-US</dc:language>
  <cp:lastModifiedBy>дикий КОТ</cp:lastModifiedBy>
  <dcterms:modified xsi:type="dcterms:W3CDTF">2010-06-19T19:14:24Z</dcterms:modified>
  <cp:revision>29</cp:revision>
  <dc:subject/>
  <dc:title>Слайд 1</dc:title>
</cp:coreProperties>
</file>