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77F-F818-4EC3-9708-32058614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DBE-115F-4FEB-B578-662975E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D62-090D-4DE2-ACBC-A82204ED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EBC-D9EF-41A8-9D5E-E44A60E8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E78-425C-4E90-80F9-8A712790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B69-C0C2-42E0-BC8D-B9C81190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261-7C97-410A-B303-2761B8D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E32-B160-470A-A0DF-CD87D0BA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E35-A3E9-4483-A63B-A1B551D0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9DB-D9B8-4F5E-B560-D6B7604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E13-B4F6-4A5C-B251-8ACE961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BB9-B84B-4D7D-8933-B4B0BAB5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564-B8A3-4581-BFFD-FFC005C00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text=&#1051;&#1077;&#1095;&#1077;&#1073;&#1085;&#1099;&#1077;%20&#1080;&#1089;&#1090;&#1086;&#1095;&#1085;&#1080;&#1082;&#1080;%20&#1057;&#1077;&#1088;&#1075;&#1080;&#1077;&#1074;&#1089;&#1082;&#1086;&#1075;&#1086;%20&#1088;&#1072;&#1081;&#1086;&#1085;&#1072;&amp;p=4&amp;img_url=realotdih.ru/uploads/posts/2009-08/1249463680_20922553_1a_big.jpg&amp;rpt=simage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-fotki.yandex.ru/get/4011/ablag.7/0_24359_5b1b5837_XL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sergievsk.ru/ufiles/Image/News/2011/June/kurort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обенности социально-экономического развития Сергиевского район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3920" y="59436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3800" y="5845320"/>
            <a:ext cx="62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 учитель географии ГБОУ СОШ№1 «Образовательный цент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.Сергиевск Иванова О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227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спользован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рская область. География и история, экономика и культура: учебное пособие. –Самара, Самарский Дом печати, 2001.- 440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с Самарской области- Самара, Роскартография, 1999, 31с. 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альный А.Н. Зинченко В.Н., Мокрый В.С. Символика самарской области. –Самара, СамВен, 2001.-44 с.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якин И.В., Паженков А.С. Хищные птицы Самарской области. Книга-фотоальбом. – Самара, 2008.-66 с.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осы Самарского края. Историко-этнографические очерки. – Самара, 2003.-287с.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262320"/>
            <a:ext cx="7619760" cy="198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57200"/>
            <a:ext cx="784872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исследование  особенностей социально-экономического развития Сергиевского района  в современных условиях развития экономик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.Изучить особенности исторического развития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Охарактеризовать ЭГП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3 Проанализировать  природно-ресурсный потенциал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4. Дать характеристику демографического потенциала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5.Проанализировать производственный потенциал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етоды ис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Сравнительно-географические методы исследова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Аналитические методы исслед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Статистические методы иссле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Объект исследования 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Сергиевс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едмет исследования: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Социально экономическое развитие Серги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http://www.sergievsk.ru/ufiles/Image/krepost.jpg"/>
          <p:cNvPicPr/>
          <p:nvPr/>
        </p:nvPicPr>
        <p:blipFill>
          <a:blip r:embed="rId2"/>
          <a:stretch/>
        </p:blipFill>
        <p:spPr>
          <a:xfrm>
            <a:off x="1066680" y="1219320"/>
            <a:ext cx="6172200" cy="408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40600" y="456120"/>
            <a:ext cx="73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3300"/>
              </a:buClr>
              <a:buFont typeface="Arial"/>
              <a:buAutoNum type="arabicPeriod"/>
              <a:tabLst>
                <a:tab algn="l" pos="27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сторическое развитие Сергиев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5086080"/>
            <a:ext cx="7391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    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одословная современного Сергиевского района  начинается с военной крепости сооруженной в 1703 году по указу Петра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528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Экономико-географическое положение Сергиев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http://www.sergievsk.ru/ufiles/Image/News/karta1.jpg"/>
          <p:cNvPicPr/>
          <p:nvPr/>
        </p:nvPicPr>
        <p:blipFill>
          <a:blip r:embed="rId2"/>
          <a:stretch/>
        </p:blipFill>
        <p:spPr>
          <a:xfrm>
            <a:off x="19810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иродные условия, природные ресурсы территории, их хозяйственная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лавным минерально-сырьевым ресурсом, значимым для Самарской области в стратегическом плане, является нефть, которая используется для производства бензина, битума, смол. Основные промышленные месторождения нефти расположены в восточной, центральной и южной части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йон богат залежами лечебных сернистых грязей и серных источников. Имеются залежи гипса, известняка, глины, песка, которые промышленного значения не имеют, но частично используются на местные нужды строительными предприятиями и насе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иродные условия, природные ресурсы территории, их хозяйственная оц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8" descr="Голубое озеро (фото: С. Кутырева)"/>
          <p:cNvPicPr/>
          <p:nvPr/>
        </p:nvPicPr>
        <p:blipFill>
          <a:blip r:embed="rId2"/>
          <a:stretch/>
        </p:blipFill>
        <p:spPr>
          <a:xfrm>
            <a:off x="762120" y="1523880"/>
            <a:ext cx="3876480" cy="281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4495680"/>
            <a:ext cx="29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олубое 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0" descr="http://www.sergievsk.ru/ufiles/Image/Dostoprimechat/sera.jpg"/>
          <p:cNvPicPr/>
          <p:nvPr/>
        </p:nvPicPr>
        <p:blipFill>
          <a:blip r:embed="rId3"/>
          <a:stretch/>
        </p:blipFill>
        <p:spPr>
          <a:xfrm>
            <a:off x="4648320" y="2514600"/>
            <a:ext cx="4190760" cy="2819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800" y="55627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ерное оз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Демографический потенциал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5480" y="1599480"/>
            <a:ext cx="388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и естественного движения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гиев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66680" y="1066680"/>
          <a:ext cx="6039000" cy="3611520"/>
        </p:xfrm>
        <a:graphic>
          <a:graphicData uri="http://schemas.openxmlformats.org/drawingml/2006/table">
            <a:tbl>
              <a:tblPr/>
              <a:tblGrid>
                <a:gridCol w="2697120"/>
                <a:gridCol w="1260720"/>
                <a:gridCol w="1025280"/>
                <a:gridCol w="1055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 рост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нижени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родившихся, че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умерших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тественный прирост (убыль)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бра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разв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прибывших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 выбывших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грационный прирост (убыль)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38098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Развитие экономики Сергиевского райо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 территории района зарегистрировано 566 организаций, в том числе      10 - по добыче полезных ископаемых, 46 -  обрабатывающих производств, 3 - по производству электроэнергии, газа и воды, 81 - сельского хозяйства, охоты и лесного хозяйства. В районе функционирует 131 малое предприятие с численностью занятых 1433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31812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сновные направления специализации сельскохозяйственного производства в районе – производство зерна, подсолнечника и молока. Площадь сельскохозяйственных угодий составляет 220,9 тыс. гектар. В районе зарегистрировано 20 крупных сельскохозяйственных предприятий и 58 крестьянских (фермерских) хозяйств. В структуре валовой продукции сельского хозяйства 55,4% составляет растениеводство, 44,6% - животноводство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Arial"/>
              </a:rPr>
              <a:t>Культурно-рекреационный потенц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http://im7-tub-ru.yandex.net/i?id=295131254-01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86240" y="1357200"/>
            <a:ext cx="3203640" cy="2714760"/>
          </a:xfrm>
          <a:prstGeom prst="rect">
            <a:avLst/>
          </a:prstGeom>
          <a:ln w="0">
            <a:noFill/>
          </a:ln>
        </p:spPr>
      </p:pic>
      <p:pic>
        <p:nvPicPr>
          <p:cNvPr id="70" name="i-main-pic" descr="Картинка 57 из 15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960" y="135720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71" name="i-main-pic" descr="Картинка 84 из 1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00240" y="3500280"/>
            <a:ext cx="3286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енков С.А.</dc:creator>
  <dc:description/>
  <cp:keywords>Самарская область география природа</cp:keywords>
  <dc:language>en-US</dc:language>
  <cp:lastModifiedBy>Завуч</cp:lastModifiedBy>
  <dcterms:modified xsi:type="dcterms:W3CDTF">2013-04-05T08:40:24Z</dcterms:modified>
  <cp:revision>57</cp:revision>
  <dc:subject>Самарская область</dc:subject>
  <dc:title>Сердцу России - 160 л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Сердцу России - 160 лет">
    <vt:lpwstr>Презентация</vt:lpwstr>
  </property>
</Properties>
</file>