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0DED-5491-4D53-AF7F-87F97427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8AA5-32DC-4A1A-BFDC-561685AA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988D-C1D6-4B78-AEC0-8608B684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6DD9-4277-41AF-8A37-A0429D50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324E-5A0C-4E70-87E1-774FC673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F9CC-FBFC-4841-BC53-7D1858D2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AC95-7293-4FAE-87C0-CFB5E9E3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F914-46AB-418E-A8CA-DD229200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E9C4-BC8D-4F9C-9DCE-DB488A59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485D-E463-41BB-9DCF-5026ABA5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2052-294F-4B4A-B3AB-FC348E29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40E9-DCAA-4132-B012-875D160E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A4FF-4013-4B84-AC7D-FE454D728D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yandex.ru/yandsearch?text=&#1051;&#1077;&#1095;&#1077;&#1073;&#1085;&#1099;&#1077;%20&#1080;&#1089;&#1090;&#1086;&#1095;&#1085;&#1080;&#1082;&#1080;%20&#1057;&#1077;&#1088;&#1075;&#1080;&#1077;&#1074;&#1089;&#1082;&#1086;&#1075;&#1086;%20&#1088;&#1072;&#1081;&#1086;&#1085;&#1072;&amp;p=4&amp;img_url=realotdih.ru/uploads/posts/2009-08/1249463680_20922553_1a_big.jpg&amp;rpt=simage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g-fotki.yandex.ru/get/4011/ablag.7/0_24359_5b1b5837_XL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www.sergievsk.ru/ufiles/Image/News/2011/June/kurort.jpg" TargetMode="Externa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обенности социально-экономического развития Сергиевского района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23920" y="5943600"/>
            <a:ext cx="4419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3800" y="5845320"/>
            <a:ext cx="624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полнил учитель географии ГБОУ СОШ№1 «Образовательный центр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.Сергиевск Иванова О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00800" y="1295280"/>
            <a:ext cx="2270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Использованная 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арская область. География и история, экономика и культура: учебное пособие. –Самара, Самарский Дом печати, 2001.- 440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лас Самарской области- Самара, Роскартография, 1999, 31с. 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альный А.Н. Зинченко В.Н., Мокрый В.С. Символика самарской области. –Самара, СамВен, 2001.-44 с.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якин И.В., Паженков А.С. Хищные птицы Самарской области. Книга-фотоальбом. – Самара, 2008.-66 с.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носы Самарского края. Историко-этнографические очерки. – Самара, 2003.-287с.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3262320"/>
            <a:ext cx="7619760" cy="198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457200"/>
            <a:ext cx="784872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Цель: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исследование  особенностей социально-экономического развития Сергиевского района  в современных условиях развития экономики Сама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.Изучить особенности исторического развития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.Охарактеризовать ЭГП Сергиев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3 Проанализировать  природно-ресурсный потенциал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4. Дать характеристику демографического потенциала Сергиев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5.Проанализировать производственный потенциал Сергиев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Методы исслед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- Сравнительно-географические методы исследовани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- Аналитические методы исследования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- Статистические методы исслед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Объект исследования :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Сергиевский рай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редмет исследования: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Социально экономическое развитие Сергиев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http://www.sergievsk.ru/ufiles/Image/krepost.jpg"/>
          <p:cNvPicPr/>
          <p:nvPr/>
        </p:nvPicPr>
        <p:blipFill>
          <a:blip r:embed="rId2"/>
          <a:stretch/>
        </p:blipFill>
        <p:spPr>
          <a:xfrm>
            <a:off x="1066680" y="1219320"/>
            <a:ext cx="6172200" cy="4089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40600" y="456120"/>
            <a:ext cx="73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3300"/>
              </a:buClr>
              <a:buFont typeface="Arial"/>
              <a:buAutoNum type="arabicPeriod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Историческое развитие Сергиев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5086080"/>
            <a:ext cx="7391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      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Родословная современного Сергиевского района  начинается с военной крепости сооруженной в 1703 году по указу Петра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52884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.Экономико-географическое положение Сергиев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" descr="http://www.sergievsk.ru/ufiles/Image/News/karta1.jpg"/>
          <p:cNvPicPr/>
          <p:nvPr/>
        </p:nvPicPr>
        <p:blipFill>
          <a:blip r:embed="rId2"/>
          <a:stretch/>
        </p:blipFill>
        <p:spPr>
          <a:xfrm>
            <a:off x="1981080" y="16765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иродные условия, природные ресурсы территории, их хозяйственная оц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лавным минерально-сырьевым ресурсом, значимым для Самарской области в стратегическом плане, является нефть, которая используется для производства бензина, битума, смол. Основные промышленные месторождения нефти расположены в восточной, центральной и южной части рай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Район богат залежами лечебных сернистых грязей и серных источников. Имеются залежи гипса, известняка, глины, песка, которые промышленного значения не имеют, но частично используются на местные нужды строительными предприятиями и насел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риродные условия, природные ресурсы территории, их хозяйственная оцен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8" descr="Голубое озеро (фото: С. Кутырева)"/>
          <p:cNvPicPr/>
          <p:nvPr/>
        </p:nvPicPr>
        <p:blipFill>
          <a:blip r:embed="rId2"/>
          <a:stretch/>
        </p:blipFill>
        <p:spPr>
          <a:xfrm>
            <a:off x="762120" y="1523880"/>
            <a:ext cx="3876480" cy="2818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47920" y="4495680"/>
            <a:ext cx="29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Голубое оз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0" descr="http://www.sergievsk.ru/ufiles/Image/Dostoprimechat/sera.jpg"/>
          <p:cNvPicPr/>
          <p:nvPr/>
        </p:nvPicPr>
        <p:blipFill>
          <a:blip r:embed="rId3"/>
          <a:stretch/>
        </p:blipFill>
        <p:spPr>
          <a:xfrm>
            <a:off x="4648320" y="2514600"/>
            <a:ext cx="4190760" cy="2819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410800" y="5562720"/>
            <a:ext cx="28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Серное оз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Демографический потенциал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55480" y="1599480"/>
            <a:ext cx="388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азатели естественного движения насе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гиев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066680" y="1066680"/>
          <a:ext cx="6039000" cy="3611520"/>
        </p:xfrm>
        <a:graphic>
          <a:graphicData uri="http://schemas.openxmlformats.org/drawingml/2006/table">
            <a:tbl>
              <a:tblPr/>
              <a:tblGrid>
                <a:gridCol w="2697120"/>
                <a:gridCol w="1260720"/>
                <a:gridCol w="1025280"/>
                <a:gridCol w="10558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мп рост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нижения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ло родившихся, чел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ло умерших,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стественный прирост (убыль),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ло бра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ло разв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ло прибывших,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ло выбывших,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грационный прирост (убыль),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0" y="507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29200" y="4572000"/>
            <a:ext cx="38098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Развитие экономики Сергиевского райо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 территории района зарегистрировано 566 организаций, в том числе      10 - по добыче полезных ископаемых, 46 -  обрабатывающих производств, 3 - по производству электроэнергии, газа и воды, 81 - сельского хозяйства, охоты и лесного хозяйства. В районе функционирует 131 малое предприятие с численностью занятых 1433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318120"/>
            <a:ext cx="8286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Основные направления специализации сельскохозяйственного производства в районе – производство зерна, подсолнечника и молока. Площадь сельскохозяйственных угодий составляет 220,9 тыс. гектар. В районе зарегистрировано 20 крупных сельскохозяйственных предприятий и 58 крестьянских (фермерских) хозяйств. В структуре валовой продукции сельского хозяйства 55,4% составляет растениеводство, 44,6% - животноводство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698"/>
                </a:solidFill>
                <a:latin typeface="Arial"/>
              </a:rPr>
              <a:t>Культурно-рекреационный потенци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" descr="http://im7-tub-ru.yandex.net/i?id=295131254-01-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86240" y="1357200"/>
            <a:ext cx="3203640" cy="2714760"/>
          </a:xfrm>
          <a:prstGeom prst="rect">
            <a:avLst/>
          </a:prstGeom>
          <a:ln w="0">
            <a:noFill/>
          </a:ln>
        </p:spPr>
      </p:pic>
      <p:pic>
        <p:nvPicPr>
          <p:cNvPr id="70" name="i-main-pic" descr="Картинка 57 из 15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2960" y="1357200"/>
            <a:ext cx="3286080" cy="2928960"/>
          </a:xfrm>
          <a:prstGeom prst="rect">
            <a:avLst/>
          </a:prstGeom>
          <a:ln w="0">
            <a:noFill/>
          </a:ln>
        </p:spPr>
      </p:pic>
      <p:pic>
        <p:nvPicPr>
          <p:cNvPr id="71" name="i-main-pic" descr="Картинка 84 из 15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000240" y="3500280"/>
            <a:ext cx="3286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исенков С.А.</dc:creator>
  <dc:description/>
  <cp:keywords>Самарская область география природа</cp:keywords>
  <dc:language>en-US</dc:language>
  <cp:lastModifiedBy>Завуч</cp:lastModifiedBy>
  <dcterms:modified xsi:type="dcterms:W3CDTF">2013-04-05T08:40:24Z</dcterms:modified>
  <cp:revision>57</cp:revision>
  <dc:subject>Самарская область</dc:subject>
  <dc:title>Сердцу России - 160 л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Сердцу России - 160 лет">
    <vt:lpwstr>Презентация</vt:lpwstr>
  </property>
</Properties>
</file>