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ACE-029A-4D30-ABF2-8C16FEB6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FF1-8F31-4119-B419-25CBB944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139-1BE2-4CB7-AF17-1D3E54B8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764-53F9-48B4-ACDE-F9C37DCD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944-5B86-42C6-AEF9-09CF602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548-F8D6-4B2D-866F-3F6BBD2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3F7-B64E-4A28-9872-2F0259F4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A898-C00B-4224-80AD-7AE9875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7A45-6121-4171-9BA9-57964ED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040-EB75-4833-8391-AB1B701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2AA3-AA31-4D15-912F-B98A7D9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C1F-F8F1-4BEC-A3DA-8228F63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1F6-61C8-43AD-9DFE-EB15BC6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00DB-82FB-4132-8FAB-EE3B02E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A75-726F-4463-9538-2918F7F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D36-E75B-4868-B266-B33D7AEE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4883-C726-4F24-86F7-6090133E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040-6491-41BB-8138-484E8D8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DB1-0245-43A4-BBA7-B93FA8C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17-DF46-407E-9340-FB056B8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63A-9628-4B4F-AEDB-800A9BA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97B-C719-4830-BE13-81AAB96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501-6E36-4C41-8D58-B521B1A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D5C-C36D-43CF-9142-4434173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360-3378-4268-9539-E67EEF0710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0EEB-C3EB-43EA-82FF-58AF493B2C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ожное предл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1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рамматическую основу предложения, определите, простым или сложным является 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енние листья темнеют и теряют сво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ько кое-где вблизи упорно шептал и хлопал одинокий крупный лист лоп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 берегу стоит бобровая хатка , и напоминает она стог с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лугах печально кричали ночные птицы, белая звезда переливалась над рек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стья пожухли и шуршат при вет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 – 10 предложений различного вида из худож.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упр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: Способы слово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торение: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пособ связи слов в словосочет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Определите вид сочинительной связи в словосочета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ишнёвая шаль, способ разбора, ласково улыбну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йдите в предложении словосочетание со связью СОГЛАС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юди бросились вверх по улице, чтобы закрыть какой-то кр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о связью ПРИМЫК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нечно, вспомнился Саврасов: грачи, весна, ещё лежит снег, а деревья просну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торение: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пособ слово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18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Определите способ словообразования следующих 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школьный, выпускник, подоконник, выход, самолёт, рабочий (челове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Найдите в предложениях слова, образованные приставочно-суффиксальным способ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роизведениях искусства духовный человек ищет собеседника, союзника – ему искусство нужно для поддержания собственного духа, укрепления веры в добро, правду, справед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де нет способности верить, знания не становятся убеждениями. Ум и сердце – «лёд и пламень», их не соединить, если нет передаточного мех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Сложным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ется предложение, состоящее из двух и более ос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636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ми средствами связи простых предложений в сложном являются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интон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ою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очинительные и подчинительные) или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оюзные сл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относительные местоиме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Arial"/>
              </a:rPr>
              <a:t>Волны звучали, солнце сияло, море смеялось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Arial"/>
              </a:rPr>
              <a:t>Герд радовался, что не он один ждёт ветра, а ждёт с ним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1844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зависимости от средств связи сложные предложения делятся на </a:t>
            </a: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союзны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сложносочинённые и сложноподчинённые) и </a:t>
            </a: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бессоюзны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Сложносочинёнными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ываются предложения, части которого соединены интонацией и сочинительными союзами:</a:t>
            </a:r>
            <a:br>
              <a:rPr sz="4000"/>
            </a:br>
            <a:r>
              <a:rPr b="1" i="1" lang="ru-RU" sz="4000" spc="-1" strike="noStrike">
                <a:solidFill>
                  <a:srgbClr val="f5f57d"/>
                </a:solidFill>
                <a:latin typeface="Arial"/>
              </a:rPr>
              <a:t>и, да = и, ни… ни…, а, да = но, но, или, либо, ли… ли…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</a:rPr>
              <a:t>Сложноподчинённым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азываются предложения, части которого связаны интонацией, подчинительными союзами или союзными словам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Страх обратился в ужас, </a:t>
            </a:r>
            <a:r>
              <a:rPr b="1" i="1" lang="ru-RU" sz="4000" spc="-1" strike="noStrike">
                <a:solidFill>
                  <a:srgbClr val="ffccff"/>
                </a:solidFill>
                <a:latin typeface="Arial"/>
              </a:rPr>
              <a:t>когда</a:t>
            </a:r>
            <a:r>
              <a:rPr b="0" i="1" lang="ru-RU" sz="40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я стал замечать, </a:t>
            </a:r>
            <a:r>
              <a:rPr b="0" i="1" lang="ru-RU" sz="4000" spc="-1" strike="noStrike">
                <a:solidFill>
                  <a:srgbClr val="ffccff"/>
                </a:solidFill>
                <a:latin typeface="Arial"/>
              </a:rPr>
              <a:t>что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заблудился, сбился с доро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сложноподчинённом предложении выделяются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глав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придаточ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редлож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915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Придаточ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ются предложения, в которых находится союз или союзное слово. Выделяются следующие типы придаточных предлож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Изъясн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что? о чём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Определительны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какой? чей? который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Обстоятельств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места, времени, причины, образа действия и степени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рамматическую основу предложения, определите, простым или сложным является 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етер по морю гуляет и кораблик подгон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ван-царевич поблагодарил старичка и пошёл за клубоч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чезают последние клочки снега, и на свет выходит зелёная ли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тьяна любила просыпаться до зари и встречать рас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6:47:49Z</dcterms:created>
  <dc:creator>X-Man</dc:creator>
  <dc:description/>
  <dc:language>en-US</dc:language>
  <cp:lastModifiedBy>Admin</cp:lastModifiedBy>
  <dcterms:modified xsi:type="dcterms:W3CDTF">2012-07-07T10:34:53Z</dcterms:modified>
  <cp:revision>5</cp:revision>
  <dc:subject/>
  <dc:title>Слож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