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082-65CA-45ED-B13C-312E5FE8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1F0-3AE0-46D1-85BF-0B069857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94D-F15F-4BA3-96F8-80DD8709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642F-875B-4E65-B29A-6DD24DD0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A05B-628E-4CD2-BFA5-D557B1A6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F14-2659-4AE3-8CC9-4A56820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F04B-9541-4C4D-B93D-4614680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EAB-3A5E-475E-B050-273E450F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A27-BABE-4102-8D4E-08C7EE60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4557-8C36-4DA0-926F-364BAE2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16B8-9D75-4691-AF34-6D2E3EC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E7F-3F67-49E1-8C0E-61B2213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B775-6C7F-42E0-8DD9-A33DD55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70E3-AAE7-4ACA-9EB1-B1D969B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BDCF-3516-491F-A31F-95CCFC3C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E2C-3BF2-4C32-9F3C-71AF7221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0803-9C97-46DC-9D37-46512D70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22-6DC0-4A0E-BD32-302B3C36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677E-B8E3-4A1E-A670-D5209884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989-4A35-45F9-B2C2-23B471C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374-5154-40FE-9BA5-2E7B48C0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CBA-7507-4874-99CE-9205FC5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CF8-5506-4979-B7CD-9928D05B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51D-7EBB-407D-BB9B-C755914C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63CC-58A6-4A26-8DA9-3088A7D0F4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13D-71C1-406B-B409-073CDC309D7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ложное предлож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1 клас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рамматическую основу предложения, определите, простым или сложным является 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сенние листья темнеют и теряют сво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лько кое-где вблизи упорно шептал и хлопал одинокий крупный лист лоп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 берегу стоит бобровая хатка , и напоминает она стог с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 лугах печально кричали ночные птицы, белая звезда переливалась над реко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Листья пожухли и шуршат при ветр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группа – 10 предложений различного вида из худож.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группа – упр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ить: Способы словообра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торение: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пособ связи слов в словосочет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Определите вид сочинительной связи в словосочетан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ишнёвая шаль, способ разбора, ласково улыбнул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Найдите в предложении словосочетание со связью СОГЛАС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юди бросились вверх по улице, чтобы закрыть какой-то кр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ff"/>
                </a:solidFill>
                <a:latin typeface="Arial"/>
              </a:rPr>
              <a:t>Со связью ПРИМЫК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нечно, вспомнился Саврасов: грачи, весна, ещё лежит снег, а деревья просну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вторение: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Способ слово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6318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Определите способ словообразования следующих с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школьный, выпускник, подоконник, выход, самолёт, рабочий (человек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cc"/>
                </a:solidFill>
                <a:latin typeface="Arial"/>
              </a:rPr>
              <a:t>Найдите в предложениях слова, образованные приставочно-суффиксальным способ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произведениях искусства духовный человек ищет собеседника, союзника – ему искусство нужно для поддержания собственного духа, укрепления веры в добро, правду, справедлив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6318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де нет способности верить, знания не становятся убеждениями. Ум и сердце – «лёд и пламень», их не соединить, если нет передаточного механ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cc"/>
                </a:solidFill>
                <a:latin typeface="Arial"/>
              </a:rPr>
              <a:t>Сложным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ывается предложение, состоящее из двух и более ос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636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ми средствами связи простых предложений в сложном являются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интонац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ою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сочинительные и подчинительные) или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оюзные сло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относительные местоимени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Arial"/>
              </a:rPr>
              <a:t>Волны звучали, солнце сияло, море смеялось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d1ec"/>
                </a:solidFill>
                <a:latin typeface="Arial"/>
              </a:rPr>
              <a:t>Герд радовался, что не он один ждёт ветра, а ждёт с ним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052280"/>
            <a:ext cx="821844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зависимости от средств связи сложные предложения делятся на </a:t>
            </a: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союзны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(сложносочинённые и сложноподчинённые) и </a:t>
            </a: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бессоюзны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cc"/>
                </a:solidFill>
                <a:latin typeface="Arial"/>
              </a:rPr>
              <a:t>Сложносочинёнными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зываются предложения, части которого соединены интонацией и сочинительными союзами:</a:t>
            </a:r>
            <a:br>
              <a:rPr sz="4000"/>
            </a:br>
            <a:r>
              <a:rPr b="1" i="1" lang="ru-RU" sz="4000" spc="-1" strike="noStrike">
                <a:solidFill>
                  <a:srgbClr val="f5f57d"/>
                </a:solidFill>
                <a:latin typeface="Arial"/>
              </a:rPr>
              <a:t>и, да = и, ни… ни…, а, да = но, но, или, либо, ли… ли…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cc"/>
                </a:solidFill>
                <a:latin typeface="Arial"/>
              </a:rPr>
              <a:t>Сложноподчинённым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азываются предложения, части которого связаны интонацией, подчинительными союзами или союзными словами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Страх обратился в ужас, </a:t>
            </a:r>
            <a:r>
              <a:rPr b="1" i="1" lang="ru-RU" sz="4000" spc="-1" strike="noStrike">
                <a:solidFill>
                  <a:srgbClr val="ffccff"/>
                </a:solidFill>
                <a:latin typeface="Arial"/>
              </a:rPr>
              <a:t>когда</a:t>
            </a:r>
            <a:r>
              <a:rPr b="0" i="1" lang="ru-RU" sz="40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я стал замечать, </a:t>
            </a:r>
            <a:r>
              <a:rPr b="0" i="1" lang="ru-RU" sz="4000" spc="-1" strike="noStrike">
                <a:solidFill>
                  <a:srgbClr val="ffccff"/>
                </a:solidFill>
                <a:latin typeface="Arial"/>
              </a:rPr>
              <a:t>что </a:t>
            </a:r>
            <a:r>
              <a:rPr b="0" i="1" lang="ru-RU" sz="4000" spc="-1" strike="noStrike">
                <a:solidFill>
                  <a:srgbClr val="f5f57d"/>
                </a:solidFill>
                <a:latin typeface="Arial"/>
              </a:rPr>
              <a:t>заблудился, сбился с дорог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сложноподчинённом предложении выделяются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глав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придаточ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редлож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915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Придаточны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ются предложения, в которых находится союз или союзное слово. Выделяются следующие типы придаточных предложе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Изъяснитель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что? о чём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Определительны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 какой? чей? который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Обстоятельствен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места, времени, причины, образа действия и степени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рамматическую основу предложения, определите, простым или сложным является 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етер по морю гуляет и кораблик подгоня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ван-царевич поблагодарил старичка и пошёл за клубоч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счезают последние клочки снега, и на свет выходит зелёная ли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тьяна любила просыпаться до зари и встречать рас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6:47:49Z</dcterms:created>
  <dc:creator>X-Man</dc:creator>
  <dc:description/>
  <dc:language>en-US</dc:language>
  <cp:lastModifiedBy>Admin</cp:lastModifiedBy>
  <dcterms:modified xsi:type="dcterms:W3CDTF">2012-07-07T10:34:53Z</dcterms:modified>
  <cp:revision>5</cp:revision>
  <dc:subject/>
  <dc:title>Сложное предлож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