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FA2-CEDE-4480-AF45-10C4539F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5EB1-3DDF-4574-880A-B11D0B4A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39C-58FD-468F-8514-067A2AB7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508-411D-494F-8E16-978369F3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1CD-94C0-4A74-8A1B-5C4E12F9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2E7-2C01-4B2C-8827-4BBCBDE1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C7C-FD8C-4357-AE9F-D917D17A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196-D217-458B-803B-8B1FD752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3D99-0416-4B0E-8660-DF6E48D8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F67-FB8A-4DCC-AC8C-6ED9C5E1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AB5-987B-4FFE-8D2B-F0CDE73D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2FC-59A3-4C13-946D-55AC1AA1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B487-CDDE-4916-BB77-593488AAC6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6.xml"/><Relationship Id="rId8" Type="http://schemas.openxmlformats.org/officeDocument/2006/relationships/slide" Target="slide15.xml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5"/>
          <p:cNvSpPr txBox="1"/>
          <p:nvPr/>
        </p:nvSpPr>
        <p:spPr>
          <a:xfrm>
            <a:off x="250920" y="1052640"/>
            <a:ext cx="864216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Impact"/>
              </a:rPr>
              <a:t>Светофор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Object 16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1776240" cy="3170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9"/>
          <p:cNvSpPr/>
          <p:nvPr/>
        </p:nvSpPr>
        <p:spPr>
          <a:xfrm>
            <a:off x="826920" y="333360"/>
            <a:ext cx="74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КОУ «Звонаревокутская СОШ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5940360" y="551664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йс Паве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 клас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ecret.mid" descr=""/>
          <p:cNvPicPr/>
          <p:nvPr/>
        </p:nvPicPr>
        <p:blipFill>
          <a:blip r:embed="rId2"/>
          <a:stretch/>
        </p:blipFill>
        <p:spPr>
          <a:xfrm>
            <a:off x="6112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4"/>
          <p:cNvSpPr/>
          <p:nvPr/>
        </p:nvSpPr>
        <p:spPr>
          <a:xfrm>
            <a:off x="4038480" y="990720"/>
            <a:ext cx="1219320" cy="12189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533520" y="40384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182880" y="2514600"/>
            <a:ext cx="89193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красный гл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гда он светится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льз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ходить дорогу, едут машины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20"/>
          <p:cNvGraphicFramePr/>
          <p:nvPr/>
        </p:nvGraphicFramePr>
        <p:xfrm>
          <a:off x="611280" y="836640"/>
          <a:ext cx="189216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189216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 rot="616200">
            <a:off x="468360" y="777600"/>
            <a:ext cx="720396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3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Теперь проверь себя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3276720" y="0"/>
          <a:ext cx="2851200" cy="36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0"/>
                    <a:ext cx="28512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826920" y="260280"/>
          <a:ext cx="350064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60280"/>
                    <a:ext cx="35006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8"/>
          <p:cNvSpPr/>
          <p:nvPr/>
        </p:nvSpPr>
        <p:spPr>
          <a:xfrm>
            <a:off x="684360" y="4292640"/>
            <a:ext cx="4392360" cy="1556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 чём  говорят сигналы светофора  на  этом рисунке?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5364000" y="260280"/>
            <a:ext cx="2743200" cy="2400120"/>
            <a:chOff x="5364000" y="260280"/>
            <a:chExt cx="2743200" cy="2400120"/>
          </a:xfrm>
        </p:grpSpPr>
        <p:sp>
          <p:nvSpPr>
            <p:cNvPr id="110" name="Oval 5"/>
            <p:cNvSpPr/>
            <p:nvPr/>
          </p:nvSpPr>
          <p:spPr>
            <a:xfrm>
              <a:off x="5364000" y="260280"/>
              <a:ext cx="2743200" cy="240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1" name="Object 9"/>
            <p:cNvGraphicFramePr/>
            <p:nvPr/>
          </p:nvGraphicFramePr>
          <p:xfrm>
            <a:off x="6092640" y="459720"/>
            <a:ext cx="1295280" cy="198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2640" y="459720"/>
                      <a:ext cx="1295280" cy="198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" name="Text Box 10"/>
          <p:cNvSpPr/>
          <p:nvPr/>
        </p:nvSpPr>
        <p:spPr>
          <a:xfrm>
            <a:off x="5651640" y="2924280"/>
            <a:ext cx="25905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1)Ждат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2) Стоять</a:t>
            </a:r>
            <a:r>
              <a:rPr b="1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3) Ид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12"/>
          <p:cNvGraphicFramePr/>
          <p:nvPr/>
        </p:nvGraphicFramePr>
        <p:xfrm>
          <a:off x="5364000" y="4724280"/>
          <a:ext cx="1992600" cy="2133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4000" y="4724280"/>
                    <a:ext cx="19926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7"/>
          <p:cNvGraphicFramePr/>
          <p:nvPr/>
        </p:nvGraphicFramePr>
        <p:xfrm>
          <a:off x="539640" y="0"/>
          <a:ext cx="41245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0"/>
                    <a:ext cx="41245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43"/>
          <p:cNvSpPr/>
          <p:nvPr/>
        </p:nvSpPr>
        <p:spPr>
          <a:xfrm>
            <a:off x="539640" y="4653000"/>
            <a:ext cx="4319640" cy="1556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 чём  говорят сигналы светофора на этом рисунке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4"/>
          <p:cNvSpPr/>
          <p:nvPr/>
        </p:nvSpPr>
        <p:spPr>
          <a:xfrm>
            <a:off x="4267080" y="3200400"/>
            <a:ext cx="2438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5193000" y="2565360"/>
            <a:ext cx="3004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дат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) Бежать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)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Спат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6"/>
          <p:cNvSpPr/>
          <p:nvPr/>
        </p:nvSpPr>
        <p:spPr>
          <a:xfrm>
            <a:off x="572544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47"/>
          <p:cNvGraphicFramePr/>
          <p:nvPr/>
        </p:nvGraphicFramePr>
        <p:xfrm>
          <a:off x="5796000" y="4724280"/>
          <a:ext cx="199224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4724280"/>
                    <a:ext cx="19922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Oval 52"/>
          <p:cNvSpPr/>
          <p:nvPr/>
        </p:nvSpPr>
        <p:spPr>
          <a:xfrm>
            <a:off x="5724360" y="476280"/>
            <a:ext cx="1872000" cy="1657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533520" y="304920"/>
          <a:ext cx="3733560" cy="39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3733560" cy="39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" name="Group 10"/>
          <p:cNvGrpSpPr/>
          <p:nvPr/>
        </p:nvGrpSpPr>
        <p:grpSpPr>
          <a:xfrm>
            <a:off x="4859280" y="404640"/>
            <a:ext cx="3505320" cy="3455640"/>
            <a:chOff x="4859280" y="404640"/>
            <a:chExt cx="3505320" cy="3455640"/>
          </a:xfrm>
        </p:grpSpPr>
        <p:sp>
          <p:nvSpPr>
            <p:cNvPr id="128" name="Oval 5"/>
            <p:cNvSpPr/>
            <p:nvPr/>
          </p:nvSpPr>
          <p:spPr>
            <a:xfrm>
              <a:off x="4859280" y="404640"/>
              <a:ext cx="3505320" cy="345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Object 7"/>
            <p:cNvGraphicFramePr/>
            <p:nvPr/>
          </p:nvGraphicFramePr>
          <p:xfrm>
            <a:off x="5850000" y="777960"/>
            <a:ext cx="1360440" cy="2709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50000" y="777960"/>
                      <a:ext cx="1360440" cy="270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1" name="Text Box 8"/>
          <p:cNvSpPr/>
          <p:nvPr/>
        </p:nvSpPr>
        <p:spPr>
          <a:xfrm>
            <a:off x="539640" y="4653000"/>
            <a:ext cx="4038840" cy="1556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 чём говорят  сигналы светофора на этом  рисунке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796000" y="4076640"/>
            <a:ext cx="2239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Бежать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Стоять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Спат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11"/>
          <p:cNvGraphicFramePr/>
          <p:nvPr/>
        </p:nvGraphicFramePr>
        <p:xfrm>
          <a:off x="7451640" y="4149720"/>
          <a:ext cx="1692360" cy="21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1640" y="4149720"/>
                    <a:ext cx="1692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3"/>
          <p:cNvSpPr txBox="1"/>
          <p:nvPr/>
        </p:nvSpPr>
        <p:spPr>
          <a:xfrm>
            <a:off x="838080" y="304920"/>
            <a:ext cx="7696440" cy="350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равильно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36" name="Object 5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/>
          <p:cNvSpPr/>
          <p:nvPr/>
        </p:nvSpPr>
        <p:spPr>
          <a:xfrm>
            <a:off x="2438280" y="4495680"/>
            <a:ext cx="5257800" cy="2362320"/>
          </a:xfrm>
          <a:custGeom>
            <a:avLst/>
            <a:gdLst>
              <a:gd name="textAreaLeft" fmla="*/ 153000 w 5257800"/>
              <a:gd name="textAreaRight" fmla="*/ 5104800 w 5257800"/>
              <a:gd name="textAreaTop" fmla="*/ 153000 h 2362320"/>
              <a:gd name="textAreaBottom" fmla="*/ 2209320 h 2362320"/>
            </a:gdLst>
            <a:ahLst/>
            <a:rect l="textAreaLeft" t="textAreaTop" r="textAreaRight" b="textAreaBottom"/>
            <a:pathLst>
              <a:path w="48071" h="21600">
                <a:moveTo>
                  <a:pt x="0" y="0"/>
                </a:moveTo>
                <a:lnTo>
                  <a:pt x="48071" y="0"/>
                </a:lnTo>
                <a:lnTo>
                  <a:pt x="48071" y="21600"/>
                </a:lnTo>
                <a:lnTo>
                  <a:pt x="0" y="21600"/>
                </a:lnTo>
                <a:close/>
              </a:path>
              <a:path fill="lightenLess" w="48071" h="21600">
                <a:moveTo>
                  <a:pt x="0" y="0"/>
                </a:moveTo>
                <a:lnTo>
                  <a:pt x="48071" y="0"/>
                </a:lnTo>
                <a:lnTo>
                  <a:pt x="46671" y="1400"/>
                </a:lnTo>
                <a:lnTo>
                  <a:pt x="1400" y="1400"/>
                </a:lnTo>
                <a:close/>
              </a:path>
              <a:path fill="darken" w="48071" h="21600">
                <a:moveTo>
                  <a:pt x="48071" y="0"/>
                </a:moveTo>
                <a:lnTo>
                  <a:pt x="48071" y="21600"/>
                </a:lnTo>
                <a:lnTo>
                  <a:pt x="46671" y="20200"/>
                </a:lnTo>
                <a:lnTo>
                  <a:pt x="46671" y="1400"/>
                </a:lnTo>
                <a:close/>
              </a:path>
              <a:path fill="darkenLess" w="48071" h="21600">
                <a:moveTo>
                  <a:pt x="48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1" y="20200"/>
                </a:lnTo>
                <a:close/>
              </a:path>
              <a:path fill="lighten" w="48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1" h="21600">
                <a:moveTo>
                  <a:pt x="17029" y="3794"/>
                </a:moveTo>
                <a:lnTo>
                  <a:pt x="31042" y="10800"/>
                </a:lnTo>
                <a:lnTo>
                  <a:pt x="1702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914400" y="3429000"/>
            <a:ext cx="5715000" cy="300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Impact"/>
              </a:rPr>
              <a:t>Павтори правил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Impact"/>
              <a:ea typeface="Impact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2590920" y="0"/>
            <a:ext cx="6019560" cy="3048120"/>
          </a:xfrm>
          <a:custGeom>
            <a:avLst/>
            <a:gdLst>
              <a:gd name="textAreaLeft" fmla="*/ 197280 w 6019560"/>
              <a:gd name="textAreaRight" fmla="*/ 5822280 w 6019560"/>
              <a:gd name="textAreaTop" fmla="*/ 197280 h 3048120"/>
              <a:gd name="textAreaBottom" fmla="*/ 2850840 h 3048120"/>
            </a:gdLst>
            <a:ahLst/>
            <a:rect l="textAreaLeft" t="textAreaTop" r="textAreaRight" b="textAreaBottom"/>
            <a:pathLst>
              <a:path w="42654" h="21600">
                <a:moveTo>
                  <a:pt x="0" y="0"/>
                </a:moveTo>
                <a:lnTo>
                  <a:pt x="42654" y="0"/>
                </a:lnTo>
                <a:lnTo>
                  <a:pt x="42654" y="21600"/>
                </a:lnTo>
                <a:lnTo>
                  <a:pt x="0" y="21600"/>
                </a:lnTo>
                <a:close/>
              </a:path>
              <a:path fill="lightenLess" w="42654" h="21600">
                <a:moveTo>
                  <a:pt x="0" y="0"/>
                </a:moveTo>
                <a:lnTo>
                  <a:pt x="42654" y="0"/>
                </a:lnTo>
                <a:lnTo>
                  <a:pt x="41254" y="1400"/>
                </a:lnTo>
                <a:lnTo>
                  <a:pt x="1400" y="1400"/>
                </a:lnTo>
                <a:close/>
              </a:path>
              <a:path fill="darken" w="42654" h="21600">
                <a:moveTo>
                  <a:pt x="42654" y="0"/>
                </a:moveTo>
                <a:lnTo>
                  <a:pt x="42654" y="21600"/>
                </a:lnTo>
                <a:lnTo>
                  <a:pt x="41254" y="20200"/>
                </a:lnTo>
                <a:lnTo>
                  <a:pt x="41254" y="1400"/>
                </a:lnTo>
                <a:close/>
              </a:path>
              <a:path fill="darkenLess" w="42654" h="21600">
                <a:moveTo>
                  <a:pt x="42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254" y="20200"/>
                </a:lnTo>
                <a:close/>
              </a:path>
              <a:path fill="lighten" w="42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654" h="21600">
                <a:moveTo>
                  <a:pt x="14321" y="10800"/>
                </a:moveTo>
                <a:lnTo>
                  <a:pt x="28334" y="3794"/>
                </a:lnTo>
                <a:lnTo>
                  <a:pt x="2833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Object 5" descr=""/>
          <p:cNvPicPr/>
          <p:nvPr/>
        </p:nvPicPr>
        <p:blipFill>
          <a:blip r:embed="rId1"/>
          <a:stretch/>
        </p:blipFill>
        <p:spPr>
          <a:xfrm>
            <a:off x="5410080" y="3274920"/>
            <a:ext cx="373392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1066680" y="3505320"/>
            <a:ext cx="6553440" cy="2971800"/>
          </a:xfrm>
          <a:custGeom>
            <a:avLst/>
            <a:gdLst>
              <a:gd name="textAreaLeft" fmla="*/ 192600 w 6553440"/>
              <a:gd name="textAreaRight" fmla="*/ 6360840 w 6553440"/>
              <a:gd name="textAreaTop" fmla="*/ 192600 h 2971800"/>
              <a:gd name="textAreaBottom" fmla="*/ 2779200 h 2971800"/>
            </a:gdLst>
            <a:ahLst/>
            <a:rect l="textAreaLeft" t="textAreaTop" r="textAreaRight" b="textAreaBottom"/>
            <a:pathLst>
              <a:path w="47629" h="21600">
                <a:moveTo>
                  <a:pt x="0" y="0"/>
                </a:moveTo>
                <a:lnTo>
                  <a:pt x="47629" y="0"/>
                </a:lnTo>
                <a:lnTo>
                  <a:pt x="47629" y="21600"/>
                </a:lnTo>
                <a:lnTo>
                  <a:pt x="0" y="21600"/>
                </a:lnTo>
                <a:close/>
              </a:path>
              <a:path fill="lightenLess" w="47629" h="21600">
                <a:moveTo>
                  <a:pt x="0" y="0"/>
                </a:moveTo>
                <a:lnTo>
                  <a:pt x="47629" y="0"/>
                </a:lnTo>
                <a:lnTo>
                  <a:pt x="46229" y="1400"/>
                </a:lnTo>
                <a:lnTo>
                  <a:pt x="1400" y="1400"/>
                </a:lnTo>
                <a:close/>
              </a:path>
              <a:path fill="darken" w="47629" h="21600">
                <a:moveTo>
                  <a:pt x="47629" y="0"/>
                </a:moveTo>
                <a:lnTo>
                  <a:pt x="47629" y="21600"/>
                </a:lnTo>
                <a:lnTo>
                  <a:pt x="46229" y="20200"/>
                </a:lnTo>
                <a:lnTo>
                  <a:pt x="46229" y="1400"/>
                </a:lnTo>
                <a:close/>
              </a:path>
              <a:path fill="darkenLess" w="47629" h="21600">
                <a:moveTo>
                  <a:pt x="47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29" y="20200"/>
                </a:lnTo>
                <a:close/>
              </a:path>
              <a:path fill="lighten" w="47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29" h="21600">
                <a:moveTo>
                  <a:pt x="16808" y="10800"/>
                </a:moveTo>
                <a:lnTo>
                  <a:pt x="30821" y="3794"/>
                </a:lnTo>
                <a:lnTo>
                  <a:pt x="30821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3"/>
          <p:cNvSpPr txBox="1"/>
          <p:nvPr/>
        </p:nvSpPr>
        <p:spPr>
          <a:xfrm>
            <a:off x="838080" y="380880"/>
            <a:ext cx="701064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втор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3" name="Object 4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34099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1828800" y="914400"/>
            <a:ext cx="4067280" cy="31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ильно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5" name="Object 5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3047760" cy="221616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6"/>
          <p:cNvSpPr/>
          <p:nvPr/>
        </p:nvSpPr>
        <p:spPr>
          <a:xfrm>
            <a:off x="4191120" y="4495680"/>
            <a:ext cx="4572000" cy="2057400"/>
          </a:xfrm>
          <a:custGeom>
            <a:avLst/>
            <a:gdLst>
              <a:gd name="textAreaLeft" fmla="*/ 133200 w 4572000"/>
              <a:gd name="textAreaRight" fmla="*/ 4438800 w 457200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7995" h="21600">
                <a:moveTo>
                  <a:pt x="0" y="0"/>
                </a:moveTo>
                <a:lnTo>
                  <a:pt x="47995" y="0"/>
                </a:lnTo>
                <a:lnTo>
                  <a:pt x="47995" y="21600"/>
                </a:lnTo>
                <a:lnTo>
                  <a:pt x="0" y="21600"/>
                </a:lnTo>
                <a:close/>
              </a:path>
              <a:path fill="lightenLess" w="47995" h="21600">
                <a:moveTo>
                  <a:pt x="0" y="0"/>
                </a:moveTo>
                <a:lnTo>
                  <a:pt x="47995" y="0"/>
                </a:lnTo>
                <a:lnTo>
                  <a:pt x="46595" y="1400"/>
                </a:lnTo>
                <a:lnTo>
                  <a:pt x="1400" y="1400"/>
                </a:lnTo>
                <a:close/>
              </a:path>
              <a:path fill="darken" w="47995" h="21600">
                <a:moveTo>
                  <a:pt x="47995" y="0"/>
                </a:moveTo>
                <a:lnTo>
                  <a:pt x="47995" y="21600"/>
                </a:lnTo>
                <a:lnTo>
                  <a:pt x="46595" y="20200"/>
                </a:lnTo>
                <a:lnTo>
                  <a:pt x="46595" y="1400"/>
                </a:lnTo>
                <a:close/>
              </a:path>
              <a:path fill="darkenLess" w="47995" h="21600">
                <a:moveTo>
                  <a:pt x="47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95" y="20200"/>
                </a:lnTo>
                <a:close/>
              </a:path>
              <a:path fill="lighten" w="47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995" h="21600">
                <a:moveTo>
                  <a:pt x="16991" y="3794"/>
                </a:moveTo>
                <a:lnTo>
                  <a:pt x="31004" y="10800"/>
                </a:lnTo>
                <a:lnTo>
                  <a:pt x="1699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>
            <a:hlinkClick r:id="" action="ppaction://hlinkshowjump?jump=previousslide"/>
          </p:cNvPr>
          <p:cNvSpPr/>
          <p:nvPr/>
        </p:nvSpPr>
        <p:spPr>
          <a:xfrm>
            <a:off x="1371600" y="3200400"/>
            <a:ext cx="7086600" cy="2666880"/>
          </a:xfrm>
          <a:custGeom>
            <a:avLst/>
            <a:gdLst>
              <a:gd name="textAreaLeft" fmla="*/ 172800 w 7086600"/>
              <a:gd name="textAreaRight" fmla="*/ 6913800 w 7086600"/>
              <a:gd name="textAreaTop" fmla="*/ 172800 h 2666880"/>
              <a:gd name="textAreaBottom" fmla="*/ 2494080 h 2666880"/>
            </a:gdLst>
            <a:ahLst/>
            <a:rect l="textAreaLeft" t="textAreaTop" r="textAreaRight" b="textAreaBottom"/>
            <a:pathLst>
              <a:path w="57392" h="21600">
                <a:moveTo>
                  <a:pt x="0" y="0"/>
                </a:moveTo>
                <a:lnTo>
                  <a:pt x="57392" y="0"/>
                </a:lnTo>
                <a:lnTo>
                  <a:pt x="57392" y="21600"/>
                </a:lnTo>
                <a:lnTo>
                  <a:pt x="0" y="21600"/>
                </a:lnTo>
                <a:close/>
              </a:path>
              <a:path fill="lightenLess" w="57392" h="21600">
                <a:moveTo>
                  <a:pt x="0" y="0"/>
                </a:moveTo>
                <a:lnTo>
                  <a:pt x="57392" y="0"/>
                </a:lnTo>
                <a:lnTo>
                  <a:pt x="55992" y="1400"/>
                </a:lnTo>
                <a:lnTo>
                  <a:pt x="1400" y="1400"/>
                </a:lnTo>
                <a:close/>
              </a:path>
              <a:path fill="darken" w="57392" h="21600">
                <a:moveTo>
                  <a:pt x="57392" y="0"/>
                </a:moveTo>
                <a:lnTo>
                  <a:pt x="57392" y="21600"/>
                </a:lnTo>
                <a:lnTo>
                  <a:pt x="55992" y="20200"/>
                </a:lnTo>
                <a:lnTo>
                  <a:pt x="55992" y="1400"/>
                </a:lnTo>
                <a:close/>
              </a:path>
              <a:path fill="darkenLess" w="57392" h="21600">
                <a:moveTo>
                  <a:pt x="57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2" y="20200"/>
                </a:lnTo>
                <a:close/>
              </a:path>
              <a:path fill="lighten" w="57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392" h="21600">
                <a:moveTo>
                  <a:pt x="21690" y="10800"/>
                </a:moveTo>
                <a:lnTo>
                  <a:pt x="35702" y="3794"/>
                </a:lnTo>
                <a:lnTo>
                  <a:pt x="35702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WordArt 3"/>
          <p:cNvSpPr txBox="1"/>
          <p:nvPr/>
        </p:nvSpPr>
        <p:spPr>
          <a:xfrm>
            <a:off x="914400" y="457200"/>
            <a:ext cx="7162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втор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9" name="Object 4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2227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640" y="242100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шех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участник дорожного движения, находящийся вне транспортного средства. К пешеходам приравниваются лица, передвигающиеся в инвалидных колясках без двигателя, ведущие велосипед, мопед, мотоцикл, везущие санки, тележку, детскую или инвалидную коляс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27"/>
          <p:cNvGrpSpPr/>
          <p:nvPr/>
        </p:nvGrpSpPr>
        <p:grpSpPr>
          <a:xfrm>
            <a:off x="468360" y="476280"/>
            <a:ext cx="2879640" cy="1542960"/>
            <a:chOff x="468360" y="476280"/>
            <a:chExt cx="2879640" cy="1542960"/>
          </a:xfrm>
        </p:grpSpPr>
        <p:graphicFrame>
          <p:nvGraphicFramePr>
            <p:cNvPr id="48" name="Object 10"/>
            <p:cNvGraphicFramePr/>
            <p:nvPr/>
          </p:nvGraphicFramePr>
          <p:xfrm>
            <a:off x="468360" y="476280"/>
            <a:ext cx="1657440" cy="1542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165744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0" name="Group 26"/>
            <p:cNvGrpSpPr/>
            <p:nvPr/>
          </p:nvGrpSpPr>
          <p:grpSpPr>
            <a:xfrm>
              <a:off x="2124000" y="907920"/>
              <a:ext cx="1224000" cy="578160"/>
              <a:chOff x="2124000" y="907920"/>
              <a:chExt cx="1224000" cy="578160"/>
            </a:xfrm>
          </p:grpSpPr>
          <p:sp>
            <p:nvSpPr>
              <p:cNvPr id="51" name="AutoShape 15"/>
              <p:cNvSpPr/>
              <p:nvPr/>
            </p:nvSpPr>
            <p:spPr>
              <a:xfrm rot="10800000">
                <a:off x="2124000" y="907920"/>
                <a:ext cx="1224000" cy="578160"/>
              </a:xfrm>
              <a:prstGeom prst="rightArrow">
                <a:avLst>
                  <a:gd name="adj1" fmla="val 50000"/>
                  <a:gd name="adj2" fmla="val 52927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18"/>
              <p:cNvSpPr/>
              <p:nvPr/>
            </p:nvSpPr>
            <p:spPr>
              <a:xfrm>
                <a:off x="2411280" y="10526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Мурка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Text Box 19"/>
          <p:cNvSpPr/>
          <p:nvPr/>
        </p:nvSpPr>
        <p:spPr>
          <a:xfrm>
            <a:off x="5508720" y="1114560"/>
            <a:ext cx="107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22"/>
          <p:cNvSpPr txBox="1"/>
          <p:nvPr/>
        </p:nvSpPr>
        <p:spPr>
          <a:xfrm>
            <a:off x="3276720" y="62064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ешеход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55" name="Group 28"/>
          <p:cNvGrpSpPr/>
          <p:nvPr/>
        </p:nvGrpSpPr>
        <p:grpSpPr>
          <a:xfrm>
            <a:off x="5651640" y="620640"/>
            <a:ext cx="2563560" cy="1352520"/>
            <a:chOff x="5651640" y="620640"/>
            <a:chExt cx="2563560" cy="1352520"/>
          </a:xfrm>
        </p:grpSpPr>
        <p:graphicFrame>
          <p:nvGraphicFramePr>
            <p:cNvPr id="56" name="Object 12"/>
            <p:cNvGraphicFramePr/>
            <p:nvPr/>
          </p:nvGraphicFramePr>
          <p:xfrm>
            <a:off x="6948360" y="620640"/>
            <a:ext cx="1266840" cy="135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48360" y="620640"/>
                      <a:ext cx="1266840" cy="13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8" name="Group 25"/>
            <p:cNvGrpSpPr/>
            <p:nvPr/>
          </p:nvGrpSpPr>
          <p:grpSpPr>
            <a:xfrm>
              <a:off x="5651640" y="981000"/>
              <a:ext cx="1224000" cy="503280"/>
              <a:chOff x="5651640" y="981000"/>
              <a:chExt cx="1224000" cy="503280"/>
            </a:xfrm>
          </p:grpSpPr>
          <p:sp>
            <p:nvSpPr>
              <p:cNvPr id="59" name="AutoShape 14"/>
              <p:cNvSpPr/>
              <p:nvPr/>
            </p:nvSpPr>
            <p:spPr>
              <a:xfrm>
                <a:off x="5651640" y="981000"/>
                <a:ext cx="1224000" cy="503280"/>
              </a:xfrm>
              <a:prstGeom prst="rightArrow">
                <a:avLst>
                  <a:gd name="adj1" fmla="val 50000"/>
                  <a:gd name="adj2" fmla="val 60801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24"/>
              <p:cNvSpPr/>
              <p:nvPr/>
            </p:nvSpPr>
            <p:spPr>
              <a:xfrm>
                <a:off x="5796000" y="1052640"/>
                <a:ext cx="100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Кряк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4"/>
          <p:cNvGraphicFramePr/>
          <p:nvPr/>
        </p:nvGraphicFramePr>
        <p:xfrm>
          <a:off x="468360" y="3645000"/>
          <a:ext cx="169236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645000"/>
                    <a:ext cx="169236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6"/>
          <p:cNvGraphicFramePr/>
          <p:nvPr/>
        </p:nvGraphicFramePr>
        <p:xfrm>
          <a:off x="6784920" y="4292640"/>
          <a:ext cx="2124000" cy="23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4292640"/>
                    <a:ext cx="212400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AutoShape 7"/>
          <p:cNvSpPr/>
          <p:nvPr/>
        </p:nvSpPr>
        <p:spPr>
          <a:xfrm>
            <a:off x="2050920" y="0"/>
            <a:ext cx="5257800" cy="3789360"/>
          </a:xfrm>
          <a:prstGeom prst="cloudCallout">
            <a:avLst>
              <a:gd name="adj1" fmla="val -49939"/>
              <a:gd name="adj2" fmla="val 58754"/>
            </a:avLst>
          </a:prstGeom>
          <a:solidFill>
            <a:srgbClr val="00cc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484360" y="907920"/>
            <a:ext cx="4608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 ! Теперь я знаю знаки светофор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 него глаза цветные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глаза, а три огня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 по очереди им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ерху смотрит на меня 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5"/>
          <a:stretch/>
        </p:blipFill>
        <p:spPr>
          <a:xfrm>
            <a:off x="3851280" y="3645000"/>
            <a:ext cx="17906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2046240" y="2742840"/>
            <a:ext cx="18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16"/>
          <p:cNvGraphicFramePr/>
          <p:nvPr/>
        </p:nvGraphicFramePr>
        <p:xfrm>
          <a:off x="179280" y="3860640"/>
          <a:ext cx="22860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860640"/>
                    <a:ext cx="22860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AutoShape 15"/>
          <p:cNvSpPr/>
          <p:nvPr/>
        </p:nvSpPr>
        <p:spPr>
          <a:xfrm>
            <a:off x="1835280" y="-171360"/>
            <a:ext cx="7524720" cy="5688000"/>
          </a:xfrm>
          <a:prstGeom prst="cloudCallout">
            <a:avLst>
              <a:gd name="adj1" fmla="val -41814"/>
              <a:gd name="adj2" fmla="val 2968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 растерялся, я пропал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знаю знаков светофор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уть под машину не попал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угом машины и трамва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 вдруг автобус по пут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знаться честно, я не знаю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де мне дорогу перейт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бята, вы мне помогит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, если можно, расскажит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рогу как переходи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б под трамвай не угодить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29"/>
          <p:cNvGraphicFramePr/>
          <p:nvPr/>
        </p:nvGraphicFramePr>
        <p:xfrm>
          <a:off x="6659640" y="4941720"/>
          <a:ext cx="1865160" cy="19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4941720"/>
                    <a:ext cx="186516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17622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ветоф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82520" y="3429000"/>
          <a:ext cx="234792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3429000"/>
                    <a:ext cx="23479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AutoShape 6"/>
          <p:cNvSpPr/>
          <p:nvPr/>
        </p:nvSpPr>
        <p:spPr>
          <a:xfrm>
            <a:off x="2771640" y="260280"/>
            <a:ext cx="5327640" cy="4103640"/>
          </a:xfrm>
          <a:prstGeom prst="wedgeEllipseCallout">
            <a:avLst>
              <a:gd name="adj1" fmla="val -58134"/>
              <a:gd name="adj2" fmla="val 4887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етоф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устройство оптической сигнализации, предназначенное для регулирования движения людей, велосипедов, автомобилей и иных участников дорожного движения, поездов железной дороги и метрополитена, речных и морских судов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6659640" y="4076640"/>
          <a:ext cx="2233440" cy="256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4076640"/>
                    <a:ext cx="22334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0" lang="ru-RU" sz="4400" spc="-1" strike="noStrike">
                <a:solidFill>
                  <a:srgbClr val="ffff66"/>
                </a:solidFill>
                <a:latin typeface="Times New Roman"/>
              </a:rPr>
              <a:t>в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ffff66"/>
                </a:solidFill>
                <a:latin typeface="Times New Roman"/>
              </a:rPr>
              <a:t>т</a:t>
            </a: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о</a:t>
            </a:r>
            <a:r>
              <a:rPr b="0" lang="ru-RU" sz="4400" spc="-1" strike="noStrike">
                <a:solidFill>
                  <a:srgbClr val="ffff66"/>
                </a:solidFill>
                <a:latin typeface="Times New Roman"/>
              </a:rPr>
              <a:t>ф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4400" spc="-1" strike="noStrike">
                <a:solidFill>
                  <a:srgbClr val="ffff66"/>
                </a:solidFill>
                <a:latin typeface="Times New Roman"/>
              </a:rPr>
              <a:t>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5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ноцветные огн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вносильные приказу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жигаются о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порядку, а не сраз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расный – ст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думай – желты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Цвет зеленый – чтобы шел 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5791320" y="333360"/>
          <a:ext cx="28512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33360"/>
                    <a:ext cx="28512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3429000" y="533520"/>
            <a:ext cx="1776240" cy="31701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533520" y="4114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то светофор, сейчас мы с ним познакомимся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6156360" y="5084640"/>
          <a:ext cx="164772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6360" y="5084640"/>
                    <a:ext cx="16477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5"/>
          <p:cNvGraphicFramePr/>
          <p:nvPr/>
        </p:nvGraphicFramePr>
        <p:xfrm>
          <a:off x="0" y="4724280"/>
          <a:ext cx="1992240" cy="213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724280"/>
                    <a:ext cx="19922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16280"/>
            <a:ext cx="446256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него глаза цветны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глаза, а три огн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по очереди им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зу смотрит на ме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7"/>
          <p:cNvGraphicFramePr/>
          <p:nvPr/>
        </p:nvGraphicFramePr>
        <p:xfrm>
          <a:off x="5003640" y="3716280"/>
          <a:ext cx="2616480" cy="28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3716280"/>
                    <a:ext cx="261648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Object 11" descr=""/>
          <p:cNvPicPr/>
          <p:nvPr/>
        </p:nvPicPr>
        <p:blipFill>
          <a:blip r:embed="rId3"/>
          <a:stretch/>
        </p:blipFill>
        <p:spPr>
          <a:xfrm>
            <a:off x="5076720" y="620640"/>
            <a:ext cx="1648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2"/>
          <p:cNvSpPr/>
          <p:nvPr/>
        </p:nvSpPr>
        <p:spPr>
          <a:xfrm>
            <a:off x="3809880" y="2057400"/>
            <a:ext cx="1219320" cy="1219320"/>
          </a:xfrm>
          <a:prstGeom prst="ellipse">
            <a:avLst/>
          </a:prstGeom>
          <a:solidFill>
            <a:srgbClr val="33cc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7200" y="3886200"/>
            <a:ext cx="8001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зелёный гл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гда он светится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ож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ходить дорогу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703240" y="69228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светофора три глаз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8"/>
          <p:cNvGraphicFramePr/>
          <p:nvPr/>
        </p:nvGraphicFramePr>
        <p:xfrm>
          <a:off x="1042920" y="2133720"/>
          <a:ext cx="1892520" cy="20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133720"/>
                    <a:ext cx="189252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3995640" y="1557360"/>
            <a:ext cx="1219320" cy="1219320"/>
          </a:xfrm>
          <a:prstGeom prst="ellipse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042920" y="2852640"/>
            <a:ext cx="7348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жёлтый  гл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гда он светится, нужно ждать следующего сигнал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8"/>
          <p:cNvGraphicFramePr/>
          <p:nvPr/>
        </p:nvGraphicFramePr>
        <p:xfrm>
          <a:off x="6443640" y="1700280"/>
          <a:ext cx="129528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1700280"/>
                    <a:ext cx="1295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3-04-05T06:18:19Z</dcterms:modified>
  <cp:revision>17</cp:revision>
  <dc:subject/>
  <dc:title>Заголовок слайда отсутствует</dc:title>
</cp:coreProperties>
</file>