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685-3F2A-4554-A7A5-1CA26AD8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4A0-9F50-4F6D-A94B-783EA233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328-B246-4593-B932-4D2D7E6E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AE6-E447-41EA-B77D-090A72CB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069-F538-4511-80BF-4EFB164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35E-9E81-4E29-9089-BA55C33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AB9-292C-4E61-98DE-E44DBEDD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090-C73B-41D8-9C1B-8D1E82B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90C-397B-44C5-9C85-41024649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D83-F62C-42F8-8D25-1D8C6957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BE2-0FE1-444D-99AF-9B8EA58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0C9-9522-47B7-B04C-37ED393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C6E-5BEB-494C-AA62-E9420E714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114300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опиари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л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еревья счасть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500040" y="879120"/>
            <a:ext cx="4214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опиарий, его еще называют "Европейским деревом" и "Деревом счастья", - обычное украшение интерьера в европейской флорис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чень хороший выход для тех, кого не "любят" комнатные растения. Это очень оригинальная композиция, которая всегда обращает на себя внимание. Яркость и оригинальность достигается не только за счет формы, но и за счет использования в композиции множества сочетаний цветов и применения материалов разной фактуры, изогнутого ство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техно\Desktop\топиарии\mini-rose-topiary-500.jpg"/>
          <p:cNvPicPr/>
          <p:nvPr/>
        </p:nvPicPr>
        <p:blipFill>
          <a:blip r:embed="rId1"/>
          <a:stretch/>
        </p:blipFill>
        <p:spPr>
          <a:xfrm>
            <a:off x="5643720" y="357120"/>
            <a:ext cx="2674800" cy="26751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4" name="Picture 3" descr="C:\Users\техно\Desktop\топиарии\DSC09073_300.jpg"/>
          <p:cNvPicPr/>
          <p:nvPr/>
        </p:nvPicPr>
        <p:blipFill>
          <a:blip r:embed="rId2"/>
          <a:stretch/>
        </p:blipFill>
        <p:spPr>
          <a:xfrm>
            <a:off x="5786280" y="3286080"/>
            <a:ext cx="2476800" cy="33019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000760" y="428760"/>
            <a:ext cx="3857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вестно, что еще в далекой древности существовало искусство фигурной стрижки растений. В садах римской знати можно было увидеть затейливые фигуры из деревьев, оригинальную форму которым придавали садовники, они же - мастера по ландшафтному дизайну. Современное топиарное искусство не ограничивается только работой с растениями. Оригинальные маленькие деревца, для изготовления которых используются натуральные материалы, также называются топиариями. Они прекрасно вписываются в любой интерьер и служат украшением дома. Более того, топиарии часто называют деревьями счастья и поэтому каждый рад получить подобную поделку в пода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техно\Desktop\топиарии\pearl_fryar_topiary_600x.jpg"/>
          <p:cNvPicPr/>
          <p:nvPr/>
        </p:nvPicPr>
        <p:blipFill>
          <a:blip r:embed="rId1"/>
          <a:stretch/>
        </p:blipFill>
        <p:spPr>
          <a:xfrm>
            <a:off x="500040" y="285840"/>
            <a:ext cx="3957840" cy="29685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7" name="Picture 3" descr="C:\Users\техно\Desktop\топиарии\1241907696_topiary04.jpg"/>
          <p:cNvPicPr/>
          <p:nvPr/>
        </p:nvPicPr>
        <p:blipFill>
          <a:blip r:embed="rId2"/>
          <a:stretch/>
        </p:blipFill>
        <p:spPr>
          <a:xfrm>
            <a:off x="500040" y="3500280"/>
            <a:ext cx="3929040" cy="29466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техно\Desktop\топиарии\3617552_fd64015cb36a.jpg"/>
          <p:cNvPicPr/>
          <p:nvPr/>
        </p:nvPicPr>
        <p:blipFill>
          <a:blip r:embed="rId1"/>
          <a:stretch/>
        </p:blipFill>
        <p:spPr>
          <a:xfrm>
            <a:off x="357120" y="428760"/>
            <a:ext cx="3986280" cy="25714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9" name="Picture 3" descr="C:\Users\техно\Desktop\топиарии\39BCA7CB-F8AA-6AF3-E5FA-A77E791A1301.jpg"/>
          <p:cNvPicPr/>
          <p:nvPr/>
        </p:nvPicPr>
        <p:blipFill>
          <a:blip r:embed="rId2"/>
          <a:stretch/>
        </p:blipFill>
        <p:spPr>
          <a:xfrm>
            <a:off x="5214960" y="428760"/>
            <a:ext cx="2981160" cy="2357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0" name="Picture 4" descr="C:\Users\техно\Desktop\топиарии\202cd0b770bb.jpg"/>
          <p:cNvPicPr/>
          <p:nvPr/>
        </p:nvPicPr>
        <p:blipFill>
          <a:blip r:embed="rId3"/>
          <a:stretch/>
        </p:blipFill>
        <p:spPr>
          <a:xfrm>
            <a:off x="500040" y="3357720"/>
            <a:ext cx="3905280" cy="29289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1" name="Picture 6" descr="C:\Users\техно\Desktop\топиарии\x_e3253754.jpg"/>
          <p:cNvPicPr/>
          <p:nvPr/>
        </p:nvPicPr>
        <p:blipFill>
          <a:blip r:embed="rId4"/>
          <a:stretch/>
        </p:blipFill>
        <p:spPr>
          <a:xfrm>
            <a:off x="5357880" y="3286080"/>
            <a:ext cx="3014640" cy="3206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ransition advTm="1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714760" y="500040"/>
            <a:ext cx="600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от фантазии создателя зависит, какую форму будет иметь крона его собственного деревца. Наибольшей популярностью пользуются формы конуса и шара. В качестве основы можно использовать различные материалы: пенопласт, бумагу, губку и современные авторы начали использовать монтажную пе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техно\Desktop\топиарии\02c2005193.jpg"/>
          <p:cNvPicPr/>
          <p:nvPr/>
        </p:nvPicPr>
        <p:blipFill>
          <a:blip r:embed="rId1"/>
          <a:srcRect l="11299" t="0" r="9606" b="0"/>
          <a:stretch/>
        </p:blipFill>
        <p:spPr>
          <a:xfrm>
            <a:off x="214200" y="928800"/>
            <a:ext cx="2214720" cy="4643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4" name="Picture 3" descr="C:\Users\техно\Desktop\топиарии\biser_info_49171_topiarij_1302682533_preview.jpg"/>
          <p:cNvPicPr/>
          <p:nvPr/>
        </p:nvPicPr>
        <p:blipFill>
          <a:blip r:embed="rId2"/>
          <a:stretch/>
        </p:blipFill>
        <p:spPr>
          <a:xfrm>
            <a:off x="6143760" y="2786040"/>
            <a:ext cx="2590560" cy="3890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5" name="Picture 4" descr="C:\Users\техно\Desktop\топиарии\romantic-flowers-heart5.jpg"/>
          <p:cNvPicPr/>
          <p:nvPr/>
        </p:nvPicPr>
        <p:blipFill>
          <a:blip r:embed="rId3"/>
          <a:stretch/>
        </p:blipFill>
        <p:spPr>
          <a:xfrm>
            <a:off x="2714760" y="2786040"/>
            <a:ext cx="2857320" cy="37148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20"/>
          <p:cNvGrpSpPr/>
          <p:nvPr/>
        </p:nvGrpSpPr>
        <p:grpSpPr>
          <a:xfrm>
            <a:off x="3429000" y="2143080"/>
            <a:ext cx="2286000" cy="2143080"/>
            <a:chOff x="3429000" y="2143080"/>
            <a:chExt cx="2286000" cy="2143080"/>
          </a:xfrm>
        </p:grpSpPr>
        <p:sp>
          <p:nvSpPr>
            <p:cNvPr id="57" name="Овал 2"/>
            <p:cNvSpPr/>
            <p:nvPr/>
          </p:nvSpPr>
          <p:spPr>
            <a:xfrm>
              <a:off x="3429000" y="2143080"/>
              <a:ext cx="2286000" cy="2143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3"/>
            <p:cNvSpPr/>
            <p:nvPr/>
          </p:nvSpPr>
          <p:spPr>
            <a:xfrm>
              <a:off x="3643200" y="2643120"/>
              <a:ext cx="1928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рона деревье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2" descr="C:\Users\техно\Desktop\топиарии\ormarviimtas_8.jpg"/>
          <p:cNvPicPr/>
          <p:nvPr/>
        </p:nvPicPr>
        <p:blipFill>
          <a:blip r:embed="rId1"/>
          <a:stretch/>
        </p:blipFill>
        <p:spPr>
          <a:xfrm>
            <a:off x="214200" y="357120"/>
            <a:ext cx="2000520" cy="2533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0" name="Picture 3" descr="C:\Users\техно\Desktop\топиарии\gallery_201_626_782106.jpg"/>
          <p:cNvPicPr/>
          <p:nvPr/>
        </p:nvPicPr>
        <p:blipFill>
          <a:blip r:embed="rId2"/>
          <a:stretch/>
        </p:blipFill>
        <p:spPr>
          <a:xfrm>
            <a:off x="6786720" y="3762360"/>
            <a:ext cx="2071440" cy="2762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1" name="Picture 4" descr="C:\Users\техно\Desktop\топиарии\650343931.jpg"/>
          <p:cNvPicPr/>
          <p:nvPr/>
        </p:nvPicPr>
        <p:blipFill>
          <a:blip r:embed="rId3"/>
          <a:stretch/>
        </p:blipFill>
        <p:spPr>
          <a:xfrm>
            <a:off x="6786720" y="285840"/>
            <a:ext cx="2071440" cy="3055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2" name="Picture 5" descr="C:\Users\техно\Desktop\топиарии\Flower%20Garden%20Topiary-450.jpg"/>
          <p:cNvPicPr/>
          <p:nvPr/>
        </p:nvPicPr>
        <p:blipFill>
          <a:blip r:embed="rId4"/>
          <a:stretch/>
        </p:blipFill>
        <p:spPr>
          <a:xfrm>
            <a:off x="2500200" y="214200"/>
            <a:ext cx="1800360" cy="1928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3" name="Picture 6" descr="C:\Users\техно\Desktop\топиарии\6b2ea991f7c0fb225cbb7ac992c8bc3e_600.jpg"/>
          <p:cNvPicPr/>
          <p:nvPr/>
        </p:nvPicPr>
        <p:blipFill>
          <a:blip r:embed="rId5"/>
          <a:stretch/>
        </p:blipFill>
        <p:spPr>
          <a:xfrm>
            <a:off x="4929120" y="214200"/>
            <a:ext cx="1643040" cy="19051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4" name="Picture 7" descr="C:\Users\техно\Desktop\топиарии\gallery_201_626_75341.jpg"/>
          <p:cNvPicPr/>
          <p:nvPr/>
        </p:nvPicPr>
        <p:blipFill>
          <a:blip r:embed="rId6"/>
          <a:stretch/>
        </p:blipFill>
        <p:spPr>
          <a:xfrm>
            <a:off x="214200" y="3500280"/>
            <a:ext cx="2143080" cy="2857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5" name="Picture 8" descr="C:\Users\техно\Desktop\топиарии\Gumdrop-Topiary-craft.jpg"/>
          <p:cNvPicPr/>
          <p:nvPr/>
        </p:nvPicPr>
        <p:blipFill>
          <a:blip r:embed="rId7"/>
          <a:stretch/>
        </p:blipFill>
        <p:spPr>
          <a:xfrm>
            <a:off x="2643120" y="4357800"/>
            <a:ext cx="1333440" cy="20001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6" name="Picture 9" descr="C:\Users\техно\Desktop\топиарии\4885078.jpg"/>
          <p:cNvPicPr/>
          <p:nvPr/>
        </p:nvPicPr>
        <p:blipFill>
          <a:blip r:embed="rId8"/>
          <a:stretch/>
        </p:blipFill>
        <p:spPr>
          <a:xfrm>
            <a:off x="4929120" y="4500720"/>
            <a:ext cx="1562040" cy="19526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67" name="Стрелка вправо 12"/>
          <p:cNvSpPr/>
          <p:nvPr/>
        </p:nvSpPr>
        <p:spPr>
          <a:xfrm>
            <a:off x="5857920" y="350028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право 13"/>
          <p:cNvSpPr/>
          <p:nvPr/>
        </p:nvSpPr>
        <p:spPr>
          <a:xfrm>
            <a:off x="5715000" y="25718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право 14"/>
          <p:cNvSpPr/>
          <p:nvPr/>
        </p:nvSpPr>
        <p:spPr>
          <a:xfrm rot="17755200">
            <a:off x="5231160" y="1783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право 15"/>
          <p:cNvSpPr/>
          <p:nvPr/>
        </p:nvSpPr>
        <p:spPr>
          <a:xfrm rot="14298000">
            <a:off x="3250080" y="1716480"/>
            <a:ext cx="701640" cy="642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6"/>
          <p:cNvSpPr/>
          <p:nvPr/>
        </p:nvSpPr>
        <p:spPr>
          <a:xfrm rot="10800000">
            <a:off x="2428560" y="2357280"/>
            <a:ext cx="701640" cy="642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7"/>
          <p:cNvSpPr/>
          <p:nvPr/>
        </p:nvSpPr>
        <p:spPr>
          <a:xfrm rot="10800000">
            <a:off x="2571840" y="328608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18"/>
          <p:cNvSpPr/>
          <p:nvPr/>
        </p:nvSpPr>
        <p:spPr>
          <a:xfrm rot="8149200">
            <a:off x="3408480" y="4087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право 19"/>
          <p:cNvSpPr/>
          <p:nvPr/>
        </p:nvSpPr>
        <p:spPr>
          <a:xfrm rot="3170400">
            <a:off x="5186880" y="401544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584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еще есть деревья изобилия — небольшие деревца с различными плод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техно\Desktop\топиарии\73124449_topiarij_1_element.jpg"/>
          <p:cNvPicPr/>
          <p:nvPr/>
        </p:nvPicPr>
        <p:blipFill>
          <a:blip r:embed="rId1"/>
          <a:stretch/>
        </p:blipFill>
        <p:spPr>
          <a:xfrm>
            <a:off x="571680" y="1571760"/>
            <a:ext cx="1714320" cy="2286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7" name="Picture 3" descr="C:\Users\техно\Desktop\топиарии\764251415.jpg"/>
          <p:cNvPicPr/>
          <p:nvPr/>
        </p:nvPicPr>
        <p:blipFill>
          <a:blip r:embed="rId2"/>
          <a:stretch/>
        </p:blipFill>
        <p:spPr>
          <a:xfrm>
            <a:off x="2786040" y="1643040"/>
            <a:ext cx="3429000" cy="4572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8" name="Picture 4" descr="C:\Users\техно\Desktop\топиарии\decor_cu_mere_6770z0urcm80ow8gcs4wkk4s8_9cpbtvm82iw4s0ks04kw8woo4_th.jpg"/>
          <p:cNvPicPr/>
          <p:nvPr/>
        </p:nvPicPr>
        <p:blipFill>
          <a:blip r:embed="rId3"/>
          <a:stretch/>
        </p:blipFill>
        <p:spPr>
          <a:xfrm>
            <a:off x="571680" y="4000680"/>
            <a:ext cx="1773000" cy="25002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9" name="Picture 5" descr="C:\Users\техно\Desktop\топиарии\fruit_topiary.jpg"/>
          <p:cNvPicPr/>
          <p:nvPr/>
        </p:nvPicPr>
        <p:blipFill>
          <a:blip r:embed="rId4"/>
          <a:stretch/>
        </p:blipFill>
        <p:spPr>
          <a:xfrm>
            <a:off x="6786720" y="1643040"/>
            <a:ext cx="1842840" cy="24573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0" name="Picture 6" descr="C:\Users\техно\Desktop\топиарии\topiary_0.jpg"/>
          <p:cNvPicPr/>
          <p:nvPr/>
        </p:nvPicPr>
        <p:blipFill>
          <a:blip r:embed="rId5"/>
          <a:stretch/>
        </p:blipFill>
        <p:spPr>
          <a:xfrm>
            <a:off x="6929280" y="4357800"/>
            <a:ext cx="1714680" cy="2286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2:42:29Z</dcterms:created>
  <dc:creator>техно</dc:creator>
  <dc:description/>
  <dc:language>en-US</dc:language>
  <cp:lastModifiedBy>техно</cp:lastModifiedBy>
  <dcterms:modified xsi:type="dcterms:W3CDTF">2012-11-28T13:55:28Z</dcterms:modified>
  <cp:revision>8</cp:revision>
  <dc:subject/>
  <dc:title>Слайд 1</dc:title>
</cp:coreProperties>
</file>