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5DCE-A555-482E-9181-05AD4F8C0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478B-BE57-4494-B055-2F18F791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E525-4359-4696-A898-77E89A96F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82E2-60C0-4A79-AEC7-C65BBB6A5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E86B-F98A-435F-85E6-D9BB5622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EFA0-70A5-4C2A-AE2A-0D5EA059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4F50-27FF-489B-97D0-02187C35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D898-F1A5-4F10-BFA1-F6BCCE95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5438-DA88-448F-9A9C-CF7CDA1A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E461-2DDA-4448-979D-20030A05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3BA5-1777-4347-BD85-3B553554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D7F0-1819-426D-98D9-CF850CF6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EB34-97C2-46E3-9B55-3DE3ED1155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785880" y="1143000"/>
            <a:ext cx="7286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Топиарии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или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деревья счастья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3000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500040" y="879120"/>
            <a:ext cx="4214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Топиарий, его еще называют "Европейским деревом" и "Деревом счастья", - обычное украшение интерьера в европейской флористи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Очень хороший выход для тех, кого не "любят" комнатные растения. Это очень оригинальная композиция, которая всегда обращает на себя внимание. Яркость и оригинальность достигается не только за счет формы, но и за счет использования в композиции множества сочетаний цветов и применения материалов разной фактуры, изогнутого ствол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техно\Desktop\топиарии\mini-rose-topiary-500.jpg"/>
          <p:cNvPicPr/>
          <p:nvPr/>
        </p:nvPicPr>
        <p:blipFill>
          <a:blip r:embed="rId1"/>
          <a:stretch/>
        </p:blipFill>
        <p:spPr>
          <a:xfrm>
            <a:off x="5643720" y="357120"/>
            <a:ext cx="2674800" cy="267516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44" name="Picture 3" descr="C:\Users\техно\Desktop\топиарии\DSC09073_300.jpg"/>
          <p:cNvPicPr/>
          <p:nvPr/>
        </p:nvPicPr>
        <p:blipFill>
          <a:blip r:embed="rId2"/>
          <a:stretch/>
        </p:blipFill>
        <p:spPr>
          <a:xfrm>
            <a:off x="5786280" y="3286080"/>
            <a:ext cx="2476800" cy="330192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7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70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5000760" y="428760"/>
            <a:ext cx="38574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вестно, что еще в далекой древности существовало искусство фигурной стрижки растений. В садах римской знати можно было увидеть затейливые фигуры из деревьев, оригинальную форму которым придавали садовники, они же - мастера по ландшафтному дизайну. Современное топиарное искусство не ограничивается только работой с растениями. Оригинальные маленькие деревца, для изготовления которых используются натуральные материалы, также называются топиариями. Они прекрасно вписываются в любой интерьер и служат украшением дома. Более того, топиарии часто называют деревьями счастья и поэтому каждый рад получить подобную поделку в подар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техно\Desktop\топиарии\pearl_fryar_topiary_600x.jpg"/>
          <p:cNvPicPr/>
          <p:nvPr/>
        </p:nvPicPr>
        <p:blipFill>
          <a:blip r:embed="rId1"/>
          <a:stretch/>
        </p:blipFill>
        <p:spPr>
          <a:xfrm>
            <a:off x="500040" y="285840"/>
            <a:ext cx="3957840" cy="296856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47" name="Picture 3" descr="C:\Users\техно\Desktop\топиарии\1241907696_topiary04.jpg"/>
          <p:cNvPicPr/>
          <p:nvPr/>
        </p:nvPicPr>
        <p:blipFill>
          <a:blip r:embed="rId2"/>
          <a:stretch/>
        </p:blipFill>
        <p:spPr>
          <a:xfrm>
            <a:off x="500040" y="3500280"/>
            <a:ext cx="3929040" cy="294660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техно\Desktop\топиарии\3617552_fd64015cb36a.jpg"/>
          <p:cNvPicPr/>
          <p:nvPr/>
        </p:nvPicPr>
        <p:blipFill>
          <a:blip r:embed="rId1"/>
          <a:stretch/>
        </p:blipFill>
        <p:spPr>
          <a:xfrm>
            <a:off x="357120" y="428760"/>
            <a:ext cx="3986280" cy="257148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49" name="Picture 3" descr="C:\Users\техно\Desktop\топиарии\39BCA7CB-F8AA-6AF3-E5FA-A77E791A1301.jpg"/>
          <p:cNvPicPr/>
          <p:nvPr/>
        </p:nvPicPr>
        <p:blipFill>
          <a:blip r:embed="rId2"/>
          <a:stretch/>
        </p:blipFill>
        <p:spPr>
          <a:xfrm>
            <a:off x="5214960" y="428760"/>
            <a:ext cx="2981160" cy="235728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50" name="Picture 4" descr="C:\Users\техно\Desktop\топиарии\202cd0b770bb.jpg"/>
          <p:cNvPicPr/>
          <p:nvPr/>
        </p:nvPicPr>
        <p:blipFill>
          <a:blip r:embed="rId3"/>
          <a:stretch/>
        </p:blipFill>
        <p:spPr>
          <a:xfrm>
            <a:off x="500040" y="3357720"/>
            <a:ext cx="3905280" cy="292896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51" name="Picture 6" descr="C:\Users\техно\Desktop\топиарии\x_e3253754.jpg"/>
          <p:cNvPicPr/>
          <p:nvPr/>
        </p:nvPicPr>
        <p:blipFill>
          <a:blip r:embed="rId4"/>
          <a:stretch/>
        </p:blipFill>
        <p:spPr>
          <a:xfrm>
            <a:off x="5357880" y="3286080"/>
            <a:ext cx="3014640" cy="320688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</p:spTree>
  </p:cSld>
  <p:transition advTm="18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2714760" y="500040"/>
            <a:ext cx="6000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лько от фантазии создателя зависит, какую форму будет иметь крона его собственного деревца. Наибольшей популярностью пользуются формы конуса и шара. В качестве основы можно использовать различные материалы: пенопласт, бумагу, губку и современные авторы начали использовать монтажную пен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техно\Desktop\топиарии\02c2005193.jpg"/>
          <p:cNvPicPr/>
          <p:nvPr/>
        </p:nvPicPr>
        <p:blipFill>
          <a:blip r:embed="rId1"/>
          <a:srcRect l="11299" t="0" r="9606" b="0"/>
          <a:stretch/>
        </p:blipFill>
        <p:spPr>
          <a:xfrm>
            <a:off x="214200" y="928800"/>
            <a:ext cx="2214720" cy="464328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54" name="Picture 3" descr="C:\Users\техно\Desktop\топиарии\biser_info_49171_topiarij_1302682533_preview.jpg"/>
          <p:cNvPicPr/>
          <p:nvPr/>
        </p:nvPicPr>
        <p:blipFill>
          <a:blip r:embed="rId2"/>
          <a:stretch/>
        </p:blipFill>
        <p:spPr>
          <a:xfrm>
            <a:off x="6143760" y="2786040"/>
            <a:ext cx="2590560" cy="389088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55" name="Picture 4" descr="C:\Users\техно\Desktop\топиарии\romantic-flowers-heart5.jpg"/>
          <p:cNvPicPr/>
          <p:nvPr/>
        </p:nvPicPr>
        <p:blipFill>
          <a:blip r:embed="rId3"/>
          <a:stretch/>
        </p:blipFill>
        <p:spPr>
          <a:xfrm>
            <a:off x="2714760" y="2786040"/>
            <a:ext cx="2857320" cy="371484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Группа 20"/>
          <p:cNvGrpSpPr/>
          <p:nvPr/>
        </p:nvGrpSpPr>
        <p:grpSpPr>
          <a:xfrm>
            <a:off x="3429000" y="2143080"/>
            <a:ext cx="2286000" cy="2143080"/>
            <a:chOff x="3429000" y="2143080"/>
            <a:chExt cx="2286000" cy="2143080"/>
          </a:xfrm>
        </p:grpSpPr>
        <p:sp>
          <p:nvSpPr>
            <p:cNvPr id="57" name="Овал 2"/>
            <p:cNvSpPr/>
            <p:nvPr/>
          </p:nvSpPr>
          <p:spPr>
            <a:xfrm>
              <a:off x="3429000" y="2143080"/>
              <a:ext cx="2286000" cy="21430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TextBox 3"/>
            <p:cNvSpPr/>
            <p:nvPr/>
          </p:nvSpPr>
          <p:spPr>
            <a:xfrm>
              <a:off x="3643200" y="2643120"/>
              <a:ext cx="1928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Крона деревьев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9" name="Picture 2" descr="C:\Users\техно\Desktop\топиарии\ormarviimtas_8.jpg"/>
          <p:cNvPicPr/>
          <p:nvPr/>
        </p:nvPicPr>
        <p:blipFill>
          <a:blip r:embed="rId1"/>
          <a:stretch/>
        </p:blipFill>
        <p:spPr>
          <a:xfrm>
            <a:off x="214200" y="357120"/>
            <a:ext cx="2000520" cy="253368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60" name="Picture 3" descr="C:\Users\техно\Desktop\топиарии\gallery_201_626_782106.jpg"/>
          <p:cNvPicPr/>
          <p:nvPr/>
        </p:nvPicPr>
        <p:blipFill>
          <a:blip r:embed="rId2"/>
          <a:stretch/>
        </p:blipFill>
        <p:spPr>
          <a:xfrm>
            <a:off x="6786720" y="3762360"/>
            <a:ext cx="2071440" cy="276228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61" name="Picture 4" descr="C:\Users\техно\Desktop\топиарии\650343931.jpg"/>
          <p:cNvPicPr/>
          <p:nvPr/>
        </p:nvPicPr>
        <p:blipFill>
          <a:blip r:embed="rId3"/>
          <a:stretch/>
        </p:blipFill>
        <p:spPr>
          <a:xfrm>
            <a:off x="6786720" y="285840"/>
            <a:ext cx="2071440" cy="305568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62" name="Picture 5" descr="C:\Users\техно\Desktop\топиарии\Flower%20Garden%20Topiary-450.jpg"/>
          <p:cNvPicPr/>
          <p:nvPr/>
        </p:nvPicPr>
        <p:blipFill>
          <a:blip r:embed="rId4"/>
          <a:stretch/>
        </p:blipFill>
        <p:spPr>
          <a:xfrm>
            <a:off x="2500200" y="214200"/>
            <a:ext cx="1800360" cy="192888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63" name="Picture 6" descr="C:\Users\техно\Desktop\топиарии\6b2ea991f7c0fb225cbb7ac992c8bc3e_600.jpg"/>
          <p:cNvPicPr/>
          <p:nvPr/>
        </p:nvPicPr>
        <p:blipFill>
          <a:blip r:embed="rId5"/>
          <a:stretch/>
        </p:blipFill>
        <p:spPr>
          <a:xfrm>
            <a:off x="4929120" y="214200"/>
            <a:ext cx="1643040" cy="190512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64" name="Picture 7" descr="C:\Users\техно\Desktop\топиарии\gallery_201_626_75341.jpg"/>
          <p:cNvPicPr/>
          <p:nvPr/>
        </p:nvPicPr>
        <p:blipFill>
          <a:blip r:embed="rId6"/>
          <a:stretch/>
        </p:blipFill>
        <p:spPr>
          <a:xfrm>
            <a:off x="214200" y="3500280"/>
            <a:ext cx="2143080" cy="285768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65" name="Picture 8" descr="C:\Users\техно\Desktop\топиарии\Gumdrop-Topiary-craft.jpg"/>
          <p:cNvPicPr/>
          <p:nvPr/>
        </p:nvPicPr>
        <p:blipFill>
          <a:blip r:embed="rId7"/>
          <a:stretch/>
        </p:blipFill>
        <p:spPr>
          <a:xfrm>
            <a:off x="2643120" y="4357800"/>
            <a:ext cx="1333440" cy="200016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66" name="Picture 9" descr="C:\Users\техно\Desktop\топиарии\4885078.jpg"/>
          <p:cNvPicPr/>
          <p:nvPr/>
        </p:nvPicPr>
        <p:blipFill>
          <a:blip r:embed="rId8"/>
          <a:stretch/>
        </p:blipFill>
        <p:spPr>
          <a:xfrm>
            <a:off x="4929120" y="4500720"/>
            <a:ext cx="1562040" cy="195264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sp>
        <p:nvSpPr>
          <p:cNvPr id="67" name="Стрелка вправо 12"/>
          <p:cNvSpPr/>
          <p:nvPr/>
        </p:nvSpPr>
        <p:spPr>
          <a:xfrm>
            <a:off x="5857920" y="3500280"/>
            <a:ext cx="714240" cy="64296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Стрелка вправо 13"/>
          <p:cNvSpPr/>
          <p:nvPr/>
        </p:nvSpPr>
        <p:spPr>
          <a:xfrm>
            <a:off x="5715000" y="2571840"/>
            <a:ext cx="714240" cy="64296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Стрелка вправо 14"/>
          <p:cNvSpPr/>
          <p:nvPr/>
        </p:nvSpPr>
        <p:spPr>
          <a:xfrm rot="17755200">
            <a:off x="5231160" y="1783440"/>
            <a:ext cx="714240" cy="64296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Стрелка вправо 15"/>
          <p:cNvSpPr/>
          <p:nvPr/>
        </p:nvSpPr>
        <p:spPr>
          <a:xfrm rot="14298000">
            <a:off x="3250080" y="1716480"/>
            <a:ext cx="701640" cy="642960"/>
          </a:xfrm>
          <a:prstGeom prst="rightArrow">
            <a:avLst>
              <a:gd name="adj1" fmla="val 50000"/>
              <a:gd name="adj2" fmla="val 50046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трелка вправо 16"/>
          <p:cNvSpPr/>
          <p:nvPr/>
        </p:nvSpPr>
        <p:spPr>
          <a:xfrm rot="10800000">
            <a:off x="2428560" y="2357280"/>
            <a:ext cx="701640" cy="642960"/>
          </a:xfrm>
          <a:prstGeom prst="rightArrow">
            <a:avLst>
              <a:gd name="adj1" fmla="val 50000"/>
              <a:gd name="adj2" fmla="val 50046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трелка вправо 17"/>
          <p:cNvSpPr/>
          <p:nvPr/>
        </p:nvSpPr>
        <p:spPr>
          <a:xfrm rot="10800000">
            <a:off x="2571840" y="3286080"/>
            <a:ext cx="714240" cy="64296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трелка вправо 18"/>
          <p:cNvSpPr/>
          <p:nvPr/>
        </p:nvSpPr>
        <p:spPr>
          <a:xfrm rot="8149200">
            <a:off x="3408480" y="4087440"/>
            <a:ext cx="714240" cy="64296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трелка вправо 19"/>
          <p:cNvSpPr/>
          <p:nvPr/>
        </p:nvSpPr>
        <p:spPr>
          <a:xfrm rot="3170400">
            <a:off x="5186880" y="4015440"/>
            <a:ext cx="714600" cy="64296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4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6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8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2000"/>
                            </p:stCondLst>
                            <p:childTnLst>
                              <p:par>
                                <p:cTn id="2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285840" y="35712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 еще есть деревья изобилия — небольшие деревца с различными плода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Users\техно\Desktop\топиарии\73124449_topiarij_1_element.jpg"/>
          <p:cNvPicPr/>
          <p:nvPr/>
        </p:nvPicPr>
        <p:blipFill>
          <a:blip r:embed="rId1"/>
          <a:stretch/>
        </p:blipFill>
        <p:spPr>
          <a:xfrm>
            <a:off x="571680" y="1571760"/>
            <a:ext cx="1714320" cy="228600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77" name="Picture 3" descr="C:\Users\техно\Desktop\топиарии\764251415.jpg"/>
          <p:cNvPicPr/>
          <p:nvPr/>
        </p:nvPicPr>
        <p:blipFill>
          <a:blip r:embed="rId2"/>
          <a:stretch/>
        </p:blipFill>
        <p:spPr>
          <a:xfrm>
            <a:off x="2786040" y="1643040"/>
            <a:ext cx="3429000" cy="457200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78" name="Picture 4" descr="C:\Users\техно\Desktop\топиарии\decor_cu_mere_6770z0urcm80ow8gcs4wkk4s8_9cpbtvm82iw4s0ks04kw8woo4_th.jpg"/>
          <p:cNvPicPr/>
          <p:nvPr/>
        </p:nvPicPr>
        <p:blipFill>
          <a:blip r:embed="rId3"/>
          <a:stretch/>
        </p:blipFill>
        <p:spPr>
          <a:xfrm>
            <a:off x="571680" y="4000680"/>
            <a:ext cx="1773000" cy="250020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79" name="Picture 5" descr="C:\Users\техно\Desktop\топиарии\fruit_topiary.jpg"/>
          <p:cNvPicPr/>
          <p:nvPr/>
        </p:nvPicPr>
        <p:blipFill>
          <a:blip r:embed="rId4"/>
          <a:stretch/>
        </p:blipFill>
        <p:spPr>
          <a:xfrm>
            <a:off x="6786720" y="1643040"/>
            <a:ext cx="1842840" cy="245736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80" name="Picture 6" descr="C:\Users\техно\Desktop\топиарии\topiary_0.jpg"/>
          <p:cNvPicPr/>
          <p:nvPr/>
        </p:nvPicPr>
        <p:blipFill>
          <a:blip r:embed="rId5"/>
          <a:stretch/>
        </p:blipFill>
        <p:spPr>
          <a:xfrm>
            <a:off x="6929280" y="4357800"/>
            <a:ext cx="1714680" cy="228600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500"/>
                            </p:stCondLst>
                            <p:childTnLst>
                              <p:par>
                                <p:cTn id="2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12:42:29Z</dcterms:created>
  <dc:creator>техно</dc:creator>
  <dc:description/>
  <dc:language>en-US</dc:language>
  <cp:lastModifiedBy>техно</cp:lastModifiedBy>
  <dcterms:modified xsi:type="dcterms:W3CDTF">2012-11-28T13:55:28Z</dcterms:modified>
  <cp:revision>8</cp:revision>
  <dc:subject/>
  <dc:title>Слайд 1</dc:title>
</cp:coreProperties>
</file>