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D9F-6D4A-436A-BC39-9A806397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E7DB-CD83-45F9-BE7E-A44F7F05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53D8-9D1D-42D0-ACF1-360B16B2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103-48A5-4738-A760-319A0012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5DC-62E9-45B7-9C25-D8AF6F8F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9DD6-493C-43B6-B63B-7B2AA097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246-C9CD-40D3-BA51-262A4791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9AC-B8EE-4C01-945D-634B249F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B288-2460-4907-A100-64595D72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186-196D-4334-AE8A-7F8B40BB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345-538F-4848-BECD-784C9917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26F-BEB9-4FFE-9E71-75DF4501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10ED-69C2-4DB2-838C-F7009F058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7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 фон (1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214880" y="1708920"/>
            <a:ext cx="4748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пасибо за индивидуальность, неповторимость. Спасибо за преданность делу, которое  выше личных интересов и материальных выгод. От всей души желаю Вам крепкого здоровья, счастья, благополучия, творческих поб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G:\DCIM\101MSDCF\нл.JPG"/>
          <p:cNvPicPr/>
          <p:nvPr/>
        </p:nvPicPr>
        <p:blipFill>
          <a:blip r:embed="rId1"/>
          <a:stretch/>
        </p:blipFill>
        <p:spPr>
          <a:xfrm>
            <a:off x="0" y="0"/>
            <a:ext cx="3375000" cy="450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G:\DCIM\101MSDCF\яяяя.JPG"/>
          <p:cNvPicPr/>
          <p:nvPr/>
        </p:nvPicPr>
        <p:blipFill>
          <a:blip r:embed="rId2"/>
          <a:stretch/>
        </p:blipFill>
        <p:spPr>
          <a:xfrm>
            <a:off x="3071880" y="4643280"/>
            <a:ext cx="2544840" cy="2214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G:\DCIM\101MSDCF\тттт.JPG"/>
          <p:cNvPicPr/>
          <p:nvPr/>
        </p:nvPicPr>
        <p:blipFill>
          <a:blip r:embed="rId3"/>
          <a:stretch/>
        </p:blipFill>
        <p:spPr>
          <a:xfrm>
            <a:off x="5357880" y="-5400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G:\DCIM\101MSDCF\вв.JPG"/>
          <p:cNvPicPr/>
          <p:nvPr/>
        </p:nvPicPr>
        <p:blipFill>
          <a:blip r:embed="rId4"/>
          <a:stretch/>
        </p:blipFill>
        <p:spPr>
          <a:xfrm>
            <a:off x="3357720" y="2071800"/>
            <a:ext cx="2286000" cy="2762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G:\DCIM\101MSDCF\нн.JPG"/>
          <p:cNvPicPr/>
          <p:nvPr/>
        </p:nvPicPr>
        <p:blipFill>
          <a:blip r:embed="rId5"/>
          <a:stretch/>
        </p:blipFill>
        <p:spPr>
          <a:xfrm>
            <a:off x="0" y="3541680"/>
            <a:ext cx="335772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ник"/>
          <p:cNvPicPr/>
          <p:nvPr/>
        </p:nvPicPr>
        <p:blipFill>
          <a:blip r:embed="rId6"/>
          <a:stretch/>
        </p:blipFill>
        <p:spPr>
          <a:xfrm>
            <a:off x="3357720" y="0"/>
            <a:ext cx="221436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SC01825-1"/>
          <p:cNvPicPr/>
          <p:nvPr/>
        </p:nvPicPr>
        <p:blipFill>
          <a:blip r:embed="rId7"/>
          <a:stretch/>
        </p:blipFill>
        <p:spPr>
          <a:xfrm>
            <a:off x="5699160" y="4573440"/>
            <a:ext cx="3444840" cy="2284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SC00148-1"/>
          <p:cNvPicPr/>
          <p:nvPr/>
        </p:nvPicPr>
        <p:blipFill>
          <a:blip r:embed="rId8"/>
          <a:stretch/>
        </p:blipFill>
        <p:spPr>
          <a:xfrm>
            <a:off x="5695920" y="2571840"/>
            <a:ext cx="344808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Изображение 3294-1"/>
          <p:cNvPicPr/>
          <p:nvPr/>
        </p:nvPicPr>
        <p:blipFill>
          <a:blip r:embed="rId9"/>
          <a:stretch/>
        </p:blipFill>
        <p:spPr>
          <a:xfrm>
            <a:off x="1857240" y="2714760"/>
            <a:ext cx="217008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8MatrhRosePri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2771640" y="334800"/>
            <a:ext cx="596268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Monotype Corsiva"/>
              </a:rPr>
              <a:t>Самым важным явлением в  школе, самым поучительным предметом, самым живым примером для ученика является сам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 учител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А. Дистервег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8MatrhRosePri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2340000" y="-183960"/>
            <a:ext cx="3672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Говорят, педагог не Бог!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Человек не святой - простой.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Даже сразу не разберешь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лох он или хорош.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Ты к нему на урок приди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 болтай, не вертись, сиди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 душевный храня покой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Там поймешь, кто такой.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Если юмора он лишен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ль обидчив излишне он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Если даже по пустякам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дирается к вам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начит, рядом - не друг, не враг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 учитель, а просто так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н от школы, увы, далек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Это - не педагог!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Если был он и добр и строг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 шутить и работать мог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 его самый "трудный" класс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лушать мог целый час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начит, ты у него учись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 болтай, не крутись,- трудись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начит, как на себя самого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ложись на него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нн"/>
          <p:cNvPicPr/>
          <p:nvPr/>
        </p:nvPicPr>
        <p:blipFill>
          <a:blip r:embed="rId2"/>
          <a:stretch/>
        </p:blipFill>
        <p:spPr>
          <a:xfrm>
            <a:off x="5508720" y="0"/>
            <a:ext cx="2160360" cy="189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т"/>
          <p:cNvPicPr/>
          <p:nvPr/>
        </p:nvPicPr>
        <p:blipFill>
          <a:blip r:embed="rId3"/>
          <a:stretch/>
        </p:blipFill>
        <p:spPr>
          <a:xfrm>
            <a:off x="6443640" y="483228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Фото2041-1"/>
          <p:cNvPicPr/>
          <p:nvPr/>
        </p:nvPicPr>
        <p:blipFill>
          <a:blip r:embed="rId4"/>
          <a:stretch/>
        </p:blipFill>
        <p:spPr>
          <a:xfrm>
            <a:off x="6012000" y="3429000"/>
            <a:ext cx="1674720" cy="223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ллл"/>
          <p:cNvPicPr/>
          <p:nvPr/>
        </p:nvPicPr>
        <p:blipFill>
          <a:blip r:embed="rId5"/>
          <a:stretch/>
        </p:blipFill>
        <p:spPr>
          <a:xfrm>
            <a:off x="7164360" y="1484280"/>
            <a:ext cx="1979640" cy="2521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ник"/>
          <p:cNvPicPr/>
          <p:nvPr/>
        </p:nvPicPr>
        <p:blipFill>
          <a:blip r:embed="rId6"/>
          <a:stretch/>
        </p:blipFill>
        <p:spPr>
          <a:xfrm>
            <a:off x="5508720" y="1844640"/>
            <a:ext cx="162540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8MatrhRosePrint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3000240" y="672480"/>
            <a:ext cx="5786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В авиации строго считаю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сколько летчик часов налет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Про учителя мало кто зн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сколько он у доски простоял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Сколько ночью тетрадей провери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сколько планов за жизнь написа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сколько раз человеку повер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и себя за него наказ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С праздником, коллег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116000" y="1978560"/>
            <a:ext cx="655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Быть учителем — значит верить. Верить в возможность изменить мир с помощью просвещения, верить в человека и в то, что интеллектуальное богатство превыше вс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932000" y="1125000"/>
            <a:ext cx="3754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С праздник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т чего виски беле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роседь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т чего морщинки воз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гла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отому, что раз в го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лишь осен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споминае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о пора раская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мучи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ласти обязательно придё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А пока… Да ну их! С Дн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Учител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И всего нам – весь учеб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год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 фон (1)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43280" y="549000"/>
            <a:ext cx="4500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Во дни сомнений, во д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тягостных раздумий о судьб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моей родины, — ты один м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оддержка и опора, о вели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могучий, правдивы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свободный русский язык!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будь тебя как не впасть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отчаяние при виде всего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совершается дома? Но нельз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верить, чтобы такой язык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был дан великому народ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И.С.Турген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DSC0327яяяяяя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SC04252"/>
          <p:cNvPicPr/>
          <p:nvPr/>
        </p:nvPicPr>
        <p:blipFill>
          <a:blip r:embed="rId1"/>
          <a:stretch/>
        </p:blipFill>
        <p:spPr>
          <a:xfrm>
            <a:off x="0" y="0"/>
            <a:ext cx="2401920" cy="321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DSC04251"/>
          <p:cNvPicPr/>
          <p:nvPr/>
        </p:nvPicPr>
        <p:blipFill>
          <a:blip r:embed="rId2"/>
          <a:stretch/>
        </p:blipFill>
        <p:spPr>
          <a:xfrm>
            <a:off x="0" y="2852640"/>
            <a:ext cx="3095640" cy="2314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DSC04298"/>
          <p:cNvPicPr/>
          <p:nvPr/>
        </p:nvPicPr>
        <p:blipFill>
          <a:blip r:embed="rId3"/>
          <a:stretch/>
        </p:blipFill>
        <p:spPr>
          <a:xfrm>
            <a:off x="2340000" y="0"/>
            <a:ext cx="2455920" cy="328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DSC04293"/>
          <p:cNvPicPr/>
          <p:nvPr/>
        </p:nvPicPr>
        <p:blipFill>
          <a:blip r:embed="rId4"/>
          <a:stretch/>
        </p:blipFill>
        <p:spPr>
          <a:xfrm>
            <a:off x="2556000" y="3284640"/>
            <a:ext cx="2670120" cy="357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DSC04275"/>
          <p:cNvPicPr/>
          <p:nvPr/>
        </p:nvPicPr>
        <p:blipFill>
          <a:blip r:embed="rId5"/>
          <a:stretch/>
        </p:blipFill>
        <p:spPr>
          <a:xfrm>
            <a:off x="4427640" y="0"/>
            <a:ext cx="2520720" cy="3527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DSC04277-1"/>
          <p:cNvPicPr/>
          <p:nvPr/>
        </p:nvPicPr>
        <p:blipFill>
          <a:blip r:embed="rId6"/>
          <a:stretch/>
        </p:blipFill>
        <p:spPr>
          <a:xfrm>
            <a:off x="0" y="5157720"/>
            <a:ext cx="2700360" cy="1700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DSC04255"/>
          <p:cNvPicPr/>
          <p:nvPr/>
        </p:nvPicPr>
        <p:blipFill>
          <a:blip r:embed="rId7"/>
          <a:stretch/>
        </p:blipFill>
        <p:spPr>
          <a:xfrm>
            <a:off x="6877080" y="0"/>
            <a:ext cx="1871640" cy="259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C04302"/>
          <p:cNvPicPr/>
          <p:nvPr/>
        </p:nvPicPr>
        <p:blipFill>
          <a:blip r:embed="rId8"/>
          <a:stretch/>
        </p:blipFill>
        <p:spPr>
          <a:xfrm>
            <a:off x="4859280" y="3213000"/>
            <a:ext cx="1619280" cy="180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DSC04250"/>
          <p:cNvPicPr/>
          <p:nvPr/>
        </p:nvPicPr>
        <p:blipFill>
          <a:blip r:embed="rId9"/>
          <a:stretch/>
        </p:blipFill>
        <p:spPr>
          <a:xfrm>
            <a:off x="6372360" y="2492280"/>
            <a:ext cx="1619280" cy="2133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1о"/>
          <p:cNvPicPr/>
          <p:nvPr/>
        </p:nvPicPr>
        <p:blipFill>
          <a:blip r:embed="rId10"/>
          <a:stretch/>
        </p:blipFill>
        <p:spPr>
          <a:xfrm>
            <a:off x="7380360" y="4292640"/>
            <a:ext cx="1763640" cy="2349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2о"/>
          <p:cNvPicPr/>
          <p:nvPr/>
        </p:nvPicPr>
        <p:blipFill>
          <a:blip r:embed="rId11"/>
          <a:stretch/>
        </p:blipFill>
        <p:spPr>
          <a:xfrm>
            <a:off x="7913520" y="2421000"/>
            <a:ext cx="1230480" cy="184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4о"/>
          <p:cNvPicPr/>
          <p:nvPr/>
        </p:nvPicPr>
        <p:blipFill>
          <a:blip r:embed="rId12"/>
          <a:stretch/>
        </p:blipFill>
        <p:spPr>
          <a:xfrm>
            <a:off x="5580000" y="4724280"/>
            <a:ext cx="15732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G:\DCIM\101MSDCF\DSC04515-1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G:\DCIM\101MSDCF\DSC04507-1.JPG"/>
          <p:cNvPicPr/>
          <p:nvPr/>
        </p:nvPicPr>
        <p:blipFill>
          <a:blip r:embed="rId2"/>
          <a:stretch/>
        </p:blipFill>
        <p:spPr>
          <a:xfrm>
            <a:off x="0" y="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G:\DCIM\101MSDCF\DSC04508-1.JPG"/>
          <p:cNvPicPr/>
          <p:nvPr/>
        </p:nvPicPr>
        <p:blipFill>
          <a:blip r:embed="rId3"/>
          <a:stretch/>
        </p:blipFill>
        <p:spPr>
          <a:xfrm>
            <a:off x="0" y="3500280"/>
            <a:ext cx="4714920" cy="3357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G:\DCIM\101MSDCF\DSC04513-1.JPG"/>
          <p:cNvPicPr/>
          <p:nvPr/>
        </p:nvPicPr>
        <p:blipFill>
          <a:blip r:embed="rId4"/>
          <a:stretch/>
        </p:blipFill>
        <p:spPr>
          <a:xfrm>
            <a:off x="464328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1:26:38Z</dcterms:created>
  <dc:creator>МАМА</dc:creator>
  <dc:description/>
  <dc:language>en-US</dc:language>
  <cp:lastModifiedBy>МАМА</cp:lastModifiedBy>
  <dcterms:modified xsi:type="dcterms:W3CDTF">2013-04-05T11:53:35Z</dcterms:modified>
  <cp:revision>21</cp:revision>
  <dc:subject/>
  <dc:title>УЧИТЕЛЬ</dc:title>
</cp:coreProperties>
</file>