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00A-2C76-4E14-B6F7-A9FB8795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E31-9637-4E22-8454-8A8E27DF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353-31C5-4D21-A386-2FDB28C9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346-6442-490B-B827-DCAC9C29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269-740E-4063-85E5-A902AF91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93F-DA82-4210-8DC7-9E30EFCC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31E1-480B-44EA-8DD4-6548B07B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B44-BB93-4CEB-A757-18D091E1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51D-7C36-4B3F-9A17-B73B6FFD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1D4C-0251-4576-A69E-1CDB672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978-91E5-423E-B9A2-C7535884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FAB-6D42-4AD8-9E30-0AB0E26A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3C8C-08B6-4C27-A178-A5565A51B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7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 фон (1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214880" y="1708920"/>
            <a:ext cx="4748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пасибо за индивидуальность, неповторимость. Спасибо за преданность делу, которое  выше личных интересов и материальных выгод. От всей души желаю Вам крепкого здоровья, счастья, благополучия, творческих поб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G:\DCIM\101MSDCF\нл.JPG"/>
          <p:cNvPicPr/>
          <p:nvPr/>
        </p:nvPicPr>
        <p:blipFill>
          <a:blip r:embed="rId1"/>
          <a:stretch/>
        </p:blipFill>
        <p:spPr>
          <a:xfrm>
            <a:off x="0" y="0"/>
            <a:ext cx="3375000" cy="450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G:\DCIM\101MSDCF\яяяя.JPG"/>
          <p:cNvPicPr/>
          <p:nvPr/>
        </p:nvPicPr>
        <p:blipFill>
          <a:blip r:embed="rId2"/>
          <a:stretch/>
        </p:blipFill>
        <p:spPr>
          <a:xfrm>
            <a:off x="3071880" y="4643280"/>
            <a:ext cx="2544840" cy="2214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G:\DCIM\101MSDCF\тттт.JPG"/>
          <p:cNvPicPr/>
          <p:nvPr/>
        </p:nvPicPr>
        <p:blipFill>
          <a:blip r:embed="rId3"/>
          <a:stretch/>
        </p:blipFill>
        <p:spPr>
          <a:xfrm>
            <a:off x="5357880" y="-54000"/>
            <a:ext cx="3786120" cy="284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:\DCIM\101MSDCF\вв.JPG"/>
          <p:cNvPicPr/>
          <p:nvPr/>
        </p:nvPicPr>
        <p:blipFill>
          <a:blip r:embed="rId4"/>
          <a:stretch/>
        </p:blipFill>
        <p:spPr>
          <a:xfrm>
            <a:off x="3357720" y="2071800"/>
            <a:ext cx="2286000" cy="276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G:\DCIM\101MSDCF\нн.JPG"/>
          <p:cNvPicPr/>
          <p:nvPr/>
        </p:nvPicPr>
        <p:blipFill>
          <a:blip r:embed="rId5"/>
          <a:stretch/>
        </p:blipFill>
        <p:spPr>
          <a:xfrm>
            <a:off x="0" y="3541680"/>
            <a:ext cx="335772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ник"/>
          <p:cNvPicPr/>
          <p:nvPr/>
        </p:nvPicPr>
        <p:blipFill>
          <a:blip r:embed="rId6"/>
          <a:stretch/>
        </p:blipFill>
        <p:spPr>
          <a:xfrm>
            <a:off x="3357720" y="0"/>
            <a:ext cx="2214360" cy="2214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SC01825-1"/>
          <p:cNvPicPr/>
          <p:nvPr/>
        </p:nvPicPr>
        <p:blipFill>
          <a:blip r:embed="rId7"/>
          <a:stretch/>
        </p:blipFill>
        <p:spPr>
          <a:xfrm>
            <a:off x="5699160" y="4573440"/>
            <a:ext cx="3444840" cy="2284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SC00148-1"/>
          <p:cNvPicPr/>
          <p:nvPr/>
        </p:nvPicPr>
        <p:blipFill>
          <a:blip r:embed="rId8"/>
          <a:stretch/>
        </p:blipFill>
        <p:spPr>
          <a:xfrm>
            <a:off x="5695920" y="2571840"/>
            <a:ext cx="3448080" cy="22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Изображение 3294-1"/>
          <p:cNvPicPr/>
          <p:nvPr/>
        </p:nvPicPr>
        <p:blipFill>
          <a:blip r:embed="rId9"/>
          <a:stretch/>
        </p:blipFill>
        <p:spPr>
          <a:xfrm>
            <a:off x="1857240" y="2714760"/>
            <a:ext cx="21700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8MatrhRosePr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771640" y="334800"/>
            <a:ext cx="59626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Monotype Corsiva"/>
              </a:rPr>
              <a:t>Самым важным явлением в  школе, самым поучительным предметом, самым живым примером для ученика является сам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учител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А. Дистервег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MatrhRosePr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340000" y="-183960"/>
            <a:ext cx="3672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Говорят, педагог не Бог!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Человек не святой - простой.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аже сразу не разберешь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лох он или хорош.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Ты к нему на урок приди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болтай, не вертись, сиди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душевный храня покой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Там поймешь, кто такой.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Если юмора он лишен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ль обидчив излишне он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Если даже по пустякам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идирается к вам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начит, рядом - не друг, не враг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учитель, а просто так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н от школы, увы, далек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Это - не педагог!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Если был он и добр и строг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шутить и работать мог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его самый "трудный" класс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лушать мог целый час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начит, ты у него учись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болтай, не крутись,- трудись,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начит, как на себя самого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ложись на него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нн"/>
          <p:cNvPicPr/>
          <p:nvPr/>
        </p:nvPicPr>
        <p:blipFill>
          <a:blip r:embed="rId2"/>
          <a:stretch/>
        </p:blipFill>
        <p:spPr>
          <a:xfrm>
            <a:off x="5508720" y="0"/>
            <a:ext cx="2160360" cy="1895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т"/>
          <p:cNvPicPr/>
          <p:nvPr/>
        </p:nvPicPr>
        <p:blipFill>
          <a:blip r:embed="rId3"/>
          <a:stretch/>
        </p:blipFill>
        <p:spPr>
          <a:xfrm>
            <a:off x="6443640" y="48322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Фото2041-1"/>
          <p:cNvPicPr/>
          <p:nvPr/>
        </p:nvPicPr>
        <p:blipFill>
          <a:blip r:embed="rId4"/>
          <a:stretch/>
        </p:blipFill>
        <p:spPr>
          <a:xfrm>
            <a:off x="6012000" y="342900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ллл"/>
          <p:cNvPicPr/>
          <p:nvPr/>
        </p:nvPicPr>
        <p:blipFill>
          <a:blip r:embed="rId5"/>
          <a:stretch/>
        </p:blipFill>
        <p:spPr>
          <a:xfrm>
            <a:off x="7164360" y="1484280"/>
            <a:ext cx="1979640" cy="252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ник"/>
          <p:cNvPicPr/>
          <p:nvPr/>
        </p:nvPicPr>
        <p:blipFill>
          <a:blip r:embed="rId6"/>
          <a:stretch/>
        </p:blipFill>
        <p:spPr>
          <a:xfrm>
            <a:off x="5508720" y="184464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8MatrhRosePrint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3000240" y="672480"/>
            <a:ext cx="5786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В авиации строго счит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летчик часов налет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о учителя мало кто зн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он у доски простоял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ночью тетрадей провери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планов за жизнь написа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колько раз человеку пове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и себя за него наказ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С праздником, коллег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116000" y="1978560"/>
            <a:ext cx="65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Быть учителем — значит верить. Верить в возможность изменить мир с помощью просвещения, верить в человека и в то, что интеллектуальное богатство превыше вс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932000" y="1125000"/>
            <a:ext cx="3754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 празднико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т чего виски беле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роседью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т чего морщинки воз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ла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тому, что раз в го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лишь осе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споминает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о пора раская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мучи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ласти обязательно придё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А пока… Да ну их! С Дн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чител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И всего нам – весь учеб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од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 фон (1)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43280" y="549000"/>
            <a:ext cx="450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о дни сомнений, во д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тягостных раздумий о судь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оей родины, — ты один м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поддержка и опора, о вели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могучий, правдивы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вободный русский язык!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будь тебя как не впаст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отчаяние при виде всего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совершается дома? Но нельз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верить, чтобы такой язык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был дан великому народ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И.С.Турген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SC0327яяяяяя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DSC04252"/>
          <p:cNvPicPr/>
          <p:nvPr/>
        </p:nvPicPr>
        <p:blipFill>
          <a:blip r:embed="rId1"/>
          <a:stretch/>
        </p:blipFill>
        <p:spPr>
          <a:xfrm>
            <a:off x="0" y="0"/>
            <a:ext cx="2401920" cy="321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DSC04251"/>
          <p:cNvPicPr/>
          <p:nvPr/>
        </p:nvPicPr>
        <p:blipFill>
          <a:blip r:embed="rId2"/>
          <a:stretch/>
        </p:blipFill>
        <p:spPr>
          <a:xfrm>
            <a:off x="0" y="2852640"/>
            <a:ext cx="3095640" cy="231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DSC04298"/>
          <p:cNvPicPr/>
          <p:nvPr/>
        </p:nvPicPr>
        <p:blipFill>
          <a:blip r:embed="rId3"/>
          <a:stretch/>
        </p:blipFill>
        <p:spPr>
          <a:xfrm>
            <a:off x="2340000" y="0"/>
            <a:ext cx="2455920" cy="328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DSC04293"/>
          <p:cNvPicPr/>
          <p:nvPr/>
        </p:nvPicPr>
        <p:blipFill>
          <a:blip r:embed="rId4"/>
          <a:stretch/>
        </p:blipFill>
        <p:spPr>
          <a:xfrm>
            <a:off x="2556000" y="3284640"/>
            <a:ext cx="267012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DSC04275"/>
          <p:cNvPicPr/>
          <p:nvPr/>
        </p:nvPicPr>
        <p:blipFill>
          <a:blip r:embed="rId5"/>
          <a:stretch/>
        </p:blipFill>
        <p:spPr>
          <a:xfrm>
            <a:off x="4427640" y="0"/>
            <a:ext cx="2520720" cy="3527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SC04277-1"/>
          <p:cNvPicPr/>
          <p:nvPr/>
        </p:nvPicPr>
        <p:blipFill>
          <a:blip r:embed="rId6"/>
          <a:stretch/>
        </p:blipFill>
        <p:spPr>
          <a:xfrm>
            <a:off x="0" y="5157720"/>
            <a:ext cx="2700360" cy="170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SC04255"/>
          <p:cNvPicPr/>
          <p:nvPr/>
        </p:nvPicPr>
        <p:blipFill>
          <a:blip r:embed="rId7"/>
          <a:stretch/>
        </p:blipFill>
        <p:spPr>
          <a:xfrm>
            <a:off x="6877080" y="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C04302"/>
          <p:cNvPicPr/>
          <p:nvPr/>
        </p:nvPicPr>
        <p:blipFill>
          <a:blip r:embed="rId8"/>
          <a:stretch/>
        </p:blipFill>
        <p:spPr>
          <a:xfrm>
            <a:off x="4859280" y="321300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DSC04250"/>
          <p:cNvPicPr/>
          <p:nvPr/>
        </p:nvPicPr>
        <p:blipFill>
          <a:blip r:embed="rId9"/>
          <a:stretch/>
        </p:blipFill>
        <p:spPr>
          <a:xfrm>
            <a:off x="6372360" y="2492280"/>
            <a:ext cx="161928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1о"/>
          <p:cNvPicPr/>
          <p:nvPr/>
        </p:nvPicPr>
        <p:blipFill>
          <a:blip r:embed="rId10"/>
          <a:stretch/>
        </p:blipFill>
        <p:spPr>
          <a:xfrm>
            <a:off x="7380360" y="4292640"/>
            <a:ext cx="1763640" cy="234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2о"/>
          <p:cNvPicPr/>
          <p:nvPr/>
        </p:nvPicPr>
        <p:blipFill>
          <a:blip r:embed="rId11"/>
          <a:stretch/>
        </p:blipFill>
        <p:spPr>
          <a:xfrm>
            <a:off x="7913520" y="2421000"/>
            <a:ext cx="1230480" cy="184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4о"/>
          <p:cNvPicPr/>
          <p:nvPr/>
        </p:nvPicPr>
        <p:blipFill>
          <a:blip r:embed="rId12"/>
          <a:stretch/>
        </p:blipFill>
        <p:spPr>
          <a:xfrm>
            <a:off x="5580000" y="4724280"/>
            <a:ext cx="15732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G:\DCIM\101MSDCF\DSC04515-1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G:\DCIM\101MSDCF\DSC04507-1.JPG"/>
          <p:cNvPicPr/>
          <p:nvPr/>
        </p:nvPicPr>
        <p:blipFill>
          <a:blip r:embed="rId2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G:\DCIM\101MSDCF\DSC04508-1.JPG"/>
          <p:cNvPicPr/>
          <p:nvPr/>
        </p:nvPicPr>
        <p:blipFill>
          <a:blip r:embed="rId3"/>
          <a:stretch/>
        </p:blipFill>
        <p:spPr>
          <a:xfrm>
            <a:off x="0" y="3500280"/>
            <a:ext cx="4714920" cy="3357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G:\DCIM\101MSDCF\DSC04513-1.JPG"/>
          <p:cNvPicPr/>
          <p:nvPr/>
        </p:nvPicPr>
        <p:blipFill>
          <a:blip r:embed="rId4"/>
          <a:stretch/>
        </p:blipFill>
        <p:spPr>
          <a:xfrm>
            <a:off x="464328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1:26:38Z</dcterms:created>
  <dc:creator>МАМА</dc:creator>
  <dc:description/>
  <dc:language>en-US</dc:language>
  <cp:lastModifiedBy>МАМА</cp:lastModifiedBy>
  <dcterms:modified xsi:type="dcterms:W3CDTF">2013-04-05T11:53:35Z</dcterms:modified>
  <cp:revision>21</cp:revision>
  <dc:subject/>
  <dc:title>УЧИТЕЛЬ</dc:title>
</cp:coreProperties>
</file>