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4BD2-F65E-45D6-8395-DC6F525CA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7D6D-ACBB-4286-9C5F-6739861E9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8C30-AF35-4D72-9373-5E2E1A269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709E-21B5-4F19-9A3A-6F2164837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056B5-D200-4AF9-ADDB-CCC792018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53C51-79BB-418C-BA4A-A5EA52D7B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FAB7E-A457-45E1-B049-380DDC73E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59813-1B0B-4268-A42D-DA65F39D8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33537-5A5B-41D0-A342-A6500276A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42462-4C61-411B-A674-B5C02D689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BFF71-3276-4D86-BD4B-18A87574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1D8B-F070-4613-AD95-1AD6F282A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4D5F9-3581-4912-839A-04EC8808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F4CE3-D947-421E-866B-E004A55F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3C13D-55FE-4206-9009-8771566CC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9CC68-A996-4445-8661-AB621629E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7CA01-4F6A-4E98-B592-7228A62B2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7D45B-0ABF-44AA-B579-E9159BD22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28BAD-19A9-4F3E-BA4A-55CA9D177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70AEE-F051-4F93-B5D6-E62F5F2E7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5A302-F9A6-48CF-90E6-3F2786E3B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239D9-0F07-4158-B670-F872A575E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DEBF-02CE-4632-BCC4-5264B791D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394D8-367D-4DE0-BDEB-EAEB2EB90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E4699-FAB0-4F65-BB55-EF10A300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6E32D-7AC2-4E27-B467-8BCE8D4C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B699C-4471-42B8-88A2-9A91BD90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73111-83CE-46CC-B4C4-A9C14B234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FF10E-0E04-4218-9AA6-84DE1796C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CF41A-272B-4999-95B8-2D431780B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31ADD-01F6-4A76-8011-446D3B53A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90F39-A776-49EA-ACA3-1DEF357E0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9F0BF-D76D-4342-AFE3-BC6C1A747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1B05-993A-4AEF-9724-865F34104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C7CCE-E135-4788-B999-174A2DF91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7B8BD-CE58-4A86-8440-798294C00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38A30-5619-4C4A-A3C9-246570688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D73DE-F34B-4E79-A19A-78C972CE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EAB58-AB97-4697-9970-A276CA48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58D21-5E92-4EC1-853B-D51D66D3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45106-40ED-4E5E-91C4-4AFF52705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2ACC4-A07C-419C-92C7-697937415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29170-264B-4C49-B0DC-D07AB2555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0D0CB2-F638-48C5-8964-C69D30030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B7F9-54EE-4AFD-925C-0A286E3C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526C00-B37E-4D68-A674-456002E4E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E374DC-4560-4487-9FF4-66FDC8DB0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F5D1BB-C885-41DF-954F-FA3EE7E1F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CF1D91-6D81-4CE2-806C-F6CFBE501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42D87B-B0CD-4127-B37C-8A1064F4F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7B3968-FFC9-45E1-8371-B0D3EC36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9AF860-3521-4DCC-9CF4-A846A7B0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78A318-3401-4308-9AC4-AFAF46C2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9BF5C9-1140-464F-B8D6-A88EC703B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9A805B-57DF-4AC2-9B43-E82DE1FA2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4447-F735-438B-9E38-96B84C6D1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8064A0-D94B-4908-BE38-F2D0A91AB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CA28B0-8755-46FF-A667-4C6950761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2B1E3-7492-4F3A-A39C-7E811B1C2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2EE11A-A741-455F-A091-3633A48E8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71EA81-E8F4-4C9B-9495-3418C29F9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141FA-8817-477F-AD48-75ADDA240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C3532-66B6-4EC3-A5AD-CBEF1AEED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2DDD04-E30D-474E-ABC8-4CF2A060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9DC82-7050-424A-973C-1ADD8FB5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473F7D-1CA5-405D-B839-2DB39178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B807-D9D6-4973-A81F-9D32B187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41C57-8CC4-46A3-8CB8-3B10B7678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76D0E-0A06-4332-8289-5A919329F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9B974-B156-4F7B-A8DB-FAD657DCD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8E10C-32F2-4FA7-BFBC-7B4C0DEB2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0AA51E-DDD4-497A-9F02-3612E149E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EB7D1-C4EB-448A-AEF0-EBAB2FE3E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38F4C-BFB0-4855-A25B-13383ABA7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CE4B9-028B-4162-8EF0-146347709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24C8A-6209-4AE7-81F5-39D79666A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FCAA2-DE83-4768-BA5D-E945B36E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D2D4-E0F8-439F-9451-80D219CD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6B08A1-6E18-42C4-B66B-A3EF7EFD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F95B50-BD58-4959-9627-6D5DD1F4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BE8B38-BD27-4C5B-9650-80F827CBA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8460D-AEF1-4F9D-BA12-CF7E02233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6BF4A-8E93-45C1-9F65-F12851514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3689-5566-412F-9075-AB31A732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2327E-0287-4252-9A5E-6B58814342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9508C-4D1F-4BDC-A445-5DDDE0375B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20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AC4CB-1F31-4586-B52D-2A432B470C1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67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FE906-6F6D-4CB2-A3BC-FAA6C1B0461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1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0E99F-CD8B-4DFF-B1A0-33495A34183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77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F4E88-2C54-4AB2-8B39-2C7FA3272DD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25C35-45E1-423E-AC47-911A7B0AA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288,9,&#1057;&#1083;&#1072;&#1081;&#1076; 9" TargetMode="External"/><Relationship Id="rId2" Type="http://schemas.openxmlformats.org/officeDocument/2006/relationships/hyperlink" Target="285,8,&#1057;&#1083;&#1072;&#1081;&#1076; 8" TargetMode="External"/><Relationship Id="rId3" Type="http://schemas.openxmlformats.org/officeDocument/2006/relationships/hyperlink" Target="284,7,&#1057;&#1083;&#1072;&#1081;&#1076; 7" TargetMode="External"/><Relationship Id="rId4" Type="http://schemas.openxmlformats.org/officeDocument/2006/relationships/hyperlink" Target="296,13,&#1057;&#1083;&#1072;&#1081;&#1076; 13" TargetMode="External"/><Relationship Id="rId5" Type="http://schemas.openxmlformats.org/officeDocument/2006/relationships/hyperlink" Target="293,12,&#1057;&#1083;&#1072;&#1081;&#1076; 12" TargetMode="External"/><Relationship Id="rId6" Type="http://schemas.openxmlformats.org/officeDocument/2006/relationships/hyperlink" Target="289,11,&#1057;&#1083;&#1072;&#1081;&#1076; 11" TargetMode="External"/><Relationship Id="rId7" Type="http://schemas.openxmlformats.org/officeDocument/2006/relationships/hyperlink" Target="290,10,&#1057;&#1083;&#1072;&#1081;&#1076; 10" TargetMode="External"/><Relationship Id="rId8" Type="http://schemas.openxmlformats.org/officeDocument/2006/relationships/hyperlink" Target="295,6,&#1050;&#1088;&#1072;&#1089;&#1085;&#1072;&#1103; &#1076;&#1086;&#1088;&#1086;&#1078;&#1082;&#1072;" TargetMode="External"/><Relationship Id="rId9" Type="http://schemas.openxmlformats.org/officeDocument/2006/relationships/hyperlink" Target="292,5,&#1050;&#1088;&#1072;&#1089;&#1085;&#1072;&#1103; &#1076;&#1086;&#1088;&#1086;&#1078;&#1082;&#1072;" TargetMode="External"/><Relationship Id="rId10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324000" y="1197000"/>
            <a:ext cx="8135640" cy="43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УМНИКИ   И   УМНИЦЫ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>
            <a:hlinkClick r:id="" action="ppaction://hlinkshowjump?jump=previousslide"/>
          </p:cNvPr>
          <p:cNvSpPr/>
          <p:nvPr/>
        </p:nvSpPr>
        <p:spPr>
          <a:xfrm>
            <a:off x="7740720" y="6021360"/>
            <a:ext cx="1403280" cy="720720"/>
          </a:xfrm>
          <a:custGeom>
            <a:avLst/>
            <a:gdLst>
              <a:gd name="textAreaLeft" fmla="*/ 46440 w 1403280"/>
              <a:gd name="textAreaRight" fmla="*/ 1356840 w 1403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42046" h="21600">
                <a:moveTo>
                  <a:pt x="0" y="0"/>
                </a:moveTo>
                <a:lnTo>
                  <a:pt x="42046" y="0"/>
                </a:lnTo>
                <a:lnTo>
                  <a:pt x="42046" y="21600"/>
                </a:lnTo>
                <a:lnTo>
                  <a:pt x="0" y="21600"/>
                </a:lnTo>
                <a:close/>
              </a:path>
              <a:path fill="lightenLess" w="42046" h="21600">
                <a:moveTo>
                  <a:pt x="0" y="0"/>
                </a:moveTo>
                <a:lnTo>
                  <a:pt x="42046" y="0"/>
                </a:lnTo>
                <a:lnTo>
                  <a:pt x="40646" y="1400"/>
                </a:lnTo>
                <a:lnTo>
                  <a:pt x="1400" y="1400"/>
                </a:lnTo>
                <a:close/>
              </a:path>
              <a:path fill="darken" w="42046" h="21600">
                <a:moveTo>
                  <a:pt x="42046" y="0"/>
                </a:moveTo>
                <a:lnTo>
                  <a:pt x="42046" y="21600"/>
                </a:lnTo>
                <a:lnTo>
                  <a:pt x="40646" y="20200"/>
                </a:lnTo>
                <a:lnTo>
                  <a:pt x="40646" y="1400"/>
                </a:lnTo>
                <a:close/>
              </a:path>
              <a:path fill="darkenLess" w="42046" h="21600">
                <a:moveTo>
                  <a:pt x="420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646" y="20200"/>
                </a:lnTo>
                <a:close/>
              </a:path>
              <a:path fill="lighten" w="420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046" h="21600">
                <a:moveTo>
                  <a:pt x="14017" y="10800"/>
                </a:moveTo>
                <a:lnTo>
                  <a:pt x="28030" y="3794"/>
                </a:lnTo>
                <a:lnTo>
                  <a:pt x="2803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еленая дорож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50920" y="1484280"/>
            <a:ext cx="8218440" cy="45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Великий русский князь, потомок князя Игоря, воин, удачливый полководец; его «щит на вратах Цареграда».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>
            <a:hlinkClick r:id="" action="ppaction://hlinkshowjump?jump=previousslide"/>
          </p:cNvPr>
          <p:cNvSpPr/>
          <p:nvPr/>
        </p:nvSpPr>
        <p:spPr>
          <a:xfrm>
            <a:off x="7740720" y="6021360"/>
            <a:ext cx="1403280" cy="720720"/>
          </a:xfrm>
          <a:custGeom>
            <a:avLst/>
            <a:gdLst>
              <a:gd name="textAreaLeft" fmla="*/ 46440 w 1403280"/>
              <a:gd name="textAreaRight" fmla="*/ 1356840 w 1403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42046" h="21600">
                <a:moveTo>
                  <a:pt x="0" y="0"/>
                </a:moveTo>
                <a:lnTo>
                  <a:pt x="42046" y="0"/>
                </a:lnTo>
                <a:lnTo>
                  <a:pt x="42046" y="21600"/>
                </a:lnTo>
                <a:lnTo>
                  <a:pt x="0" y="21600"/>
                </a:lnTo>
                <a:close/>
              </a:path>
              <a:path fill="lightenLess" w="42046" h="21600">
                <a:moveTo>
                  <a:pt x="0" y="0"/>
                </a:moveTo>
                <a:lnTo>
                  <a:pt x="42046" y="0"/>
                </a:lnTo>
                <a:lnTo>
                  <a:pt x="40646" y="1400"/>
                </a:lnTo>
                <a:lnTo>
                  <a:pt x="1400" y="1400"/>
                </a:lnTo>
                <a:close/>
              </a:path>
              <a:path fill="darken" w="42046" h="21600">
                <a:moveTo>
                  <a:pt x="42046" y="0"/>
                </a:moveTo>
                <a:lnTo>
                  <a:pt x="42046" y="21600"/>
                </a:lnTo>
                <a:lnTo>
                  <a:pt x="40646" y="20200"/>
                </a:lnTo>
                <a:lnTo>
                  <a:pt x="40646" y="1400"/>
                </a:lnTo>
                <a:close/>
              </a:path>
              <a:path fill="darkenLess" w="42046" h="21600">
                <a:moveTo>
                  <a:pt x="420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646" y="20200"/>
                </a:lnTo>
                <a:close/>
              </a:path>
              <a:path fill="lighten" w="420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046" h="21600">
                <a:moveTo>
                  <a:pt x="14017" y="10800"/>
                </a:moveTo>
                <a:lnTo>
                  <a:pt x="28030" y="3794"/>
                </a:lnTo>
                <a:lnTo>
                  <a:pt x="2803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еленая дорож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50920" y="1484280"/>
            <a:ext cx="8218440" cy="45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Кто автор слов «Сказка – ложь, да в ней намек, добрым молодцам урок».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>
            <a:hlinkClick r:id="" action="ppaction://hlinkshowjump?jump=previousslide"/>
          </p:cNvPr>
          <p:cNvSpPr/>
          <p:nvPr/>
        </p:nvSpPr>
        <p:spPr>
          <a:xfrm>
            <a:off x="7740720" y="6021360"/>
            <a:ext cx="1403280" cy="720720"/>
          </a:xfrm>
          <a:custGeom>
            <a:avLst/>
            <a:gdLst>
              <a:gd name="textAreaLeft" fmla="*/ 46440 w 1403280"/>
              <a:gd name="textAreaRight" fmla="*/ 1356840 w 1403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42046" h="21600">
                <a:moveTo>
                  <a:pt x="0" y="0"/>
                </a:moveTo>
                <a:lnTo>
                  <a:pt x="42046" y="0"/>
                </a:lnTo>
                <a:lnTo>
                  <a:pt x="42046" y="21600"/>
                </a:lnTo>
                <a:lnTo>
                  <a:pt x="0" y="21600"/>
                </a:lnTo>
                <a:close/>
              </a:path>
              <a:path fill="lightenLess" w="42046" h="21600">
                <a:moveTo>
                  <a:pt x="0" y="0"/>
                </a:moveTo>
                <a:lnTo>
                  <a:pt x="42046" y="0"/>
                </a:lnTo>
                <a:lnTo>
                  <a:pt x="40646" y="1400"/>
                </a:lnTo>
                <a:lnTo>
                  <a:pt x="1400" y="1400"/>
                </a:lnTo>
                <a:close/>
              </a:path>
              <a:path fill="darken" w="42046" h="21600">
                <a:moveTo>
                  <a:pt x="42046" y="0"/>
                </a:moveTo>
                <a:lnTo>
                  <a:pt x="42046" y="21600"/>
                </a:lnTo>
                <a:lnTo>
                  <a:pt x="40646" y="20200"/>
                </a:lnTo>
                <a:lnTo>
                  <a:pt x="40646" y="1400"/>
                </a:lnTo>
                <a:close/>
              </a:path>
              <a:path fill="darkenLess" w="42046" h="21600">
                <a:moveTo>
                  <a:pt x="420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646" y="20200"/>
                </a:lnTo>
                <a:close/>
              </a:path>
              <a:path fill="lighten" w="420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046" h="21600">
                <a:moveTo>
                  <a:pt x="14017" y="10800"/>
                </a:moveTo>
                <a:lnTo>
                  <a:pt x="28030" y="3794"/>
                </a:lnTo>
                <a:lnTo>
                  <a:pt x="2803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еленая дорож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0920" y="1484280"/>
            <a:ext cx="8218440" cy="45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Кто из русских художников иллюстрировал русские сказки?</a:t>
            </a:r>
            <a:br>
              <a:rPr sz="4800"/>
            </a:br>
            <a:br>
              <a:rPr sz="3200"/>
            </a:br>
            <a:br>
              <a:rPr sz="32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>
            <a:hlinkClick r:id="" action="ppaction://hlinkshowjump?jump=previousslide"/>
          </p:cNvPr>
          <p:cNvSpPr/>
          <p:nvPr/>
        </p:nvSpPr>
        <p:spPr>
          <a:xfrm>
            <a:off x="7740720" y="6021360"/>
            <a:ext cx="1403280" cy="720720"/>
          </a:xfrm>
          <a:custGeom>
            <a:avLst/>
            <a:gdLst>
              <a:gd name="textAreaLeft" fmla="*/ 46440 w 1403280"/>
              <a:gd name="textAreaRight" fmla="*/ 1356840 w 1403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42046" h="21600">
                <a:moveTo>
                  <a:pt x="0" y="0"/>
                </a:moveTo>
                <a:lnTo>
                  <a:pt x="42046" y="0"/>
                </a:lnTo>
                <a:lnTo>
                  <a:pt x="42046" y="21600"/>
                </a:lnTo>
                <a:lnTo>
                  <a:pt x="0" y="21600"/>
                </a:lnTo>
                <a:close/>
              </a:path>
              <a:path fill="lightenLess" w="42046" h="21600">
                <a:moveTo>
                  <a:pt x="0" y="0"/>
                </a:moveTo>
                <a:lnTo>
                  <a:pt x="42046" y="0"/>
                </a:lnTo>
                <a:lnTo>
                  <a:pt x="40646" y="1400"/>
                </a:lnTo>
                <a:lnTo>
                  <a:pt x="1400" y="1400"/>
                </a:lnTo>
                <a:close/>
              </a:path>
              <a:path fill="darken" w="42046" h="21600">
                <a:moveTo>
                  <a:pt x="42046" y="0"/>
                </a:moveTo>
                <a:lnTo>
                  <a:pt x="42046" y="21600"/>
                </a:lnTo>
                <a:lnTo>
                  <a:pt x="40646" y="20200"/>
                </a:lnTo>
                <a:lnTo>
                  <a:pt x="40646" y="1400"/>
                </a:lnTo>
                <a:close/>
              </a:path>
              <a:path fill="darkenLess" w="42046" h="21600">
                <a:moveTo>
                  <a:pt x="420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646" y="20200"/>
                </a:lnTo>
                <a:close/>
              </a:path>
              <a:path fill="lighten" w="420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046" h="21600">
                <a:moveTo>
                  <a:pt x="14017" y="10800"/>
                </a:moveTo>
                <a:lnTo>
                  <a:pt x="28030" y="3794"/>
                </a:lnTo>
                <a:lnTo>
                  <a:pt x="2803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еленая дорож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50920" y="1484280"/>
            <a:ext cx="8218440" cy="45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Кочерга – приспособление для перемешивания топлива в печи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.       Поставьте </a:t>
            </a:r>
            <a:br>
              <a:rPr sz="3200"/>
            </a:b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слово «кочерга» в форму множественного числа родительного падежа</a:t>
            </a:r>
            <a:br>
              <a:rPr sz="32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ЖЕЛАЕМ ТВОРЧЕСКИХ УСПЕХОВ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РАЗМИНК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ставьте пропущенные буквы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..тно  свет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Б..рдовая ткан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..йзаж на картин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Расст..лается ковром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Начертить к..сательную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Юноша бре..тс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равильные ответ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"/>
          <p:cNvGraphicFramePr/>
          <p:nvPr/>
        </p:nvGraphicFramePr>
        <p:xfrm>
          <a:off x="3492360" y="1844640"/>
          <a:ext cx="2160720" cy="4129200"/>
        </p:xfrm>
        <a:graphic>
          <a:graphicData uri="http://schemas.openxmlformats.org/drawingml/2006/table">
            <a:tbl>
              <a:tblPr/>
              <a:tblGrid>
                <a:gridCol w="2160720"/>
              </a:tblGrid>
              <a:tr h="13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 u="sng">
                          <a:solidFill>
                            <a:srgbClr val="6767ff"/>
                          </a:solidFill>
                          <a:uFillTx/>
                          <a:latin typeface="Arial"/>
                          <a:hlinkClick r:id="rId1"/>
                        </a:rPr>
                        <a:t>3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37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 u="sng">
                          <a:solidFill>
                            <a:srgbClr val="6767ff"/>
                          </a:solidFill>
                          <a:uFillTx/>
                          <a:latin typeface="Arial"/>
                          <a:hlinkClick r:id="rId2"/>
                        </a:rPr>
                        <a:t>2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3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 u="sng">
                          <a:solidFill>
                            <a:srgbClr val="6767ff"/>
                          </a:solidFill>
                          <a:uFillTx/>
                          <a:latin typeface="Arial"/>
                          <a:hlinkClick r:id="rId3"/>
                        </a:rPr>
                        <a:t>1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5" name=""/>
          <p:cNvGraphicFramePr/>
          <p:nvPr/>
        </p:nvGraphicFramePr>
        <p:xfrm>
          <a:off x="6227640" y="549360"/>
          <a:ext cx="2160720" cy="5500440"/>
        </p:xfrm>
        <a:graphic>
          <a:graphicData uri="http://schemas.openxmlformats.org/drawingml/2006/table">
            <a:tbl>
              <a:tblPr/>
              <a:tblGrid>
                <a:gridCol w="2160720"/>
              </a:tblGrid>
              <a:tr h="13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 u="sng">
                          <a:solidFill>
                            <a:srgbClr val="6767ff"/>
                          </a:solidFill>
                          <a:uFillTx/>
                          <a:latin typeface="Arial"/>
                          <a:hlinkClick r:id="rId4"/>
                        </a:rPr>
                        <a:t>4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37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 u="sng">
                          <a:solidFill>
                            <a:srgbClr val="6767ff"/>
                          </a:solidFill>
                          <a:uFillTx/>
                          <a:latin typeface="Arial"/>
                          <a:hlinkClick r:id="rId5"/>
                        </a:rPr>
                        <a:t>3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3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 u="sng">
                          <a:solidFill>
                            <a:srgbClr val="6767ff"/>
                          </a:solidFill>
                          <a:uFillTx/>
                          <a:latin typeface="Arial"/>
                          <a:hlinkClick r:id="rId6"/>
                        </a:rPr>
                        <a:t>2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3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 u="sng">
                          <a:solidFill>
                            <a:srgbClr val="6767ff"/>
                          </a:solidFill>
                          <a:uFillTx/>
                          <a:latin typeface="Arial"/>
                          <a:hlinkClick r:id="rId7"/>
                        </a:rPr>
                        <a:t>1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6" name=""/>
          <p:cNvGraphicFramePr/>
          <p:nvPr/>
        </p:nvGraphicFramePr>
        <p:xfrm>
          <a:off x="826920" y="3284640"/>
          <a:ext cx="2160720" cy="2752560"/>
        </p:xfrm>
        <a:graphic>
          <a:graphicData uri="http://schemas.openxmlformats.org/drawingml/2006/table">
            <a:tbl>
              <a:tblPr/>
              <a:tblGrid>
                <a:gridCol w="2160720"/>
              </a:tblGrid>
              <a:tr h="13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 u="sng">
                          <a:solidFill>
                            <a:srgbClr val="6767ff"/>
                          </a:solidFill>
                          <a:uFillTx/>
                          <a:latin typeface="Arial"/>
                          <a:hlinkClick r:id="rId8"/>
                        </a:rPr>
                        <a:t>2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3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 u="sng">
                          <a:solidFill>
                            <a:srgbClr val="6767ff"/>
                          </a:solidFill>
                          <a:uFillTx/>
                          <a:latin typeface="Arial"/>
                          <a:hlinkClick r:id="rId9"/>
                        </a:rPr>
                        <a:t>1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Красная дорожк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18 февраля 1831 года в Москве в церкви Большого Вознесения на Никитской состоялось венчание 32-лет- него А.С. Пушкина и 18-летней Натальи Гончаровой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По словам очевидцев венчания, дважды во время торжественной церемонии Пушкин бледнел от страха. Что случилось на венчании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">
            <a:hlinkClick r:id="" action="ppaction://hlinkshowjump?jump=previousslide"/>
          </p:cNvPr>
          <p:cNvSpPr/>
          <p:nvPr/>
        </p:nvSpPr>
        <p:spPr>
          <a:xfrm>
            <a:off x="7740720" y="6021360"/>
            <a:ext cx="1403280" cy="720720"/>
          </a:xfrm>
          <a:custGeom>
            <a:avLst/>
            <a:gdLst>
              <a:gd name="textAreaLeft" fmla="*/ 46440 w 1403280"/>
              <a:gd name="textAreaRight" fmla="*/ 1356840 w 1403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42046" h="21600">
                <a:moveTo>
                  <a:pt x="0" y="0"/>
                </a:moveTo>
                <a:lnTo>
                  <a:pt x="42046" y="0"/>
                </a:lnTo>
                <a:lnTo>
                  <a:pt x="42046" y="21600"/>
                </a:lnTo>
                <a:lnTo>
                  <a:pt x="0" y="21600"/>
                </a:lnTo>
                <a:close/>
              </a:path>
              <a:path fill="lightenLess" w="42046" h="21600">
                <a:moveTo>
                  <a:pt x="0" y="0"/>
                </a:moveTo>
                <a:lnTo>
                  <a:pt x="42046" y="0"/>
                </a:lnTo>
                <a:lnTo>
                  <a:pt x="40646" y="1400"/>
                </a:lnTo>
                <a:lnTo>
                  <a:pt x="1400" y="1400"/>
                </a:lnTo>
                <a:close/>
              </a:path>
              <a:path fill="darken" w="42046" h="21600">
                <a:moveTo>
                  <a:pt x="42046" y="0"/>
                </a:moveTo>
                <a:lnTo>
                  <a:pt x="42046" y="21600"/>
                </a:lnTo>
                <a:lnTo>
                  <a:pt x="40646" y="20200"/>
                </a:lnTo>
                <a:lnTo>
                  <a:pt x="40646" y="1400"/>
                </a:lnTo>
                <a:close/>
              </a:path>
              <a:path fill="darkenLess" w="42046" h="21600">
                <a:moveTo>
                  <a:pt x="420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646" y="20200"/>
                </a:lnTo>
                <a:close/>
              </a:path>
              <a:path fill="lighten" w="420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046" h="21600">
                <a:moveTo>
                  <a:pt x="14017" y="10800"/>
                </a:moveTo>
                <a:lnTo>
                  <a:pt x="28030" y="3794"/>
                </a:lnTo>
                <a:lnTo>
                  <a:pt x="28030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Красная дорожк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"/>
          <p:cNvSpPr/>
          <p:nvPr/>
        </p:nvSpPr>
        <p:spPr>
          <a:xfrm>
            <a:off x="250920" y="1484280"/>
            <a:ext cx="8218440" cy="45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ahoma"/>
              </a:rPr>
              <a:t>2.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Образуйте форму множественного числа существительного «дно»?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>
            <a:hlinkClick r:id="" action="ppaction://hlinkshowjump?jump=previousslide"/>
          </p:cNvPr>
          <p:cNvSpPr/>
          <p:nvPr/>
        </p:nvSpPr>
        <p:spPr>
          <a:xfrm>
            <a:off x="7740720" y="6021360"/>
            <a:ext cx="1403280" cy="720720"/>
          </a:xfrm>
          <a:custGeom>
            <a:avLst/>
            <a:gdLst>
              <a:gd name="textAreaLeft" fmla="*/ 46440 w 1403280"/>
              <a:gd name="textAreaRight" fmla="*/ 1356840 w 1403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42046" h="21600">
                <a:moveTo>
                  <a:pt x="0" y="0"/>
                </a:moveTo>
                <a:lnTo>
                  <a:pt x="42046" y="0"/>
                </a:lnTo>
                <a:lnTo>
                  <a:pt x="42046" y="21600"/>
                </a:lnTo>
                <a:lnTo>
                  <a:pt x="0" y="21600"/>
                </a:lnTo>
                <a:close/>
              </a:path>
              <a:path fill="lightenLess" w="42046" h="21600">
                <a:moveTo>
                  <a:pt x="0" y="0"/>
                </a:moveTo>
                <a:lnTo>
                  <a:pt x="42046" y="0"/>
                </a:lnTo>
                <a:lnTo>
                  <a:pt x="40646" y="1400"/>
                </a:lnTo>
                <a:lnTo>
                  <a:pt x="1400" y="1400"/>
                </a:lnTo>
                <a:close/>
              </a:path>
              <a:path fill="darken" w="42046" h="21600">
                <a:moveTo>
                  <a:pt x="42046" y="0"/>
                </a:moveTo>
                <a:lnTo>
                  <a:pt x="42046" y="21600"/>
                </a:lnTo>
                <a:lnTo>
                  <a:pt x="40646" y="20200"/>
                </a:lnTo>
                <a:lnTo>
                  <a:pt x="40646" y="1400"/>
                </a:lnTo>
                <a:close/>
              </a:path>
              <a:path fill="darkenLess" w="42046" h="21600">
                <a:moveTo>
                  <a:pt x="420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646" y="20200"/>
                </a:lnTo>
                <a:close/>
              </a:path>
              <a:path fill="lighten" w="420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046" h="21600">
                <a:moveTo>
                  <a:pt x="14017" y="10800"/>
                </a:moveTo>
                <a:lnTo>
                  <a:pt x="28030" y="3794"/>
                </a:lnTo>
                <a:lnTo>
                  <a:pt x="28030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Желтая дорожка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0920" y="1484280"/>
            <a:ext cx="8218440" cy="45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Какое местоимение является названием книги В. Маяковского?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>
            <a:hlinkClick r:id="" action="ppaction://hlinkshowjump?jump=previousslide"/>
          </p:cNvPr>
          <p:cNvSpPr/>
          <p:nvPr/>
        </p:nvSpPr>
        <p:spPr>
          <a:xfrm>
            <a:off x="7740720" y="6021360"/>
            <a:ext cx="1403280" cy="720720"/>
          </a:xfrm>
          <a:custGeom>
            <a:avLst/>
            <a:gdLst>
              <a:gd name="textAreaLeft" fmla="*/ 46440 w 1403280"/>
              <a:gd name="textAreaRight" fmla="*/ 1356840 w 1403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42046" h="21600">
                <a:moveTo>
                  <a:pt x="0" y="0"/>
                </a:moveTo>
                <a:lnTo>
                  <a:pt x="42046" y="0"/>
                </a:lnTo>
                <a:lnTo>
                  <a:pt x="42046" y="21600"/>
                </a:lnTo>
                <a:lnTo>
                  <a:pt x="0" y="21600"/>
                </a:lnTo>
                <a:close/>
              </a:path>
              <a:path fill="lightenLess" w="42046" h="21600">
                <a:moveTo>
                  <a:pt x="0" y="0"/>
                </a:moveTo>
                <a:lnTo>
                  <a:pt x="42046" y="0"/>
                </a:lnTo>
                <a:lnTo>
                  <a:pt x="40646" y="1400"/>
                </a:lnTo>
                <a:lnTo>
                  <a:pt x="1400" y="1400"/>
                </a:lnTo>
                <a:close/>
              </a:path>
              <a:path fill="darken" w="42046" h="21600">
                <a:moveTo>
                  <a:pt x="42046" y="0"/>
                </a:moveTo>
                <a:lnTo>
                  <a:pt x="42046" y="21600"/>
                </a:lnTo>
                <a:lnTo>
                  <a:pt x="40646" y="20200"/>
                </a:lnTo>
                <a:lnTo>
                  <a:pt x="40646" y="1400"/>
                </a:lnTo>
                <a:close/>
              </a:path>
              <a:path fill="darkenLess" w="42046" h="21600">
                <a:moveTo>
                  <a:pt x="420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646" y="20200"/>
                </a:lnTo>
                <a:close/>
              </a:path>
              <a:path fill="lighten" w="420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046" h="21600">
                <a:moveTo>
                  <a:pt x="14017" y="10800"/>
                </a:moveTo>
                <a:lnTo>
                  <a:pt x="28030" y="3794"/>
                </a:lnTo>
                <a:lnTo>
                  <a:pt x="28030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324000" y="1844640"/>
            <a:ext cx="8218440" cy="45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В чем отличие глаголов НАДЕТЬ 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ОДЕТЬ?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Желтая дорожка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>
            <a:hlinkClick r:id="" action="ppaction://hlinkshowjump?jump=previousslide"/>
          </p:cNvPr>
          <p:cNvSpPr/>
          <p:nvPr/>
        </p:nvSpPr>
        <p:spPr>
          <a:xfrm>
            <a:off x="7740720" y="6021360"/>
            <a:ext cx="1403280" cy="720720"/>
          </a:xfrm>
          <a:custGeom>
            <a:avLst/>
            <a:gdLst>
              <a:gd name="textAreaLeft" fmla="*/ 46440 w 1403280"/>
              <a:gd name="textAreaRight" fmla="*/ 1356840 w 1403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42046" h="21600">
                <a:moveTo>
                  <a:pt x="0" y="0"/>
                </a:moveTo>
                <a:lnTo>
                  <a:pt x="42046" y="0"/>
                </a:lnTo>
                <a:lnTo>
                  <a:pt x="42046" y="21600"/>
                </a:lnTo>
                <a:lnTo>
                  <a:pt x="0" y="21600"/>
                </a:lnTo>
                <a:close/>
              </a:path>
              <a:path fill="lightenLess" w="42046" h="21600">
                <a:moveTo>
                  <a:pt x="0" y="0"/>
                </a:moveTo>
                <a:lnTo>
                  <a:pt x="42046" y="0"/>
                </a:lnTo>
                <a:lnTo>
                  <a:pt x="40646" y="1400"/>
                </a:lnTo>
                <a:lnTo>
                  <a:pt x="1400" y="1400"/>
                </a:lnTo>
                <a:close/>
              </a:path>
              <a:path fill="darken" w="42046" h="21600">
                <a:moveTo>
                  <a:pt x="42046" y="0"/>
                </a:moveTo>
                <a:lnTo>
                  <a:pt x="42046" y="21600"/>
                </a:lnTo>
                <a:lnTo>
                  <a:pt x="40646" y="20200"/>
                </a:lnTo>
                <a:lnTo>
                  <a:pt x="40646" y="1400"/>
                </a:lnTo>
                <a:close/>
              </a:path>
              <a:path fill="darkenLess" w="42046" h="21600">
                <a:moveTo>
                  <a:pt x="420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646" y="20200"/>
                </a:lnTo>
                <a:close/>
              </a:path>
              <a:path fill="lighten" w="420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046" h="21600">
                <a:moveTo>
                  <a:pt x="14017" y="10800"/>
                </a:moveTo>
                <a:lnTo>
                  <a:pt x="28030" y="3794"/>
                </a:lnTo>
                <a:lnTo>
                  <a:pt x="28030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Желтая дорожка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24000" y="1844640"/>
            <a:ext cx="8218440" cy="45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Как назывался журнал, которы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издавал А.С. Пушкин?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>
            <a:hlinkClick r:id="" action="ppaction://hlinkshowjump?jump=previousslide"/>
          </p:cNvPr>
          <p:cNvSpPr/>
          <p:nvPr/>
        </p:nvSpPr>
        <p:spPr>
          <a:xfrm>
            <a:off x="7740720" y="6021360"/>
            <a:ext cx="1403280" cy="720720"/>
          </a:xfrm>
          <a:custGeom>
            <a:avLst/>
            <a:gdLst>
              <a:gd name="textAreaLeft" fmla="*/ 46440 w 1403280"/>
              <a:gd name="textAreaRight" fmla="*/ 1356840 w 1403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42046" h="21600">
                <a:moveTo>
                  <a:pt x="0" y="0"/>
                </a:moveTo>
                <a:lnTo>
                  <a:pt x="42046" y="0"/>
                </a:lnTo>
                <a:lnTo>
                  <a:pt x="42046" y="21600"/>
                </a:lnTo>
                <a:lnTo>
                  <a:pt x="0" y="21600"/>
                </a:lnTo>
                <a:close/>
              </a:path>
              <a:path fill="lightenLess" w="42046" h="21600">
                <a:moveTo>
                  <a:pt x="0" y="0"/>
                </a:moveTo>
                <a:lnTo>
                  <a:pt x="42046" y="0"/>
                </a:lnTo>
                <a:lnTo>
                  <a:pt x="40646" y="1400"/>
                </a:lnTo>
                <a:lnTo>
                  <a:pt x="1400" y="1400"/>
                </a:lnTo>
                <a:close/>
              </a:path>
              <a:path fill="darken" w="42046" h="21600">
                <a:moveTo>
                  <a:pt x="42046" y="0"/>
                </a:moveTo>
                <a:lnTo>
                  <a:pt x="42046" y="21600"/>
                </a:lnTo>
                <a:lnTo>
                  <a:pt x="40646" y="20200"/>
                </a:lnTo>
                <a:lnTo>
                  <a:pt x="40646" y="1400"/>
                </a:lnTo>
                <a:close/>
              </a:path>
              <a:path fill="darkenLess" w="42046" h="21600">
                <a:moveTo>
                  <a:pt x="420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646" y="20200"/>
                </a:lnTo>
                <a:close/>
              </a:path>
              <a:path fill="lighten" w="420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046" h="21600">
                <a:moveTo>
                  <a:pt x="14017" y="10800"/>
                </a:moveTo>
                <a:lnTo>
                  <a:pt x="28030" y="3794"/>
                </a:lnTo>
                <a:lnTo>
                  <a:pt x="28030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5T13:44:13Z</dcterms:created>
  <dc:creator>Я</dc:creator>
  <dc:description/>
  <dc:language>en-US</dc:language>
  <cp:lastModifiedBy>Гость</cp:lastModifiedBy>
  <dcterms:modified xsi:type="dcterms:W3CDTF">2012-12-07T03:43:28Z</dcterms:modified>
  <cp:revision>28</cp:revision>
  <dc:subject/>
  <dc:title>Слайд 1</dc:title>
</cp:coreProperties>
</file>