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3BE-683E-4CA4-8C62-BEAAE6A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1BB-B6C5-40E7-BFEB-2B48EDDD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127-1E1B-46E0-9E39-E1C4998C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52A-6794-41B0-B180-1F24A465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59FC-6F25-4960-BD4F-EA85501B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E2E-CA13-4292-9D21-EDFC14EB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9C45-CCB6-4B42-A807-C8FA5EA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04F-4C94-41BE-8121-7E0B653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748D-398F-4EC8-85D2-08C4898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3C0B-2B6A-41D1-8094-2D6F860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F8FC-1283-4452-9902-1F83EBA7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DF0-0D29-4E3B-9747-711FD2BF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93CF-4E95-4CB9-91C3-DD39E23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DE4-6DDD-4E47-8486-EACCD92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F0D2-16ED-4CC9-A3E7-8884163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5EE-A8A7-4A91-B440-362193EA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396-FCC7-434D-96C9-8F7FC5C4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EBEB-23B7-4381-A032-0FFF48FB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2773-5322-44F1-9026-C5E3E9A0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71839-79C4-4424-AE16-95CAFC34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2559-9143-4B20-8CEA-A1C9E88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80BF-81DE-4390-8B32-39C290F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A0F-69B0-4185-89EC-B9692604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9808-F967-4960-B2AC-C8AA0D1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AF2C-DCA7-4645-98E4-3350F13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C3E1-4260-42DF-88AA-E67B12C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4312-3AF2-4FA0-B631-A26620DD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B7C94-66FE-43DE-A167-E554FE9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86F7-F59C-4A22-9AF9-B6039D7C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D91C-BE3A-40E1-AE3E-4EFAE01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5902-BEF0-497C-8597-1AF0D953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BB00-AD7E-40F2-A3E7-C1F3747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9A56-A9A3-45C1-8662-387326C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7EB-9F0B-4CD4-ABD3-6BAC658C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79C2-9D53-4246-B983-BE2B391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C2F2-996A-4957-BCF0-2E4B1F67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2168-C0C9-43D6-B51C-6305A960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B7A3-6878-4962-A73F-5F24E32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D013-1ECE-4613-B37E-3640F6B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3FE3-820B-4AB2-9854-169D37C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3E69-A89C-411A-890C-52ADF3D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F2A8-5EA4-47F7-B251-A5EE0F55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5BDF-24BB-432F-B555-AEF16D2B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4A793-ECF1-4320-9CD7-E001C890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16E-1F23-42CA-9F31-FCA9B11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5D7AD-F718-4CD0-AC73-30D56D0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5B66A-1229-4E8A-A5F3-A17A58DE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AB017-D267-4279-86A8-72D9116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FE2C1-3DBD-4294-8345-0EF5D883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85B1C-6DB7-4BDE-92E1-93AAA06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CE737-5EA4-49A7-8372-24454AB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F15B8-34AF-42D6-ABAB-1B0FCFA0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FFF58-D0BA-4A2E-BA81-F20A73A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E99F9-03E5-4081-A78D-228A0F3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8E66D-0107-44CB-A8E2-74F4599C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29C-4D00-47A7-BAC9-E4856723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E4A43-C442-4589-847F-6C2357AC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0175-4322-407B-9E0C-F53C48AE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ACF2A-03BC-401F-B42E-ED083CF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4ADA-E467-40A6-9E0C-94288AB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D247-8213-446B-A571-395664DD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9B57-DD31-4B0B-9E42-1042486B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D8FD-BA99-46D1-88E6-FE8162A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07E0-0A1D-47EE-9A6F-E26C99B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3B04-6B21-4107-9574-CCC2D4F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ED59-E531-490D-AD83-80DBE83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532-1C98-4F28-B505-E1902AC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AC870-5B55-4764-BB3F-160D7853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F9C4-3B12-43F1-A56B-F91030DD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92B6-0507-4086-8EB2-615F6DB8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42C24-C0A2-44B5-B592-C9CF034F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5A88-18CE-477D-BE5B-4E29A2C3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5A7A-3B5C-4F42-B5CB-BF6871B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CBDA-7103-408F-85D7-58D627A3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F73F-BD14-4FDB-AC71-C17F87D3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8F6D-EC74-4FBF-876C-9B69F6E9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04DF-0199-4321-84B1-F8A0176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9B2-7B06-4C5E-8906-17217BF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F4E9C-2153-4AE2-8E2D-D177C71C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22E1-796F-46F9-AF8F-4A51C2E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907A-1FC1-4256-BBF2-C57A400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1050-E46B-4172-926F-93F46854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C001-66CB-4002-87FD-31095F03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12B-14CA-467B-8718-CDDE1EC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47E-EF47-4BA4-ABD4-AC43523A8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2FF3-719C-4BC5-8104-A117B4B34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9E0-A582-43F0-B45E-EE0FF7A9AD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5D23-B384-498E-A896-5BC9EED6D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13AB-6B54-4E5E-9868-74F114A2C6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D918-E0FA-438D-AF91-98476DB202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FB8-3FEA-467B-BDA3-561B81D7F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88,9,&#1057;&#1083;&#1072;&#1081;&#1076; 9" TargetMode="External"/><Relationship Id="rId2" Type="http://schemas.openxmlformats.org/officeDocument/2006/relationships/hyperlink" Target="285,8,&#1057;&#1083;&#1072;&#1081;&#1076; 8" TargetMode="External"/><Relationship Id="rId3" Type="http://schemas.openxmlformats.org/officeDocument/2006/relationships/hyperlink" Target="284,7,&#1057;&#1083;&#1072;&#1081;&#1076; 7" TargetMode="External"/><Relationship Id="rId4" Type="http://schemas.openxmlformats.org/officeDocument/2006/relationships/hyperlink" Target="296,13,&#1057;&#1083;&#1072;&#1081;&#1076; 13" TargetMode="External"/><Relationship Id="rId5" Type="http://schemas.openxmlformats.org/officeDocument/2006/relationships/hyperlink" Target="293,12,&#1057;&#1083;&#1072;&#1081;&#1076; 12" TargetMode="External"/><Relationship Id="rId6" Type="http://schemas.openxmlformats.org/officeDocument/2006/relationships/hyperlink" Target="289,11,&#1057;&#1083;&#1072;&#1081;&#1076; 11" TargetMode="External"/><Relationship Id="rId7" Type="http://schemas.openxmlformats.org/officeDocument/2006/relationships/hyperlink" Target="290,10,&#1057;&#1083;&#1072;&#1081;&#1076; 10" TargetMode="External"/><Relationship Id="rId8" Type="http://schemas.openxmlformats.org/officeDocument/2006/relationships/hyperlink" Target="295,6,&#1050;&#1088;&#1072;&#1089;&#1085;&#1072;&#1103; &#1076;&#1086;&#1088;&#1086;&#1078;&#1082;&#1072;" TargetMode="External"/><Relationship Id="rId9" Type="http://schemas.openxmlformats.org/officeDocument/2006/relationships/hyperlink" Target="292,5,&#1050;&#1088;&#1072;&#1089;&#1085;&#1072;&#1103; &#1076;&#1086;&#1088;&#1086;&#1078;&#1082;&#1072;" TargetMode="External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1197000"/>
            <a:ext cx="8135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КИ   И   УМНИЦ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Великий русский князь, потомок князя Игоря, воин, удачливый полководец; его «щит на вратах Цареграда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то автор слов «Сказка – ложь, да в ней намек, добрым молодцам урок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то из русских художников иллюстрировал русские сказки?</a:t>
            </a:r>
            <a:br>
              <a:rPr sz="48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очерга – приспособление для перемешивания топлива в печи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.       Поставьте </a:t>
            </a:r>
            <a:br>
              <a:rPr sz="32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слово «кочерга» в форму множественного числа родительного падежа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ЕЛАЕМ ТВОРЧЕСКИХ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МИН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авьте пропущенные букв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..тно  све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..рдовая тка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..йзаж на картин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ст..лается ковр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чертить к..сательну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Юноша бре..т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ьные 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492360" y="1844640"/>
          <a:ext cx="2160720" cy="412920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2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3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227640" y="549360"/>
          <a:ext cx="2160720" cy="550044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4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826920" y="3284640"/>
          <a:ext cx="2160720" cy="275256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расная дорож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18 февраля 1831 года в Москве в церкви Большого Вознесения на Никитской состоялось венчание 32-лет- него А.С. Пушкина и 18-летней Натальи Гончаров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о словам очевидцев венчания, дважды во время торжественной церемонии Пушкин бледнел от страха. Что случилось на венчани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расная дорож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Образуйте форму множественного числа существительного «дно»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Какое местоимение является названием книги В. Маяковского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4000" y="184464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чем отличие глаголов НАДЕТЬ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ДЕТЬ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184464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Как назывался журнал, котор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здавал А.С. Пушкин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Гость</cp:lastModifiedBy>
  <dcterms:modified xsi:type="dcterms:W3CDTF">2012-12-07T03:43:28Z</dcterms:modified>
  <cp:revision>28</cp:revision>
  <dc:subject/>
  <dc:title>Слайд 1</dc:title>
</cp:coreProperties>
</file>