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2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70D-79A6-46E3-BBC6-1B2DC38F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1D1-7B21-4929-AF3E-68CBCED4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1DA-57BA-48A5-B3B7-5EBBDFD8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676-5CC6-43C0-AC25-BB1FF91D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322-8C2C-4258-B18C-250A090B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432-1A99-44BF-9AB2-E6A158EA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E69-121A-4E12-A09C-81022CE9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98B-86AD-46FD-BDF3-31815E9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900-B5FF-4FC4-9ECA-16F69E29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DB5-82E6-44A2-9D0B-46D04946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196-341A-4F19-861B-E2D099A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EFE-A550-4215-B8E7-800193B6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F7BE-852F-4F65-93EC-B8C9693C9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ЮЖЕТ И СОДЕРЖА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 карти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060640"/>
            <a:ext cx="57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Урок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четв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465600">
            <a:off x="4140360" y="3141720"/>
            <a:ext cx="43192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итель Резакова А. 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клинская шко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755640" y="2421000"/>
            <a:ext cx="763272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64674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Лактионов «Письмо с фрон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4633920" cy="612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8354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60" y="5229360"/>
            <a:ext cx="41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Ян Вермеер «Девушка с письм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08720" y="59500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Репин  «Запорож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912000" cy="5357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84720" y="609300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Федотов «Сватовство май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4710240" cy="6093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63640" y="64911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укирев «Неравный бр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0464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11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17080" cy="5637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67280" y="6165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етров –Водкин «Смерть комисса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2932200" cy="4437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84720" y="260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74200" y="4076640"/>
            <a:ext cx="366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тров –Водкин «Смерть комисса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260280"/>
            <a:ext cx="510552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19640" y="61657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Решетников «Опять двой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95640" y="6165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етров- Водкин «Трево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4546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3873600" cy="498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2055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Тема урока:</a:t>
            </a: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ЮЖЕТ И СОДЕРЖАНИЕ 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в картин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СЮЖ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о предмет изображения в изобразительном искус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0720" y="233208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СОДЕРЖАНИ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единство всех элементов целого, выражаемое  в форме и неотделимое от неё 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133720"/>
            <a:ext cx="0" cy="431964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889520" cy="652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1280" y="47628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762280" cy="3686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2879640" cy="322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132000" y="4941720"/>
            <a:ext cx="34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00"/>
                </a:solidFill>
                <a:latin typeface="Arial"/>
              </a:rPr>
              <a:t>Петров- Водкин «Тревога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6165720"/>
            <a:ext cx="34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0360" y="6093000"/>
            <a:ext cx="41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00"/>
                </a:solidFill>
                <a:latin typeface="Arial"/>
              </a:rPr>
              <a:t>Решетников «Опять двой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2587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 rot="1360200">
            <a:off x="4284720" y="2708280"/>
            <a:ext cx="431964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ителя Резаковой А. 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клинская шко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616200" cy="439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356000" y="29145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КАК ПОЯВЛЯ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ЮЖ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35280" y="2708280"/>
            <a:ext cx="5472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ЮЖЕ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535640" cy="385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164360" y="2349360"/>
            <a:ext cx="1295280" cy="393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0891400">
            <a:off x="6658920" y="1268280"/>
            <a:ext cx="19080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ИДЕ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757600">
            <a:off x="539640" y="501300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Увиде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8000" y="4869000"/>
            <a:ext cx="1800360" cy="12967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593800">
            <a:off x="5940360" y="2421000"/>
            <a:ext cx="2879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2336760" cy="298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35280" y="119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ТЕМ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48000" y="2349360"/>
            <a:ext cx="3495600" cy="308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20288400">
            <a:off x="4572000" y="2707920"/>
            <a:ext cx="162864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9440" y="1125360"/>
            <a:ext cx="33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СЮЖЕТ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866920" y="1628640"/>
            <a:ext cx="863640" cy="1224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336760" cy="298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4000" y="1484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ТЕМ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4172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500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Объект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из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3500280"/>
            <a:ext cx="20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2038320" cy="252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72360" y="2637000"/>
            <a:ext cx="2346120" cy="3284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43640" y="1413000"/>
            <a:ext cx="27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Arial"/>
              </a:rPr>
              <a:t>Жан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60102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уд. А. А. Резак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832280" cy="597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360" y="64911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3840" y="6524640"/>
            <a:ext cx="24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4911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Ян Вермеер «Молоч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76720" y="260280"/>
            <a:ext cx="38671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06880" y="515772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ластов «Ужин трактори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4591080" cy="59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48000" y="616572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Серебрякова «Крестья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04640"/>
            <a:ext cx="37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2320" y="260280"/>
            <a:ext cx="3611520" cy="446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268960" y="494172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ластов «Ужин трактори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7:46:24Z</dcterms:created>
  <dc:creator>IVAN DYRAK</dc:creator>
  <dc:description/>
  <dc:language>en-US</dc:language>
  <cp:lastModifiedBy>дикий КОТ</cp:lastModifiedBy>
  <dcterms:modified xsi:type="dcterms:W3CDTF">2011-12-07T11:07:54Z</dcterms:modified>
  <cp:revision>73</cp:revision>
  <dc:subject/>
  <dc:title>Слайд 1</dc:title>
</cp:coreProperties>
</file>