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4.wmf" ContentType="image/x-wmf"/>
  <Override PartName="/ppt/media/image18.jpeg" ContentType="image/jpeg"/>
  <Override PartName="/ppt/media/image3.gif" ContentType="image/gif"/>
  <Override PartName="/ppt/media/image17.jpeg" ContentType="image/jpeg"/>
  <Override PartName="/ppt/media/image14.jpeg" ContentType="image/jpeg"/>
  <Override PartName="/ppt/media/image2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304A-54D3-418A-8A39-01C515FAD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4D5F-2BFE-4E32-89E3-FDB21A4A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0BB6-CD92-4654-A9C5-C7EBF9066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3BEF-FB5F-4AB9-9EF6-0A7577FBC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4DEF-2CD0-4601-919C-C9381726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6D6A-07BC-488D-952F-DED2A763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0B91-568C-47DD-BB1D-DDA3539B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4B04-BE66-49DF-A0B7-6C3B58B3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8BAA-1954-4103-8C03-EDB8EF0C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A78F-C4AA-46EA-9651-694A0C33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C416-E4BB-43F7-837D-A5C93836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47DA-2744-4DDA-B235-1F76E03B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5E43-6AB8-48AC-BD6B-7BA2417F1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76280"/>
            <a:ext cx="61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СЮЖЕТ И СОДЕРЖАНИ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 картин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2060640"/>
            <a:ext cx="576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Урок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четвер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21465600">
            <a:off x="4140360" y="3141720"/>
            <a:ext cx="4319280" cy="31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читель Резакова А. 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клинская шко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755640" y="2421000"/>
            <a:ext cx="7632720" cy="316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0" y="646740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Лактионов «Письмо с фрон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284720" y="260280"/>
            <a:ext cx="4633920" cy="6121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3835440" cy="4896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960" y="5229360"/>
            <a:ext cx="41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Ян Вермеер «Девушка с письмо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508720" y="595008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Репин  «Запорожц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258920" y="620640"/>
            <a:ext cx="6912000" cy="5357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284720" y="609300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Федотов «Сватовство майо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4710240" cy="6093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763640" y="64911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Пукирев «Неравный бра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404640"/>
            <a:ext cx="280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43117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417080" cy="5637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067280" y="616572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Петров –Водкин «Смерть комисса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2932200" cy="4437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284720" y="260280"/>
            <a:ext cx="4464000" cy="3392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074200" y="4076640"/>
            <a:ext cx="366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Петров –Водкин «Смерть комиссар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708360" y="260280"/>
            <a:ext cx="5105520" cy="5715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419640" y="6165720"/>
            <a:ext cx="46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Решетников «Опять двой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95640" y="616572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Петров- Водкин «Тревог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916360" y="189000"/>
            <a:ext cx="454644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003640" y="333360"/>
            <a:ext cx="3873600" cy="4981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42055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Тема урока:</a:t>
            </a:r>
            <a:br>
              <a:rPr sz="24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СЮЖЕТ И СОДЕРЖАНИЕ </a:t>
            </a:r>
            <a:br>
              <a:rPr sz="40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в картин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424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СЮЖ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это предмет изображения в изобразительном искусст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00720" y="2332080"/>
            <a:ext cx="417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СОДЕРЖАНИЕ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единство всех элементов целого, выражаемое  в форме и неотделимое от неё .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56000" y="2133720"/>
            <a:ext cx="0" cy="431964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889520" cy="6524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11280" y="476280"/>
            <a:ext cx="34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762280" cy="3686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940360" y="2852640"/>
            <a:ext cx="2879640" cy="3222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132000" y="4941720"/>
            <a:ext cx="345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00"/>
                </a:solidFill>
                <a:latin typeface="Arial"/>
              </a:rPr>
              <a:t>Петров- Водкин «Тревога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51640" y="6165720"/>
            <a:ext cx="34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940360" y="6093000"/>
            <a:ext cx="4176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00"/>
                </a:solidFill>
                <a:latin typeface="Arial"/>
              </a:rPr>
              <a:t>Решетников «Опять двой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132000" y="1557360"/>
            <a:ext cx="258768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 rot="1360200">
            <a:off x="4284720" y="2708280"/>
            <a:ext cx="4319640" cy="31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чителя Резаковой А. 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клинская шко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3616200" cy="4392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356000" y="29145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КАК ПОЯВЛЯЕ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ЮЖ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835280" y="2708280"/>
            <a:ext cx="547200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ЮЖЕТ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68360" y="549360"/>
            <a:ext cx="4535640" cy="3854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164360" y="2349360"/>
            <a:ext cx="1295280" cy="3934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20891400">
            <a:off x="6658920" y="1268280"/>
            <a:ext cx="19080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ИДЕЯ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0757600">
            <a:off x="539640" y="5013000"/>
            <a:ext cx="246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Увиде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908000" y="4869000"/>
            <a:ext cx="1800360" cy="129672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0593800">
            <a:off x="5940360" y="2421000"/>
            <a:ext cx="2879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564000" y="1989000"/>
            <a:ext cx="2336760" cy="2989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635280" y="119700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Arial"/>
              </a:rPr>
              <a:t>ТЕМ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48000" y="2349360"/>
            <a:ext cx="3495600" cy="3086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 rot="20288400">
            <a:off x="4572000" y="2707920"/>
            <a:ext cx="1628640" cy="1800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349440" y="1125360"/>
            <a:ext cx="333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СЮЖЕТ-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5866920" y="1628640"/>
            <a:ext cx="863640" cy="12240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76720" y="2349360"/>
            <a:ext cx="2336760" cy="2989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64000" y="148428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Arial"/>
              </a:rPr>
              <a:t>ТЕМ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3141720"/>
            <a:ext cx="165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765000"/>
            <a:ext cx="5545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Объект 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изобра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3500280"/>
            <a:ext cx="208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79280" y="2637000"/>
            <a:ext cx="2038320" cy="2520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372360" y="2637000"/>
            <a:ext cx="2346120" cy="3284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443640" y="1413000"/>
            <a:ext cx="27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Жан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16720" y="60102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уд. А. А. Резак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832280" cy="5977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140360" y="6491160"/>
            <a:ext cx="25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03840" y="6524640"/>
            <a:ext cx="243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19280" y="649116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3300"/>
                </a:solidFill>
                <a:latin typeface="Arial"/>
              </a:rPr>
              <a:t>Ян Вермеер «Молочниц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076720" y="260280"/>
            <a:ext cx="3867120" cy="4780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006880" y="5157720"/>
            <a:ext cx="38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Пластов «Ужин тракторис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4591080" cy="5977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348000" y="6165720"/>
            <a:ext cx="32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6308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Серебрякова «Крестьян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35640" y="404640"/>
            <a:ext cx="37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332320" y="260280"/>
            <a:ext cx="3611520" cy="4464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268960" y="4941720"/>
            <a:ext cx="38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Пластов «Ужин тракторис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30T17:46:24Z</dcterms:created>
  <dc:creator>IVAN DYRAK</dc:creator>
  <dc:description/>
  <dc:language>en-US</dc:language>
  <cp:lastModifiedBy>дикий КОТ</cp:lastModifiedBy>
  <dcterms:modified xsi:type="dcterms:W3CDTF">2011-12-07T11:07:54Z</dcterms:modified>
  <cp:revision>73</cp:revision>
  <dc:subject/>
  <dc:title>Слайд 1</dc:title>
</cp:coreProperties>
</file>