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5716-4073-44EC-92D5-1F600C7E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637-AFA6-4BDE-B3F7-9D993173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9784-2C84-4C6F-90EB-48B78806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18D2-E2A5-479A-BACD-9C7DD37B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2939-46CB-42E5-B007-D8A41F12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F706-71F0-43EF-AE46-D67183EE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425E-2689-46E2-BDF5-DE87713B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827A-3A2C-4545-BE13-501B3665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87FC-4529-416F-92EA-901327F9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1EF7-E8A7-432A-95DA-ECF84188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D58-15EB-4C97-9A8B-8B007CA3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6768-50B3-4AEF-BABE-A8DEA60E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98DA-E69D-40D8-92B0-A80EDEC1C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54936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крыть иконопись на примере творчества Феофана Грека, Рублёва, Диони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дачи: познакомить с искусством Феофана Грека, Рублёва, Диони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здать условия для восприятия особенностей творчества этих иконопис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здать ситуацию для осознанного восприятия значения иконы в жизни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71480" y="2986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155700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образительное искусство  Древней Рус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примере иконопис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ца XIV - начало XVI в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9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евняя Ру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ец XIV - начало XVI в. Взлет иконописного искус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офан Грек. Андрей Рублев. Дионисий - великие иконописцы тог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Феофан Гре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около 1340 – после 1405 г. г.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зантийский иконописе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мастер монументальных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ресок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был в Новгород в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70-е годы 14 ве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.Был  воплощением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зантийской культуры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одной стороны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евание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емной красо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 Божественного творения, с другой,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стремление к духовной аскез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твергающей внешнее, эффектное, красив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XIV - начало XV в. жил на Руси монах, гениальный живописец,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Андрей Рублё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1360 – 1430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н заложил основу московской художественной школы, характеризующейся глубокой человеч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традиции в конце XV века продолжил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Дионис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оло 1440 года - 1503 года). Лики его святых - это образы `ангелов среди людей' и `человеков среди ангелов'. Для Дионисия человеческая жизнь- это путь духовного совершенствования, или `сооружения души'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70240" cy="5211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2487600" cy="3240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5490360"/>
            <a:ext cx="378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Феофан Гр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кона «Богоматерь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392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923160" y="189000"/>
            <a:ext cx="1969920" cy="5832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35640" y="6021360"/>
            <a:ext cx="3708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дрей Рублё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Богоматер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276720" y="3573360"/>
            <a:ext cx="2836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14960" y="189000"/>
            <a:ext cx="4684680" cy="5111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300720" y="602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дрей Рублё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гоматерь. 14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979800" cy="518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6021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еофан Грек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кона «Богоматерь»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39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2916000" cy="6408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6521040"/>
            <a:ext cx="57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Феофан Грек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кона «Богоматерь»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392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659640" y="115920"/>
            <a:ext cx="2181240" cy="645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35640" y="6505560"/>
            <a:ext cx="3889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дрей Рублё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Богоматерь .14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489200" cy="6356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435640" y="260280"/>
            <a:ext cx="34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05520" y="189000"/>
            <a:ext cx="3800520" cy="6335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845080" y="649116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еофан Грек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22520" y="649116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дрей Рублё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13120" y="260280"/>
            <a:ext cx="5081760" cy="6193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652720" y="6461280"/>
            <a:ext cx="33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ублёв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«Троица»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420-е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8900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60280"/>
            <a:ext cx="3564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4437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4936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39384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357336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333360"/>
            <a:ext cx="338472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вый ангел, символ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га Отц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Дом – его творящая в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гел в центре символизиру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ри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уб мамврийский как древо жизни - напоминание о смерти Спасителя и Его воскресении. Третья ипостасия Троицы —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ух Свят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а — символ духовного восхож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ша – символ страдания Хри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ральный ангел благослаляет чашу- жертвы, принесённой им ради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227640" y="0"/>
            <a:ext cx="24768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843280" y="4724280"/>
            <a:ext cx="309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онис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игорий Богос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к. 1502, Санкт-Петербург, Русский музей) Образ несгибаемого 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484360" y="0"/>
            <a:ext cx="266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ятитель Григорий Богослов  Андрей Рублев, Даниил Черный и мастерская Московская школа 1408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63817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56000" y="249228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3:47:43Z</dcterms:created>
  <dc:creator>дикий КОТ</dc:creator>
  <dc:description/>
  <dc:language>en-US</dc:language>
  <cp:lastModifiedBy>дикий КОТ</cp:lastModifiedBy>
  <dcterms:modified xsi:type="dcterms:W3CDTF">2013-04-05T13:15:12Z</dcterms:modified>
  <cp:revision>95</cp:revision>
  <dc:subject/>
  <dc:title>Слайд 1</dc:title>
</cp:coreProperties>
</file>