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43F-7F3A-4660-B6AB-C69EB4FC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ECA-DC57-4732-8833-DCA28969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3B2-0C40-4D06-8558-BDFFE144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7F8-667E-418A-B5BD-5ED2640C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293-8634-414C-B171-8836ADA3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01E-F2A0-448F-8F93-754EBC2C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EF0-F73F-43BE-9613-9596738B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266-CC30-4655-BB20-80B1FEF9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DE1-1DA7-4F2C-B95E-85C3BB8E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1CF-A540-4B38-819A-EA960F7A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198-2F15-44AB-B4BB-EE50C632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7BC-1C9D-4D01-B595-A43C43A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BAFF-49B2-4A80-A167-6F1C5AF19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54936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крыть иконопись на примере творчества Феофана Грека, Рублёва, Диони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дачи: познакомить с искусством Феофана Грека, Рублёва, Диони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здать условия для восприятия особенностей творчества этих иконопис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здать ситуацию для осознанного восприятия значения иконы в жизн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1480" y="2986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образительное искусство  Древней Рус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примере иконопис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ца XIV - начало XVI 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9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яя Ру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XIV - начало XVI в. Взлет иконописного искус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офан Грек. Андрей Рублев. Дионисий - великие иконописцы то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Феофан Гре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около 1340 – после 1405 г. г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зантийский иконопис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астер монументальны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ресо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был в Новгород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0-е годы 14 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Был  воплощени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зантийской культур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одной стороны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евани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емной крас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 Божественного творения, с другой,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стремление к духовной аскез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вергающей внешнее, эффектное, красив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XIV - начало XV в. жил на Руси монах, гениальный живописец,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Андрей Рублё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1360 – 1430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 заложил основу московской художественной школы, характеризующейся глубокой человеч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радиции в конце XV века продолжил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Дионис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оло 1440 года - 1503 года). Лики его святых - это образы `ангелов среди людей' и `человеков среди ангелов'. Для Дионисия человеческая жизнь- это путь духовного совершенствования, или `сооружения души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70240" cy="5211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2487600" cy="324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490360"/>
            <a:ext cx="37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Феофан Г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кона «Богоматер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39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923160" y="189000"/>
            <a:ext cx="1969920" cy="5832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35640" y="6021360"/>
            <a:ext cx="3708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дрей Рублё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Богоматер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76720" y="3573360"/>
            <a:ext cx="2836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14960" y="189000"/>
            <a:ext cx="4684680" cy="511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30072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дрей Рублё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гоматерь. 14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979800" cy="518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602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еофан Гре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кона «Богоматерь»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3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916000" cy="6408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52104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Феофан Грек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кона «Богоматерь»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39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59640" y="115920"/>
            <a:ext cx="2181240" cy="645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35640" y="6505560"/>
            <a:ext cx="388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дрей Рублё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Богоматерь .14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489200" cy="6356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35640" y="26028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05520" y="189000"/>
            <a:ext cx="3800520" cy="6335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45080" y="649116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офан Гре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2520" y="649116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дрей Рубл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13120" y="260280"/>
            <a:ext cx="5081760" cy="6193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52720" y="6461280"/>
            <a:ext cx="33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ублё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«Троица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20-е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900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60280"/>
            <a:ext cx="356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437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4936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9384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573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33360"/>
            <a:ext cx="338472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ый ангел, симво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га Отц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Дом – его творящая в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гел в центре символизиру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р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 мамврийский как древо жизни - напоминание о смерти Спасителя и Его воскресении. Третья ипостасия Троицы 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 Свя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а — символ духовного восхо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ша – символ страдания Х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ральный ангел благослаляет чашу- жертвы, принесённой им рад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4768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43280" y="472428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онис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игорий Богос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. 1502, Санкт-Петербург, Русский музей) Образ несгибаемого 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484360" y="0"/>
            <a:ext cx="26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ятитель Григорий Богослов  Андрей Рублев, Даниил Черный и мастерская Московская школа 1408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6381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56000" y="24922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3:47:43Z</dcterms:created>
  <dc:creator>дикий КОТ</dc:creator>
  <dc:description/>
  <dc:language>en-US</dc:language>
  <cp:lastModifiedBy>дикий КОТ</cp:lastModifiedBy>
  <dcterms:modified xsi:type="dcterms:W3CDTF">2013-04-05T13:15:12Z</dcterms:modified>
  <cp:revision>95</cp:revision>
  <dc:subject/>
  <dc:title>Слайд 1</dc:title>
</cp:coreProperties>
</file>