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181-ED81-434B-BDC3-651B1C9C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EFE-3DC3-412A-9B2C-47E0BF49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466-55CC-45C3-82DA-21A2CF6E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A01-224F-46D7-B270-A41AF017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F6E-F98A-4805-8E28-E7A0DC34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1E1-1410-45C5-870D-15050167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0CB-3CA0-4E7F-817D-8E3E0090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8A1-A303-438E-95B8-65C6C4CB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DDC-40EF-4ACB-8971-B5C79A9C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1F5-118A-41BD-9DBD-A34562A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EBF-9069-4E19-B923-29303C13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EA5-A03C-4196-8915-CD1E1D31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0C65-692C-4D61-95AE-D2A69D65A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1494000" y="2077920"/>
            <a:ext cx="6443640" cy="20131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928800" y="285840"/>
            <a:ext cx="72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автономное общеобразовательное 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 №1   пгт Серыше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ни Сергея Бондарева Аму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4206960" y="5205240"/>
            <a:ext cx="468144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1382040" y="14292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3960" y="928800"/>
            <a:ext cx="81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но заполнить пустые клетки так, чт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лова с мягким знаком в сере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42960" y="2071800"/>
          <a:ext cx="7929720" cy="364320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0840"/>
                <a:gridCol w="1322280"/>
                <a:gridCol w="1322640"/>
                <a:gridCol w="132084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28760" y="1071720"/>
            <a:ext cx="80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но заполнить пустые клетки так, чт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лова с мягким знаком в сере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28760" y="2357280"/>
          <a:ext cx="8429400" cy="3714840"/>
        </p:xfrm>
        <a:graphic>
          <a:graphicData uri="http://schemas.openxmlformats.org/drawingml/2006/table">
            <a:tbl>
              <a:tblPr/>
              <a:tblGrid>
                <a:gridCol w="1404720"/>
                <a:gridCol w="1405080"/>
                <a:gridCol w="1404720"/>
                <a:gridCol w="1405080"/>
                <a:gridCol w="1405080"/>
                <a:gridCol w="140472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214720" y="642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928800" y="21430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тенькова Н.М., Фонин Д.С. Конкурс грамотеев: Дидактические игры и занимательные упражнения по русскому языку для учащихся начальной школы: Книга для учителя.- М: Просвещение: АО «Учебная литература», 199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1285920" y="21420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Таблица 3" descr=""/>
          <p:cNvPicPr/>
          <p:nvPr/>
        </p:nvPicPr>
        <p:blipFill>
          <a:blip r:embed="rId1"/>
          <a:stretch/>
        </p:blipFill>
        <p:spPr>
          <a:xfrm>
            <a:off x="639720" y="2548080"/>
            <a:ext cx="7864560" cy="3524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714240" y="107172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олните клетки буквами так, чтобы получились существительные 2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1643040" y="21420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Таблица 3" descr=""/>
          <p:cNvPicPr/>
          <p:nvPr/>
        </p:nvPicPr>
        <p:blipFill>
          <a:blip r:embed="rId1"/>
          <a:stretch/>
        </p:blipFill>
        <p:spPr>
          <a:xfrm>
            <a:off x="566640" y="1835280"/>
            <a:ext cx="836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85880" y="2286000"/>
          <a:ext cx="7786800" cy="3929040"/>
        </p:xfrm>
        <a:graphic>
          <a:graphicData uri="http://schemas.openxmlformats.org/drawingml/2006/table">
            <a:tbl>
              <a:tblPr/>
              <a:tblGrid>
                <a:gridCol w="1297080"/>
                <a:gridCol w="1298520"/>
                <a:gridCol w="1296720"/>
                <a:gridCol w="1298880"/>
                <a:gridCol w="1298520"/>
                <a:gridCol w="129708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50" name="Прямоугольник 5"/>
          <p:cNvSpPr/>
          <p:nvPr/>
        </p:nvSpPr>
        <p:spPr>
          <a:xfrm>
            <a:off x="1667880" y="28584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олните клетки буквами так, чтоб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уществительные 2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14240" y="1714680"/>
          <a:ext cx="7667640" cy="4214520"/>
        </p:xfrm>
        <a:graphic>
          <a:graphicData uri="http://schemas.openxmlformats.org/drawingml/2006/table">
            <a:tbl>
              <a:tblPr/>
              <a:tblGrid>
                <a:gridCol w="1278000"/>
                <a:gridCol w="1278000"/>
                <a:gridCol w="1278000"/>
                <a:gridCol w="1278000"/>
                <a:gridCol w="1278000"/>
                <a:gridCol w="1277640"/>
              </a:tblGrid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  <p:sp>
        <p:nvSpPr>
          <p:cNvPr id="53" name="Прямоугольник 2"/>
          <p:cNvSpPr/>
          <p:nvPr/>
        </p:nvSpPr>
        <p:spPr>
          <a:xfrm>
            <a:off x="1810800" y="42876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85880" y="2071800"/>
          <a:ext cx="7643880" cy="4286160"/>
        </p:xfrm>
        <a:graphic>
          <a:graphicData uri="http://schemas.openxmlformats.org/drawingml/2006/table">
            <a:tbl>
              <a:tblPr/>
              <a:tblGrid>
                <a:gridCol w="1272960"/>
                <a:gridCol w="1274760"/>
                <a:gridCol w="1273320"/>
                <a:gridCol w="1274760"/>
                <a:gridCol w="1274760"/>
                <a:gridCol w="127332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56" name="Прямоугольник 5"/>
          <p:cNvSpPr/>
          <p:nvPr/>
        </p:nvSpPr>
        <p:spPr>
          <a:xfrm>
            <a:off x="857160" y="9288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олните клетки буквами так, чтобы получились существительные 2 скло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42960" y="1143000"/>
          <a:ext cx="7929720" cy="5286240"/>
        </p:xfrm>
        <a:graphic>
          <a:graphicData uri="http://schemas.openxmlformats.org/drawingml/2006/table">
            <a:tbl>
              <a:tblPr/>
              <a:tblGrid>
                <a:gridCol w="1320840"/>
                <a:gridCol w="1322280"/>
                <a:gridCol w="1322280"/>
                <a:gridCol w="1320840"/>
                <a:gridCol w="1322640"/>
                <a:gridCol w="1320840"/>
              </a:tblGrid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53960" y="928800"/>
            <a:ext cx="81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но заполнить пустые клетки так, чт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лова с мягким знаком в сере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00040" y="2286000"/>
          <a:ext cx="8215200" cy="3786120"/>
        </p:xfrm>
        <a:graphic>
          <a:graphicData uri="http://schemas.openxmlformats.org/drawingml/2006/table">
            <a:tbl>
              <a:tblPr/>
              <a:tblGrid>
                <a:gridCol w="1368360"/>
                <a:gridCol w="1370160"/>
                <a:gridCol w="1368360"/>
                <a:gridCol w="1370160"/>
                <a:gridCol w="1369800"/>
                <a:gridCol w="136836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953720" y="214200"/>
            <a:ext cx="61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квадр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53960" y="928800"/>
            <a:ext cx="80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но заполнить пустые клетки так, чт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учились слова с мягким знаком в сере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71680" y="2214720"/>
          <a:ext cx="8001000" cy="314316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440"/>
                <a:gridCol w="1333440"/>
                <a:gridCol w="1333440"/>
                <a:gridCol w="133380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11:56:19Z</dcterms:created>
  <dc:creator>Admin</dc:creator>
  <dc:description/>
  <dc:language>en-US</dc:language>
  <cp:lastModifiedBy>Admin</cp:lastModifiedBy>
  <dcterms:modified xsi:type="dcterms:W3CDTF">2013-04-05T09:23:18Z</dcterms:modified>
  <cp:revision>9</cp:revision>
  <dc:subject/>
  <dc:title>Слайд 1</dc:title>
</cp:coreProperties>
</file>