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0BBD-7D30-495A-8AC7-895FE2709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F970-F92D-49D4-8777-A14009581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98C1-00C8-4775-977E-BF40EEC42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9F41-9769-4B75-A9C5-76CE88BBD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09E5-57DE-48E1-B473-0C4451FB0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A751-5638-469F-A3CC-7A8693178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9192-E2D0-4660-9B4F-B3140E0E2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7864-30DF-4297-8065-E9B31EDA3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D0E0-BD99-4104-9782-22A4DB9F2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C76B-95A9-4698-AE26-E72DC6E9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F810-CDDF-407F-AA40-CB4ACB3E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1FBE-4487-43FD-A849-BA5F432F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45368-9208-4918-8E0B-81AAE12FE4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4" descr=""/>
          <p:cNvPicPr/>
          <p:nvPr/>
        </p:nvPicPr>
        <p:blipFill>
          <a:blip r:embed="rId1"/>
          <a:stretch/>
        </p:blipFill>
        <p:spPr>
          <a:xfrm>
            <a:off x="1494000" y="2077920"/>
            <a:ext cx="6443640" cy="201312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2"/>
          <p:cNvSpPr/>
          <p:nvPr/>
        </p:nvSpPr>
        <p:spPr>
          <a:xfrm>
            <a:off x="928800" y="285840"/>
            <a:ext cx="728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униципальное автономное общеобразовательное  учрежд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редняя общеобразовательная школа №1   пгт Серышев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мени Сергея Бондарева Амурской обла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Прямоугольник 3" descr=""/>
          <p:cNvPicPr/>
          <p:nvPr/>
        </p:nvPicPr>
        <p:blipFill>
          <a:blip r:embed="rId2"/>
          <a:stretch/>
        </p:blipFill>
        <p:spPr>
          <a:xfrm>
            <a:off x="4206960" y="5205240"/>
            <a:ext cx="4681440" cy="11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3"/>
          <p:cNvSpPr/>
          <p:nvPr/>
        </p:nvSpPr>
        <p:spPr>
          <a:xfrm>
            <a:off x="1382040" y="142920"/>
            <a:ext cx="616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  <a:ea typeface="Arial"/>
              </a:rPr>
              <a:t>Занимательные квадра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453960" y="928800"/>
            <a:ext cx="819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ужно заполнить пустые клетки так, чтоб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лучились слова с мягким знаком в середи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42960" y="2071800"/>
          <a:ext cx="7929720" cy="3643200"/>
        </p:xfrm>
        <a:graphic>
          <a:graphicData uri="http://schemas.openxmlformats.org/drawingml/2006/table">
            <a:tbl>
              <a:tblPr/>
              <a:tblGrid>
                <a:gridCol w="1320840"/>
                <a:gridCol w="1322280"/>
                <a:gridCol w="1320840"/>
                <a:gridCol w="1322280"/>
                <a:gridCol w="1322640"/>
                <a:gridCol w="1320840"/>
              </a:tblGrid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</a:tr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</a:tr>
              <a:tr h="90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</a:tr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3"/>
          <p:cNvSpPr/>
          <p:nvPr/>
        </p:nvSpPr>
        <p:spPr>
          <a:xfrm>
            <a:off x="1953720" y="214200"/>
            <a:ext cx="616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  <a:ea typeface="Arial"/>
              </a:rPr>
              <a:t>Занимательные квадра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428760" y="1071720"/>
            <a:ext cx="804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ужно заполнить пустые клетки так, чтоб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лучились слова с мягким знаком в середи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28760" y="2357280"/>
          <a:ext cx="8429400" cy="3714840"/>
        </p:xfrm>
        <a:graphic>
          <a:graphicData uri="http://schemas.openxmlformats.org/drawingml/2006/table">
            <a:tbl>
              <a:tblPr/>
              <a:tblGrid>
                <a:gridCol w="1404720"/>
                <a:gridCol w="1405080"/>
                <a:gridCol w="1404720"/>
                <a:gridCol w="1405080"/>
                <a:gridCol w="1405080"/>
                <a:gridCol w="1404720"/>
              </a:tblGrid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</a:tr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</a:tr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</a:tr>
              <a:tr h="92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3"/>
          <p:cNvSpPr/>
          <p:nvPr/>
        </p:nvSpPr>
        <p:spPr>
          <a:xfrm>
            <a:off x="2214720" y="642960"/>
            <a:ext cx="54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0253f"/>
                </a:solidFill>
                <a:latin typeface="Calibri"/>
              </a:rPr>
              <a:t>Список литератур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4"/>
          <p:cNvSpPr/>
          <p:nvPr/>
        </p:nvSpPr>
        <p:spPr>
          <a:xfrm>
            <a:off x="928800" y="214308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етенькова Н.М., Фонин Д.С. Конкурс грамотеев: Дидактические игры и занимательные упражнения по русскому языку для учащихся начальной школы: Книга для учителя.- М: Просвещение: АО «Учебная литература», 199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4"/>
          <p:cNvSpPr/>
          <p:nvPr/>
        </p:nvSpPr>
        <p:spPr>
          <a:xfrm>
            <a:off x="1285920" y="214200"/>
            <a:ext cx="66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  <a:ea typeface="Arial"/>
              </a:rPr>
              <a:t>Занимательные квадра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Таблица 3" descr=""/>
          <p:cNvPicPr/>
          <p:nvPr/>
        </p:nvPicPr>
        <p:blipFill>
          <a:blip r:embed="rId1"/>
          <a:stretch/>
        </p:blipFill>
        <p:spPr>
          <a:xfrm>
            <a:off x="639720" y="2548080"/>
            <a:ext cx="7864560" cy="3524040"/>
          </a:xfrm>
          <a:prstGeom prst="rect">
            <a:avLst/>
          </a:prstGeom>
          <a:ln w="0">
            <a:noFill/>
          </a:ln>
        </p:spPr>
      </p:pic>
      <p:sp>
        <p:nvSpPr>
          <p:cNvPr id="46" name="TextBox 5"/>
          <p:cNvSpPr/>
          <p:nvPr/>
        </p:nvSpPr>
        <p:spPr>
          <a:xfrm>
            <a:off x="714240" y="1071720"/>
            <a:ext cx="771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аполните клетки буквами так, чтобы получились существительные 2 склон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4"/>
          <p:cNvSpPr/>
          <p:nvPr/>
        </p:nvSpPr>
        <p:spPr>
          <a:xfrm>
            <a:off x="1643040" y="214200"/>
            <a:ext cx="635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  <a:ea typeface="Arial"/>
              </a:rPr>
              <a:t>Занимательные квадраты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Таблица 3" descr=""/>
          <p:cNvPicPr/>
          <p:nvPr/>
        </p:nvPicPr>
        <p:blipFill>
          <a:blip r:embed="rId1"/>
          <a:stretch/>
        </p:blipFill>
        <p:spPr>
          <a:xfrm>
            <a:off x="566640" y="1835280"/>
            <a:ext cx="83646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85880" y="2286000"/>
          <a:ext cx="7786800" cy="3929040"/>
        </p:xfrm>
        <a:graphic>
          <a:graphicData uri="http://schemas.openxmlformats.org/drawingml/2006/table">
            <a:tbl>
              <a:tblPr/>
              <a:tblGrid>
                <a:gridCol w="1297080"/>
                <a:gridCol w="1298520"/>
                <a:gridCol w="1296720"/>
                <a:gridCol w="1298880"/>
                <a:gridCol w="1298520"/>
                <a:gridCol w="1297080"/>
              </a:tblGrid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78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</a:tbl>
          </a:graphicData>
        </a:graphic>
      </p:graphicFrame>
      <p:sp>
        <p:nvSpPr>
          <p:cNvPr id="50" name="Прямоугольник 5"/>
          <p:cNvSpPr/>
          <p:nvPr/>
        </p:nvSpPr>
        <p:spPr>
          <a:xfrm>
            <a:off x="1667880" y="285840"/>
            <a:ext cx="616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  <a:ea typeface="Arial"/>
              </a:rPr>
              <a:t>Занимательные квадра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6"/>
          <p:cNvSpPr/>
          <p:nvPr/>
        </p:nvSpPr>
        <p:spPr>
          <a:xfrm>
            <a:off x="642960" y="100008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аполните клетки буквами так, чтоб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лучились существительные 2 склон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714240" y="1714680"/>
          <a:ext cx="7667640" cy="4214520"/>
        </p:xfrm>
        <a:graphic>
          <a:graphicData uri="http://schemas.openxmlformats.org/drawingml/2006/table">
            <a:tbl>
              <a:tblPr/>
              <a:tblGrid>
                <a:gridCol w="1278000"/>
                <a:gridCol w="1278000"/>
                <a:gridCol w="1278000"/>
                <a:gridCol w="1278000"/>
                <a:gridCol w="1278000"/>
                <a:gridCol w="1277640"/>
              </a:tblGrid>
              <a:tr h="84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84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84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84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84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</a:tbl>
          </a:graphicData>
        </a:graphic>
      </p:graphicFrame>
      <p:sp>
        <p:nvSpPr>
          <p:cNvPr id="53" name="Прямоугольник 2"/>
          <p:cNvSpPr/>
          <p:nvPr/>
        </p:nvSpPr>
        <p:spPr>
          <a:xfrm>
            <a:off x="1810800" y="428760"/>
            <a:ext cx="616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  <a:ea typeface="Arial"/>
              </a:rPr>
              <a:t>Занимательные квадра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3"/>
          <p:cNvSpPr/>
          <p:nvPr/>
        </p:nvSpPr>
        <p:spPr>
          <a:xfrm>
            <a:off x="1953720" y="214200"/>
            <a:ext cx="616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  <a:ea typeface="Arial"/>
              </a:rPr>
              <a:t>Занимательные квадра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785880" y="2071800"/>
          <a:ext cx="7643880" cy="4286160"/>
        </p:xfrm>
        <a:graphic>
          <a:graphicData uri="http://schemas.openxmlformats.org/drawingml/2006/table">
            <a:tbl>
              <a:tblPr/>
              <a:tblGrid>
                <a:gridCol w="1272960"/>
                <a:gridCol w="1274760"/>
                <a:gridCol w="1273320"/>
                <a:gridCol w="1274760"/>
                <a:gridCol w="1274760"/>
                <a:gridCol w="1273320"/>
              </a:tblGrid>
              <a:tr h="71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71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71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71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71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71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</a:tbl>
          </a:graphicData>
        </a:graphic>
      </p:graphicFrame>
      <p:sp>
        <p:nvSpPr>
          <p:cNvPr id="56" name="Прямоугольник 5"/>
          <p:cNvSpPr/>
          <p:nvPr/>
        </p:nvSpPr>
        <p:spPr>
          <a:xfrm>
            <a:off x="857160" y="928800"/>
            <a:ext cx="750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аполните клетки буквами так, чтобы получились существительные 2 склон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3"/>
          <p:cNvSpPr/>
          <p:nvPr/>
        </p:nvSpPr>
        <p:spPr>
          <a:xfrm>
            <a:off x="1953720" y="214200"/>
            <a:ext cx="616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  <a:ea typeface="Arial"/>
              </a:rPr>
              <a:t>Занимательные квадра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42960" y="1143000"/>
          <a:ext cx="7929720" cy="5286240"/>
        </p:xfrm>
        <a:graphic>
          <a:graphicData uri="http://schemas.openxmlformats.org/drawingml/2006/table">
            <a:tbl>
              <a:tblPr/>
              <a:tblGrid>
                <a:gridCol w="1320840"/>
                <a:gridCol w="1322280"/>
                <a:gridCol w="1322280"/>
                <a:gridCol w="1320840"/>
                <a:gridCol w="1322640"/>
                <a:gridCol w="1320840"/>
              </a:tblGrid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ж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88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88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ж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3"/>
          <p:cNvSpPr/>
          <p:nvPr/>
        </p:nvSpPr>
        <p:spPr>
          <a:xfrm>
            <a:off x="1953720" y="214200"/>
            <a:ext cx="616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  <a:ea typeface="Arial"/>
              </a:rPr>
              <a:t>Занимательные квадра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453960" y="928800"/>
            <a:ext cx="819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ужно заполнить пустые клетки так, чтоб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лучились слова с мягким знаком в середи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00040" y="2286000"/>
          <a:ext cx="8215200" cy="3786120"/>
        </p:xfrm>
        <a:graphic>
          <a:graphicData uri="http://schemas.openxmlformats.org/drawingml/2006/table">
            <a:tbl>
              <a:tblPr/>
              <a:tblGrid>
                <a:gridCol w="1368360"/>
                <a:gridCol w="1370160"/>
                <a:gridCol w="1368360"/>
                <a:gridCol w="1370160"/>
                <a:gridCol w="1369800"/>
                <a:gridCol w="1368360"/>
              </a:tblGrid>
              <a:tr h="94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</a:tr>
              <a:tr h="94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</a:tr>
              <a:tr h="94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</a:tr>
              <a:tr h="94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3"/>
          <p:cNvSpPr/>
          <p:nvPr/>
        </p:nvSpPr>
        <p:spPr>
          <a:xfrm>
            <a:off x="1953720" y="214200"/>
            <a:ext cx="616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  <a:ea typeface="Arial"/>
              </a:rPr>
              <a:t>Занимательные квадра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453960" y="928800"/>
            <a:ext cx="804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ужно заполнить пустые клетки так, чтоб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лучились слова с мягким знаком в середи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571680" y="2214720"/>
          <a:ext cx="8001000" cy="3143160"/>
        </p:xfrm>
        <a:graphic>
          <a:graphicData uri="http://schemas.openxmlformats.org/drawingml/2006/table">
            <a:tbl>
              <a:tblPr/>
              <a:tblGrid>
                <a:gridCol w="1333440"/>
                <a:gridCol w="1333440"/>
                <a:gridCol w="1333440"/>
                <a:gridCol w="1333440"/>
                <a:gridCol w="1333440"/>
                <a:gridCol w="1333800"/>
              </a:tblGrid>
              <a:tr h="78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4T11:56:19Z</dcterms:created>
  <dc:creator>Admin</dc:creator>
  <dc:description/>
  <dc:language>en-US</dc:language>
  <cp:lastModifiedBy>Admin</cp:lastModifiedBy>
  <dcterms:modified xsi:type="dcterms:W3CDTF">2013-04-05T09:23:18Z</dcterms:modified>
  <cp:revision>9</cp:revision>
  <dc:subject/>
  <dc:title>Слайд 1</dc:title>
</cp:coreProperties>
</file>