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yMoon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yMoon-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SkyMoon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kyMoon-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28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199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28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199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уговорот воды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771640" y="4076640"/>
            <a:ext cx="334512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к 8 а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ОУ СОШ №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кевич Алек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огласно законам фи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Испарение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процесс превращения  жидкости в пар со свободной поверх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жидкости  при любой температуре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лекулы в жидкости непрерывно движу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ли какая-нибудь малекула подойдет к поверхности и сможет вылететь из жидкости, то над жидкостью образуется п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ы вылететь из жидкости малекуле нужно иметь энергию, достаточную для преодоления притяжения соседних малекул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Жидкость при испарении охлаждается, так как внутренняя энергия уменьш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Испарение зависит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 влажности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)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 вида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)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 площади свободной поверх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5)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 температуры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turnover"/>
          <p:cNvPicPr/>
          <p:nvPr/>
        </p:nvPicPr>
        <p:blipFill>
          <a:blip r:embed="rId1"/>
          <a:stretch/>
        </p:blipFill>
        <p:spPr>
          <a:xfrm>
            <a:off x="5076720" y="364500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5"/>
          <p:cNvSpPr/>
          <p:nvPr/>
        </p:nvSpPr>
        <p:spPr>
          <a:xfrm>
            <a:off x="324000" y="4221000"/>
            <a:ext cx="3024000" cy="2448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6516720" y="2637000"/>
            <a:ext cx="2233440" cy="1008000"/>
          </a:xfrm>
          <a:prstGeom prst="rect">
            <a:avLst/>
          </a:prstGeom>
          <a:solidFill>
            <a:srgbClr val="bbc2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0,8 ге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3419640" y="2421000"/>
            <a:ext cx="2089080" cy="1512720"/>
          </a:xfrm>
          <a:prstGeom prst="rect">
            <a:avLst/>
          </a:prstGeom>
          <a:solidFill>
            <a:srgbClr val="bbc2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50920" y="2349360"/>
            <a:ext cx="2160360" cy="1584360"/>
          </a:xfrm>
          <a:prstGeom prst="rect">
            <a:avLst/>
          </a:prstGeom>
          <a:solidFill>
            <a:srgbClr val="bbc2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ад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,0 ге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61563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Годовое поступление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ес пресных озер и рек    - 0,25 геограмма (1геограмм=1020 г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ес годового стока - 0,2 ге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емя оборота составляет окол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3564000" y="4149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3567240" y="2565360"/>
            <a:ext cx="174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т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0,2 ге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2556000" y="3068640"/>
            <a:ext cx="64764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5796000" y="2781360"/>
            <a:ext cx="5047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5796000" y="3141720"/>
            <a:ext cx="5047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395280" y="438480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Увеличение стока в результате деятельности человека может уменьшить очень важный для круговорота фонд грунтовых в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6372360" y="4724280"/>
            <a:ext cx="2771640" cy="158436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6478560" y="479736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величина годового поступления воды в подпочвенные водоносные горизон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V="1">
            <a:off x="7885080" y="3789360"/>
            <a:ext cx="0" cy="792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4" descr="Рисунок7"/>
          <p:cNvPicPr/>
          <p:nvPr/>
        </p:nvPicPr>
        <p:blipFill>
          <a:blip r:embed="rId1"/>
          <a:stretch/>
        </p:blipFill>
        <p:spPr>
          <a:xfrm>
            <a:off x="3635280" y="4221000"/>
            <a:ext cx="2521080" cy="231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2" descr="E:\эксперимент\вода\сайт про воду\сайт про воду\Новая страница 3.files\s4.jpg"/>
          <p:cNvPicPr/>
          <p:nvPr/>
        </p:nvPicPr>
        <p:blipFill>
          <a:blip r:embed="rId1"/>
          <a:stretch/>
        </p:blipFill>
        <p:spPr>
          <a:xfrm>
            <a:off x="2627280" y="1341360"/>
            <a:ext cx="3600360" cy="273528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2"/>
          <p:cNvSpPr/>
          <p:nvPr/>
        </p:nvSpPr>
        <p:spPr>
          <a:xfrm>
            <a:off x="6227640" y="0"/>
            <a:ext cx="2556000" cy="23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Ход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изменился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>
            <a:off x="6588000" y="2492280"/>
            <a:ext cx="2556000" cy="2376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Мен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ста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кисл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5508720" y="4481640"/>
            <a:ext cx="2555640" cy="23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Исчез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ст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2556000" y="4221000"/>
            <a:ext cx="2555640" cy="2376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Исся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одзем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0" y="3357720"/>
            <a:ext cx="2556000" cy="23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ересох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0" y="765000"/>
            <a:ext cx="2556000" cy="2376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рекрат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дож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едставим, что круговорот вод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сч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>
            <a:off x="324000" y="2492280"/>
            <a:ext cx="360360" cy="1224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>
            <a:off x="1763640" y="5445000"/>
            <a:ext cx="792360" cy="144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4788000" y="580536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0"/>
          <p:cNvSpPr/>
          <p:nvPr/>
        </p:nvSpPr>
        <p:spPr>
          <a:xfrm flipV="1">
            <a:off x="8101080" y="4508640"/>
            <a:ext cx="287280" cy="1225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2"/>
          <p:cNvSpPr/>
          <p:nvPr/>
        </p:nvSpPr>
        <p:spPr>
          <a:xfrm flipH="1" flipV="1">
            <a:off x="7524720" y="1989000"/>
            <a:ext cx="287280" cy="719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4"/>
          <p:cNvSpPr/>
          <p:nvPr/>
        </p:nvSpPr>
        <p:spPr>
          <a:xfrm>
            <a:off x="2843280" y="1197000"/>
            <a:ext cx="3024000" cy="3168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5"/>
          <p:cNvSpPr/>
          <p:nvPr/>
        </p:nvSpPr>
        <p:spPr>
          <a:xfrm flipH="1">
            <a:off x="3059280" y="1197000"/>
            <a:ext cx="2520720" cy="3168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50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000"/>
                            </p:stCondLst>
                            <p:childTnLst>
                              <p:par>
                                <p:cTn id="6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000"/>
                            </p:stCondLst>
                            <p:childTnLst>
                              <p:par>
                                <p:cTn id="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8500"/>
                            </p:stCondLst>
                            <p:childTnLst>
                              <p:par>
                                <p:cTn id="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чение кругово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ение круговорота воды велико, так как он не только объединяет части гидросферы, но и связывает между собой все оболочки Земли: атмосферу, гидросферу, литосферу и биосферу. Вода во время круговорота может быть в трех состояниях: жидком, твердом, газообразном. Она переносит огромное количество веществ, необходимых для жизни на Зем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. Скорость испарения зависит от нескольких прич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т рода 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т её темп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т внешних воздействий на жидкость (ветер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т площади поверхности 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Увеличение стока в результате деятельности человека может уменьшить очень важный для круговорота фонд грунтовых 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 Круговорот веществ полностью подвластен законам физ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. Круговорот веществ лежит в основе многих процессов, происходящих в природ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BD18185_"/>
          <p:cNvPicPr/>
          <p:nvPr/>
        </p:nvPicPr>
        <p:blipFill>
          <a:blip r:embed="rId1"/>
          <a:stretch/>
        </p:blipFill>
        <p:spPr>
          <a:xfrm>
            <a:off x="7020000" y="404640"/>
            <a:ext cx="1798560" cy="153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Рисунок9"/>
          <p:cNvPicPr/>
          <p:nvPr/>
        </p:nvPicPr>
        <p:blipFill>
          <a:blip r:embed="rId2"/>
          <a:stretch/>
        </p:blipFill>
        <p:spPr>
          <a:xfrm>
            <a:off x="684360" y="4508640"/>
            <a:ext cx="2808000" cy="217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Рисунок10"/>
          <p:cNvPicPr/>
          <p:nvPr/>
        </p:nvPicPr>
        <p:blipFill>
          <a:blip r:embed="rId3"/>
          <a:stretch/>
        </p:blipFill>
        <p:spPr>
          <a:xfrm>
            <a:off x="5364000" y="4292640"/>
            <a:ext cx="3095640" cy="246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SkyMoon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9"/>
          <p:cNvSpPr txBox="1"/>
          <p:nvPr/>
        </p:nvSpPr>
        <p:spPr>
          <a:xfrm>
            <a:off x="468360" y="2349360"/>
            <a:ext cx="64152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SkyMoon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2124000" y="3284640"/>
          <a:ext cx="6131160" cy="2665440"/>
        </p:xfrm>
        <a:graphic>
          <a:graphicData uri="http://schemas.openxmlformats.org/drawingml/2006/table">
            <a:tbl>
              <a:tblPr/>
              <a:tblGrid>
                <a:gridCol w="2227320"/>
                <a:gridCol w="1844640"/>
                <a:gridCol w="2059200"/>
              </a:tblGrid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дк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ообразн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ед,сн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317" name="Rectangle 2"/>
          <p:cNvSpPr/>
          <p:nvPr/>
        </p:nvSpPr>
        <p:spPr>
          <a:xfrm>
            <a:off x="914400" y="6922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Три состояния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9"/>
          <p:cNvSpPr/>
          <p:nvPr/>
        </p:nvSpPr>
        <p:spPr>
          <a:xfrm>
            <a:off x="2987640" y="1628640"/>
            <a:ext cx="504720" cy="1440000"/>
          </a:xfrm>
          <a:prstGeom prst="downArrow">
            <a:avLst>
              <a:gd name="adj1" fmla="val 50000"/>
              <a:gd name="adj2" fmla="val 71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0"/>
          <p:cNvSpPr/>
          <p:nvPr/>
        </p:nvSpPr>
        <p:spPr>
          <a:xfrm>
            <a:off x="4859280" y="1628640"/>
            <a:ext cx="504720" cy="1441440"/>
          </a:xfrm>
          <a:prstGeom prst="downArrow">
            <a:avLst>
              <a:gd name="adj1" fmla="val 50000"/>
              <a:gd name="adj2" fmla="val 71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1"/>
          <p:cNvSpPr/>
          <p:nvPr/>
        </p:nvSpPr>
        <p:spPr>
          <a:xfrm>
            <a:off x="6732720" y="1628640"/>
            <a:ext cx="504720" cy="1440000"/>
          </a:xfrm>
          <a:prstGeom prst="downArrow">
            <a:avLst>
              <a:gd name="adj1" fmla="val 50000"/>
              <a:gd name="adj2" fmla="val 71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а, снег, лед, п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а — весьма распространенное на Земле вещество. Почти 3/4 поверхности земного шара покрыты водой, образующей океаны, моря, реки и озера. Много воды находится в газообразном состоянии в виде паров в атмосфере; в виде огромных масс снега и льда лежит она круглый год на вершинах высоких гор и в полярных странах. В недрах земли также находится вода, пропитывающая почву и горные по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191579600085ebccac64074c0f439f73b9803c84cd"/>
          <p:cNvPicPr/>
          <p:nvPr/>
        </p:nvPicPr>
        <p:blipFill>
          <a:blip r:embed="rId1"/>
          <a:stretch/>
        </p:blipFill>
        <p:spPr>
          <a:xfrm>
            <a:off x="0" y="-228600"/>
            <a:ext cx="9540720" cy="7442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0_3e51_361ed0a3_XL"/>
          <p:cNvPicPr/>
          <p:nvPr/>
        </p:nvPicPr>
        <p:blipFill>
          <a:blip r:embed="rId2"/>
          <a:stretch/>
        </p:blipFill>
        <p:spPr>
          <a:xfrm>
            <a:off x="-252360" y="-171360"/>
            <a:ext cx="10153440" cy="7383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04-15"/>
          <p:cNvPicPr/>
          <p:nvPr/>
        </p:nvPicPr>
        <p:blipFill>
          <a:blip r:embed="rId3"/>
          <a:stretch/>
        </p:blipFill>
        <p:spPr>
          <a:xfrm>
            <a:off x="-468360" y="-243000"/>
            <a:ext cx="9936360" cy="745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7"/>
          <p:cNvSpPr/>
          <p:nvPr/>
        </p:nvSpPr>
        <p:spPr>
          <a:xfrm>
            <a:off x="817920" y="1700280"/>
            <a:ext cx="71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но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прибор, измеряющий давление жидкости или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http://images.tiu.ru/5382283_w640_h640_959.gif.jpg"/>
          <p:cNvPicPr/>
          <p:nvPr/>
        </p:nvPicPr>
        <p:blipFill>
          <a:blip r:embed="rId1"/>
          <a:stretch/>
        </p:blipFill>
        <p:spPr>
          <a:xfrm>
            <a:off x="1763640" y="2349360"/>
            <a:ext cx="4824360" cy="3949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кругово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спарение с поверхности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хлаждение пара и конденс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разование обл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емещение облаков на с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падение оса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полнение рек и подземных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ток в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уговорот воды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water_cycle_720"/>
          <p:cNvPicPr/>
          <p:nvPr/>
        </p:nvPicPr>
        <p:blipFill>
          <a:blip r:embed="rId1"/>
          <a:stretch/>
        </p:blipFill>
        <p:spPr>
          <a:xfrm>
            <a:off x="179280" y="1557360"/>
            <a:ext cx="8712360" cy="435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c3add1"/>
          <p:cNvPicPr/>
          <p:nvPr/>
        </p:nvPicPr>
        <p:blipFill>
          <a:blip r:embed="rId2"/>
          <a:stretch/>
        </p:blipFill>
        <p:spPr>
          <a:xfrm>
            <a:off x="-181080" y="23760"/>
            <a:ext cx="9325080" cy="6834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SkyMoon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с превращения  жидкости в пар при любой темп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ение завис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т влажности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ида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т площади свободно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температуры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денс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ция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ение превращения пара в жид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роисходит в воздухе, насыщенном паром, при понижении температуры или изменения д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ы, над водой и земной поверхностью, на предметах и раст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конденсации образов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, облака, р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ция-это процесс обратный испар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WATER_CYCLE_ILLUSTRATION_(WEB)"/>
          <p:cNvPicPr/>
          <p:nvPr/>
        </p:nvPicPr>
        <p:blipFill>
          <a:blip r:embed="rId1"/>
          <a:stretch/>
        </p:blipFill>
        <p:spPr>
          <a:xfrm>
            <a:off x="0" y="0"/>
            <a:ext cx="9685440" cy="687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Согласно законам физ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онденс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atio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лотнение, сгущ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явление превращения пара в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результате конденсации происходит тум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лака, роса. Конденсация-это процес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ратный испар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BD18185_"/>
          <p:cNvPicPr/>
          <p:nvPr/>
        </p:nvPicPr>
        <p:blipFill>
          <a:blip r:embed="rId1"/>
          <a:stretch/>
        </p:blipFill>
        <p:spPr>
          <a:xfrm rot="10800000">
            <a:off x="6300720" y="2060640"/>
            <a:ext cx="2664000" cy="1843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Рисунок5"/>
          <p:cNvPicPr/>
          <p:nvPr/>
        </p:nvPicPr>
        <p:blipFill>
          <a:blip r:embed="rId2"/>
          <a:stretch/>
        </p:blipFill>
        <p:spPr>
          <a:xfrm>
            <a:off x="468360" y="4292640"/>
            <a:ext cx="3311640" cy="2217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Рисунок6"/>
          <p:cNvPicPr/>
          <p:nvPr/>
        </p:nvPicPr>
        <p:blipFill>
          <a:blip r:embed="rId3"/>
          <a:stretch/>
        </p:blipFill>
        <p:spPr>
          <a:xfrm>
            <a:off x="5292720" y="4292640"/>
            <a:ext cx="3311640" cy="2225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8:18:36Z</dcterms:created>
  <dc:creator>1</dc:creator>
  <dc:description/>
  <dc:language>en-US</dc:language>
  <cp:lastModifiedBy>Педагог</cp:lastModifiedBy>
  <dcterms:modified xsi:type="dcterms:W3CDTF">2013-04-06T08:28:16Z</dcterms:modified>
  <cp:revision>6</cp:revision>
  <dc:subject/>
  <dc:title>Круговорот воды в природе</dc:title>
</cp:coreProperties>
</file>