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A89E-33F3-405F-BC24-AE6E9BD0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F019-DED5-4812-A794-63D76E71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173F-2113-4443-BCD9-95B859CC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902D-43B3-46EB-878F-4BAAA1C9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0078-796E-437E-BE99-C94B97FC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3807-DE57-4472-871A-770EC085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65EE-345D-4B21-A448-705B39F0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25FF-B2AE-4834-8936-DD0E4E2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31EC-0F7C-4341-A8A5-197E8EDB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3612-017E-4216-9445-EBFC2099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C9C8-8249-4990-89BD-7C26339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27FA-6A08-4408-9BEE-35582C55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4A26-C5AA-4968-B912-8822179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0E8F-167F-4DC9-B3AF-734E5B00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8A56-D96C-4A2A-99FC-D12C5C36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C0AD-58DC-410D-949A-4CB5E1C3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5950-26C1-4F55-B99A-981A716B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17BB-F6C8-4706-90D8-AC993E1E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8218-8FA7-4F97-833D-3A4228A0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3670-EFEF-447A-832C-E4EA2559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DF4D-1A65-474F-BCBE-44F9EEB3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7C11-2A50-44B2-9A10-521F99F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3B70-5609-4B20-84D3-900D7B7E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8FB7-F48B-4875-9451-3AB41612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BCD3-C4E4-498B-B500-53487A5D6E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ABC8-6C79-4102-8E3C-5C904B0840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13762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Словарь по теме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«Органы дыхания»</a:t>
            </a: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42400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СОШ № 6, Хабаровский край,п.Чегдомы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Лобачева Е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Еремеева Ольга Ива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618920" y="620280"/>
            <a:ext cx="7010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Нос 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орган дыхания и осязания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1979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618920" y="620280"/>
            <a:ext cx="7010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Трахея 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Важная труб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Без нее дышать нельз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20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58560" y="620640"/>
            <a:ext cx="7443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петь, свистеть, шепт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ОРТАН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ащищ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сложный «инструмент музыкальный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ворильный и кричальны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45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92000" y="620640"/>
            <a:ext cx="7010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Легки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заменим нич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их происходит газообм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истые легкие – нам награ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речь их над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24836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692000" y="549360"/>
            <a:ext cx="7010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Без КИСЛОРОДА ,  нам друзь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Прожить никак нельз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32000" y="2924280"/>
            <a:ext cx="3167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5:15:31Z</dcterms:created>
  <dc:creator>JIM</dc:creator>
  <dc:description/>
  <dc:language>en-US</dc:language>
  <cp:lastModifiedBy>Admin</cp:lastModifiedBy>
  <dcterms:modified xsi:type="dcterms:W3CDTF">2013-04-06T10:56:22Z</dcterms:modified>
  <cp:revision>12</cp:revision>
  <dc:subject/>
  <dc:title>Словарь по теме  «Органы дыхания»</dc:title>
</cp:coreProperties>
</file>