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604C-DFCA-44E9-84D9-A5215318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C009-59CA-47E7-A0F3-AACD808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C617-9860-4E27-BC14-F1EC562A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3152E-AE72-4166-8F45-7E59BB9A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72C-A4C3-4CE3-B123-261701F2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EB51-B796-4712-B272-1B7FBF17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E005-4DE1-4FED-AB00-CC76A0A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C194-FC62-408F-8F78-D532B70C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26E4-499D-443A-8EE1-D43F17ED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FD9A-A055-403B-99A3-6F577F26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4FA-1DE7-416C-BC33-A1E82D8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AA725-CD52-4E86-B50D-A95D8E2C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9D20-2D10-4B7A-9300-898135C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CD3D-AD96-4CA6-B30A-3EA5A11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AB79-04EB-4A7D-93D4-ABFA4432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6725-4BDF-4A29-98D5-8ECAD53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344C-2B4A-459D-A71B-0A2FE990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E826F-DCA3-4411-B7E8-55620BF6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A3578-B455-4FDE-ADC5-B9649D15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B2F4-9544-4446-970C-8A2D1575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CB98-81B3-4B00-9934-7C2465A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77DB-3C89-4F2A-AB6E-003B288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B239-932D-4CBC-B210-2F96E00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B329-7C65-4D32-BFF9-04853C61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FB7-7CB4-47E3-A1C9-E442E0B275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EE4C-8E4A-472B-9456-012B70B83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13762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Словарь по теме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 «Органы дыхания»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424008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СОШ № 6, Хабаровский край,п.Чегдомы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 Лобачева Е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Еремеева Ольг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618920" y="62028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Нос -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орган дыхания и осязания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3789360"/>
            <a:ext cx="1979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18920" y="620280"/>
            <a:ext cx="7010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Трахея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Важная труб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Без нее дышать нельз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209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258560" y="620640"/>
            <a:ext cx="74437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петь, свистеть, шепта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ГОРТАН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ащищ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ложный «инструмент музыкальный»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ворильный и кричальный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692000" y="620640"/>
            <a:ext cx="70102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Легкие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заменим нич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их происходит газооб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истые легкие – нам награ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речь их над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424836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92000" y="549360"/>
            <a:ext cx="7010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Без КИСЛОРОДА ,  нам друзья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Прожить никак нельз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3167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5:15:31Z</dcterms:created>
  <dc:creator>JIM</dc:creator>
  <dc:description/>
  <dc:language>en-US</dc:language>
  <cp:lastModifiedBy>Admin</cp:lastModifiedBy>
  <dcterms:modified xsi:type="dcterms:W3CDTF">2013-04-06T10:56:22Z</dcterms:modified>
  <cp:revision>12</cp:revision>
  <dc:subject/>
  <dc:title>Словарь по теме  «Органы дыхания»</dc:title>
</cp:coreProperties>
</file>